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BD-2F39-4B1E-A6E6-BBD5B39C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2EF-4041-4C0D-ACA0-2183E807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E58-9F42-4D02-92A9-46B3D13E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43D-1B6B-4B18-BE34-CA39FF28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4F55-AA5E-4D77-AEE7-106F9AB4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A16A-FDFA-4DC6-B0A8-0F89045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4FC6-09B4-4D95-96E1-22A42C3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5D1-51F3-4991-B5A3-F1A93A4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C9C-2488-4AA1-904E-92D615C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2B53-B2BF-4C2A-842F-476ACAC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B06-2C99-4950-8A0E-7C39B61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AE0-AB9E-45B9-BAE0-1C6C6CA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2907-C577-4259-8620-2395F52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AF1-9B58-4C8F-A89E-B775E31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C6DA-614C-4BE3-A64A-D5F09FD2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28A-FE7B-442B-8BAF-EDC0488E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0EE-9BF6-4E26-9A0C-22FD8F3D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150-4567-420B-9127-A0C0BC78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FA9-7531-410F-A70F-A8EB903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018-3944-4766-9EDB-92C512CC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941-0DB7-4B04-B8F7-6D70C46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9E4-1423-48C0-A6F8-4428659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8B4-B320-4B9F-ACBB-F62C602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6AB-4D0D-4D3D-8565-5411C09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0E0E-79F7-410A-A7AE-96CBE8C102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A25-FADA-44C5-BA30-34516875C470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ФІНАНСОВИЙ МЕНЕДЖМЕН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 Форми та обсяги фінансової діяльності медичного закладу залежать від його організаційно-правової форми діяльності, форми власності на майно та рівня і напряму спеціалізації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  Операції, пов'язані з фінансовою діяльністю, створюють специфічні види ризиків, що об'єднуються поняття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ий ризи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 Фінансова діяльність забезпечує стабільність розвитку медичного закл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 Фінансовий стан на кожному етапі розвитку медичного закладу є основним показником успішності його господарської діяль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Завдання фінансового менеджмент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ономічне обґрунтування прийнятих рішень для забезпечення народногосподарської ефективності лікувально-профілактич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изначення витрат, пов'язаних з наданням медичних послуг у поліклініці та стаціонарі і розрахунок економічної ефективності профілактичних та лікуваль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 Розробка ефективної системи оплати праці медичних працівників з урахуванням обсягу виконаної роботи та її кінцевих результат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4.  Забезпечення формування достатнього об'єму фінансових ресурсів відповідно до плану розвитку системи охорони здоров'я та підвищення якості медичної допомоги населенню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5.  Забезпечення найефективнішого використання фінансових ресурсів з позицій народногосподарської ефективності з урахуванням медичних, соціальних та економічних аспектів по основним напрямам діяльності та структурним підрозділам медичного закладу згідно з визначеними пріоритетами надання медичної допомог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 Оптимізація грошового обігу та підтримання постійної платоспроможності і фінансової стабільності медичного закл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 Мінімізація фінансового ризику як по окремим фінансовим операціям, так і по медичному закладу в ціл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8.  Забезпечення прибутковості госпрозрахункової діяльності як при наданні платних медичних послуг, так й інших видах підприємниц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своїй повсякденній роботі керівники медичних установ значну частину свого робочого часу присвячують фінансовим питанням. З цієї лекції можна дізнатися, як ефективно організувати фінансово-економічну службу у медичному закладі, а також — як правильно розрахувати вартість медичної по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Організація фінансово-економічної служби медичного закла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Ціноутворення в умовах ринкової економі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а система медичних заклад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сукупність фінансових коштів та система внутрішніх і зовнішніх економічних відносин, пов'язаних з формуванням, розподілом та використанням грошей та інших активів у процесі господарської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Фінанси медичного закладу виконують такі </a:t>
            </a:r>
            <a:r>
              <a:rPr b="1" lang="uk-UA" sz="4000" spc="-1" strike="noStrike">
                <a:solidFill>
                  <a:srgbClr val="420000"/>
                </a:solidFill>
                <a:latin typeface="Times New Roman"/>
              </a:rPr>
              <a:t>основні функції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сурсозабезпечую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систематичному формуванні фінансових ресурсів у необхідному обсязі з різних альтернативних джерел фінансування для забезпечення поточної господарської діяльності медичного закладу і реалізації стратегічних цілей розвитку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Розподіль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розподілі загальної суми фінансових ресурсів у розрізі окремих цільових фондів, що забезпечують фінансування окремих напрямів медичної допомоги та окремих програм розвитку охорони здоров'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 Контрольн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ункція контролю полягає в забезпеченні виконання фінансових планів, цільового та ефективного використання фінансових ресурсів для виконання прийнятих рішен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20000"/>
                </a:solidFill>
                <a:latin typeface="Times New Roman"/>
              </a:rPr>
              <a:t>У процесі своєї діяльності медичний заклад вступає як у зовнішні, так і внутрішні фінансові відносини.</a:t>
            </a: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з органом вищого рівня управління (обласними та міськими управліннями охорони здоров'я), з бюджетами всіх рівнів та позабюджетними фондами, податковою адміністрацією, інфраструктурою товарного та фінансового ринків (постачальниками ліків, медичного обладнання, банками, страховими компаніями), іншими лікувальними устано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між окремими структурними підрозділами, персоналом, власниками (засновниками) лікувально-профілактичної установи тощ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ий менедж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це процес управління формуванням, розподілом та використанням фінансових ресурсів, оптимізація обігу грошових коштів для досягнення цілей, що стоять перед медичним закла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е завдання фінансового менеджмент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ефективне управління фінансами та фінансовими відноси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Фінансова діяльність медичного закладу </a:t>
            </a:r>
            <a:r>
              <a:rPr b="0" lang="uk-UA" sz="3200" spc="-1" strike="noStrike">
                <a:solidFill>
                  <a:srgbClr val="420000"/>
                </a:solidFill>
                <a:latin typeface="Times New Roman"/>
              </a:rPr>
              <a:t>має такі </a:t>
            </a: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характеристик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Фінансова діяльність є головною формою ресурсного забезпечення економічного розвитку та поточної діяльності медичного закладу. Майже всі завдання з розширення та вдосконалення медичної допомоги населенню потребують фінансових ресурс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2. Фінансова діяльність медичного закладу має підпорядкований характер відносно мети та завдань, що стоять перед медичним заклад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Операції, пов'язані з фінансовою діяльністю, здійснюються регулярно і мають систематичний характер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48:36Z</dcterms:created>
  <dc:creator>Customer</dc:creator>
  <dc:description/>
  <dc:language>en-US</dc:language>
  <cp:lastModifiedBy>Ljuba</cp:lastModifiedBy>
  <dcterms:modified xsi:type="dcterms:W3CDTF">2014-10-07T08:33:53Z</dcterms:modified>
  <cp:revision>14</cp:revision>
  <dc:subject/>
  <dc:title>ФІНАНСОВИЙ МЕНЕДЖМЕНТ</dc:title>
</cp:coreProperties>
</file>