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81F5-F60B-4F4D-8ECC-88B24237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9634-7DFA-4392-85E4-202EAB46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CA14-C741-400D-9773-2F26314B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F9C-B089-45C5-A0D9-2700262B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F266-E9A1-443C-A575-43656995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6AB4-5B01-451B-BAD5-47A075B6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629E-7B42-427C-8CEE-18FFD157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792D-5984-48E9-BA54-447EF628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7DD9-02B3-4A09-8697-B5513ED8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CD60-F6B9-4045-B1EC-09EDD396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5E0E-EE4C-4CAD-9D34-801EAAC3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BE71-B8D8-4B3A-99A3-DA97B660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F718-339C-4867-A202-6664C97F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A987-00CB-47C2-9978-3D8FD3BD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FEDB-D4C2-4D4A-993B-58441D4D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1ECC-8816-4CA3-9F92-4CD98690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6FA5-09A6-4A72-B49B-112B9D9C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71D-147F-4D6D-865A-DC14AE2B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214-51F9-4131-AF02-124A51FA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1EB2-B0C0-40A0-821B-9FE65B4F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C83-5D8F-4527-AAB0-49CAEE82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5F1-30D8-4805-B920-307ABB91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2A9-0E6F-4AE2-93A6-4388EF90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8DF1-A258-4D7A-B190-B4B02532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B3FC-30AA-4555-B92B-22FF77458E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621E-DE4F-4C2F-8A60-8AEBC71BCA1F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420000"/>
                </a:solidFill>
                <a:latin typeface="Times New Roman"/>
              </a:rPr>
              <a:t>ФІНАНСОВИЙ МЕНЕДЖМЕНТ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продовженн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4.  Форми та обсяги фінансової діяльності медичного закладу залежать від його організаційно-правової форми діяльності, форми власності на майно та рівня і напряму спеціалізації медичної допомо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5.   Операції, пов'язані з фінансовою діяльністю, створюють специфічні види ризиків, що об'єднуються поняття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фінансовий ризи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6.  Фінансова діяльність забезпечує стабільність розвитку медичного заклад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7.  Фінансовий стан на кожному етапі розвитку медичного закладу є основним показником успішності його господарської діяльност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20000"/>
                </a:solidFill>
                <a:latin typeface="Times New Roman"/>
              </a:rPr>
              <a:t>Завдання фінансового менеджменту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Економічне обґрунтування прийнятих рішень для забезпечення народногосподарської ефективності лікувально-профілактичних заходів в охороні здоров'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. Визначення витрат, пов'язаних з наданням медичних послуг у поліклініці та стаціонарі і розрахунок економічної ефективності профілактичних та лікувальних заходів в охороні здоров'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продовженн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3.  Розробка ефективної системи оплати праці медичних працівників з урахуванням обсягу виконаної роботи та її кінцевих результаті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4.  Забезпечення формування достатнього об'єму фінансових ресурсів відповідно до плану розвитку системи охорони здоров'я та підвищення якості медичної допомоги населенню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5.  Забезпечення найефективнішого використання фінансових ресурсів з позицій народногосподарської ефективності з урахуванням медичних, соціальних та економічних аспектів по основним напрямам діяльності та структурним підрозділам медичного закладу згідно з визначеними пріоритетами надання медичної допомоги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продовженн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6.  Оптимізація грошового обігу та підтримання постійної платоспроможності і фінансової стабільності медичного закла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7.  Мінімізація фінансового ризику як по окремим фінансовим операціям, так і по медичному закладу в ціл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8.  Забезпечення прибутковості госпрозрахункової діяльності як при наданні платних медичних послуг, так й інших видах підприємниц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У своїй повсякденній роботі керівники медичних установ значну частину свого робочого часу присвячують фінансовим питанням. З цієї лекції можна дізнатися, як ефективно організувати фінансово-економічну службу у медичному закладі, а також — як правильно розрахувати вартість медичної послу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20000"/>
                </a:solidFill>
                <a:latin typeface="Times New Roman"/>
              </a:rPr>
              <a:t>План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1. Організація фінансово-економічної служби медичного заклад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2. Ціноутворення в умовах ринкової економі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Фінансова система медичних закладів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це сукупність фінансових коштів та система внутрішніх і зовнішніх економічних відносин, пов'язаних з формуванням, розподілом та використанням грошей та інших активів у процесі господарської діяльності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20000"/>
                </a:solidFill>
                <a:latin typeface="Times New Roman"/>
              </a:rPr>
              <a:t>Фінанси медичного закладу виконують такі </a:t>
            </a:r>
            <a:r>
              <a:rPr b="1" lang="uk-UA" sz="4000" spc="-1" strike="noStrike">
                <a:solidFill>
                  <a:srgbClr val="420000"/>
                </a:solidFill>
                <a:latin typeface="Times New Roman"/>
              </a:rPr>
              <a:t>основні функції: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есурсозабезпечуючу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Ця функція полягає в систематичному формуванні фінансових ресурсів у необхідному обсязі з різних альтернативних джерел фінансування для забезпечення поточної господарської діяльності медичного закладу і реалізації стратегічних цілей розвитку медичної допомо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Розподільчу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Ця функція полягає в розподілі загальної суми фінансових ресурсів у розрізі окремих цільових фондів, що забезпечують фінансування окремих напрямів медичної допомоги та окремих програм розвитку охорони здоров'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продовженн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3.  Контрольну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Функція контролю полягає в забезпеченні виконання фінансових планів, цільового та ефективного використання фінансових ресурсів для виконання прийнятих рішень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20000"/>
                </a:solidFill>
                <a:latin typeface="Times New Roman"/>
              </a:rPr>
              <a:t>У процесі своєї діяльності медичний заклад вступає як у зовнішні, так і внутрішні фінансові відносини.</a:t>
            </a:r>
            <a:r>
              <a:rPr b="0" lang="uk-UA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овнішні фінансові відносин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— зв'язки з органом вищого рівня управління (обласними та міськими управліннями охорони здоров'я), з бюджетами всіх рівнів та позабюджетними фондами, податковою адміністрацією, інфраструктурою товарного та фінансового ринків (постачальниками ліків, медичного обладнання, банками, страховими компаніями), іншими лікувальними установ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нутрішні фінансові відносин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— зв'язки між окремими структурними підрозділами, персоналом, власниками (засновниками) лікувально-профілактичної установи тощ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Фінансовий менеджмент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— це процес управління формуванням, розподілом та використанням фінансових ресурсів, оптимізація обігу грошових коштів для досягнення цілей, що стоять перед медичним закла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сновне завдання фінансового менеджменту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— ефективне управління фінансами та фінансовими відносин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0000"/>
                </a:solidFill>
                <a:latin typeface="Times New Roman"/>
              </a:rPr>
              <a:t>Фінансова діяльність медичного закладу </a:t>
            </a:r>
            <a:r>
              <a:rPr b="0" lang="uk-UA" sz="3200" spc="-1" strike="noStrike">
                <a:solidFill>
                  <a:srgbClr val="420000"/>
                </a:solidFill>
                <a:latin typeface="Times New Roman"/>
              </a:rPr>
              <a:t>має такі </a:t>
            </a:r>
            <a:r>
              <a:rPr b="1" lang="uk-UA" sz="3200" spc="-1" strike="noStrike">
                <a:solidFill>
                  <a:srgbClr val="420000"/>
                </a:solidFill>
                <a:latin typeface="Times New Roman"/>
              </a:rPr>
              <a:t>характеристики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uk-UA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Фінансова діяльність є головною формою ресурсного забезпечення економічного розвитку та поточної діяльності медичного закладу. Майже всі завдання з розширення та вдосконалення медичної допомоги населенню потребують фінансових ресурсі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2. Фінансова діяльність медичного закладу має підпорядкований характер відносно мети та завдань, що стоять перед медичним закладом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3. Операції, пов'язані з фінансовою діяльністю, здійснюються регулярно і мають систематичний характер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07:48:36Z</dcterms:created>
  <dc:creator>Customer</dc:creator>
  <dc:description/>
  <dc:language>en-US</dc:language>
  <cp:lastModifiedBy>Ljuba</cp:lastModifiedBy>
  <dcterms:modified xsi:type="dcterms:W3CDTF">2014-10-07T08:33:53Z</dcterms:modified>
  <cp:revision>14</cp:revision>
  <dc:subject/>
  <dc:title>ФІНАНСОВИЙ МЕНЕДЖМЕНТ</dc:title>
</cp:coreProperties>
</file>