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2DFF-A0C7-405E-8477-D4F99342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34A-D441-46F1-9C7D-DAD27523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487-91DF-4F6C-8CEA-8E5EEB8F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960-B79C-4F8B-A461-054F6950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C177-4F40-4A01-9BB7-0D07CB8F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F7CB-B8DF-4CE6-BD46-EC2EAA6D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99B0-C025-4F2C-86A0-F876F7F2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5095-6D58-4BCC-84BB-22AF93AD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5573-8C2B-4D81-AC96-EAEE012C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6101-99D3-410F-91D5-62250753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11EF-F1F1-4BFB-8920-8CAF7315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A3B-3CF4-44ED-B1D3-645A80A8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D053-B55F-4A65-8E2A-46A94039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86BB-477B-4D4E-B18D-AEDA5198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D954-807D-4334-A436-FBB55126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4845-A9C1-4373-807A-9D8D7870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1074-09F9-4204-AE7A-64D94952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7EF2-11C4-4ACC-A681-1C8CC26A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896-B786-447F-B427-4DA62EE0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E66-E1D3-449B-AE9C-0B142A58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740-D56C-4FAE-A887-B92DB75D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80E-80A8-40A6-AA0F-270950F3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075-F413-4129-8D23-FABC244D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090A-9AA6-4BA1-B4E5-9D488BAD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6F24-493C-41B9-B251-1EDF8A76F1F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5517-BD62-47DC-9099-15EF168BFA1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Фізичний розвиток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Times New Roman"/>
              </a:rPr>
              <a:t>Фізичний розвиток </a:t>
            </a:r>
            <a:r>
              <a:rPr b="0" lang="uk-UA" sz="3800" spc="-1" strike="noStrike">
                <a:solidFill>
                  <a:srgbClr val="000000"/>
                </a:solidFill>
                <a:latin typeface="Times New Roman"/>
              </a:rPr>
              <a:t>—</a:t>
            </a:r>
            <a:br>
              <a:rPr sz="3800"/>
            </a:br>
            <a:r>
              <a:rPr b="0" lang="uk-UA" sz="3800" spc="-1" strike="noStrike">
                <a:solidFill>
                  <a:srgbClr val="000000"/>
                </a:solidFill>
                <a:latin typeface="Times New Roman"/>
              </a:rPr>
              <a:t>комплекс морфологічних і функціональних параметрів організму, що визначають масу, форму тіла, структурно-механічні якості і фізичні сил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Фізичний розвито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Фізичний розвиток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є одним із найважливіших ознак, що характеризують рівень здоров'я населення. Однак показники фізичного розвитку не є обов'язковими для офіційного статистичного аналізу і не відображаються у звітності, що не дозволяє безупинно стежити за рівнем і динамікою фізичного розвитку окремих груп населення по всій країні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Фізичний розвито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На рівень фізичного розвитку впливає комплекс соціально-біологічних, медико-соціальних, організаційних, природно-кліматичних факторів. Існують розходження у фізичному розвитку населення, що проживає в різних економіко-географічних зонах, серед різних національностей. Під впливом довготривалої дії несприятливих факторів рівень фізичного розвитку знижуєть­ся. Поліпшення умов, нормалізація способу життя сприяють підвищенню рівня фізичного розвит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Times New Roman"/>
              </a:rPr>
              <a:t>Основними ознаками фізичного розвитку є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Антропометричні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— такі ознаки, що засновані на зміні розмірів тіла, скелета людини. Вони ж, в свою чергу, поділяються н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соматометричні — розміри тіла і його частин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остеометричні — розміри кістяка і його частин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краніометричні — розміри череп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продовже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Антропоскопічні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— такі ознаки, що засновані на описі тіла в цілому й окремих його частин. До антропоскопічних ознак відносятьс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розвиток жирового шару, мускулатур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форма грудної клітини, спини, живота, ніг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ігментаці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волосяний покри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вторинні статеві ознаки тощ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продовже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Фізіометричні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— такі ознаки, що визначають фізіологічний стан, функціональні можливості організму. Зазвичай вони виміряються за допомогою спеціальних приладів. Зокрема, до таких ознак відносятьс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життєва ємність легень (вимірюється за допомогою спірометра) 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м'язова сила кистей рук (вимірюється за допомогою динамометра) тощ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продовже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Оцінка фізичного розвитку має важливе значення для багатьох напрямів медицини. Показники фізичного розвитку використовуються для виявлення антропометричних маркерів (ознак) ризику ряду захворювань і патологічних станів. Антропометричні показники використовуються для контролю фізичного розвитку дітей і оцінки ефективності проведених оздоровчих заходів. Вони необхідні для визначення режиму життя і фізичного навантаження дитини. У статистиці антропометричні показники є найважливішими критеріями для визначення таких понять, як «живонароджуваність», «мертвонароджуваність», «недоношеність», «маса тіла при народженні»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продовже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Фізичний розвиток має важливе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медико-соціальне значення.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Рівень фізичного розвитку населення багато в чому говорить про соціальне благополуччя в суспільстві. Порушення фізичного розвитку можуть свідчити про несприятливі умови і спосіб життя дитини і повинні слугувати одним із критеріїв для визначення рівня соціального ризику родини, визначення соціального неблагополуччя родин, що вимагає заходів медико-соціального вплив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3:3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