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281-2629-4FD0-B4BD-87D2EE5B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776-7679-4FD2-96F7-0852A5CC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341-434D-4B02-A408-90AFA984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3C9-19B9-480C-BB36-2072FDB5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594-2B13-47F5-8A59-1CC822C1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060E-45AD-400F-B829-F0EAB4A5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680-629A-4E77-94B4-7EAF840C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C64-E3C5-4C73-8763-F5D6FC4E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2795-F0F4-4860-9140-85681554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61F4-4C4A-482C-B9CA-E095A241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9B99-2A4A-422E-8D81-C41E3B2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273-4AAE-44D3-82E3-1CE6FB16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1A74-FA24-4F39-B142-EECA080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F273-E996-4934-A83C-EAE6FF0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92D9-17F4-41B6-97A4-BA49425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4FE-4EDC-4CD7-B278-80390D58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70FD-EDE1-4851-889F-2BCC06A6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507-1E08-42A1-9FB4-F6502FAF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AFA-43F6-4124-B8FB-1D7D7E8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9C8-10D3-46AE-AD4C-4D37484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FD3-05EA-4B23-B52A-166AD26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D6F-0B2F-4855-85F5-2B321A5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31A-809E-4D3D-BBA2-9B22672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EDC-F6F9-43AF-8710-6E4AE3CC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D935-B127-48EA-83D4-E1AC2CBF76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4D5-F1FC-4D55-A876-92EBCA483C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Times New Roman"/>
              </a:rPr>
              <a:t>Фізичний розвиток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—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комплекс морфологічних і функціональних параметрів організму, що визначають масу, форму тіла, структурно-механічні якості і фізичні си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є одним із найважливіших ознак, що характеризують рівень здоров'я населення. Однак показники фізичного розвитку не є обов'язковими для офіційного статистичного аналізу і не відображаються у звітності, що не дозволяє безупинно стежити за рівнем і динамікою фізичного розвитку окремих груп населення по всій країні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рівень фізичного розвитку впливає комплекс соціально-біологічних, медико-соціальних, організаційних, природно-кліматичних факторів. Існують розходження у фізичному розвитку населення, що проживає в різних економіко-географічних зонах, серед різних національностей. Під впливом довготривалої дії несприятливих факторів рівень фізичного розвитку знижуєть­ся. Поліпшення умов, нормалізація способу життя сприяють підвищенню рівня фізичного розвит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Основними ознаками фізичного розвитку є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метри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зміні розмірів тіла, скелета людини. Вони ж, в свою чергу, поділяються 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оматометричні — розміри тіл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стеометричні — розміри кістяк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раніометричні — розміри череп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скопі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описі тіла в цілому й окремих його частин. До антропоскопічних ознак відносять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виток жирового шару, мускулатур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а грудної клітини, спини, живота, ніг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гментаці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олосяний покри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торинні статеві ознаки тощ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ізіометричні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— такі ознаки, що визначають фізіологічний стан, функціональні можливості організму. Зазвичай вони виміряються за допомогою спеціальних приладів. Зокрема, до таких ознак відносять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життєва ємність легень (вимірюється за допомогою спірометра)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'язова сила кистей рук (вимірюється за допомогою динамометра) тощ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Оцінка фізичного розвитку має важливе значення для багатьох напрямів медицини. Показники фізичного розвитку використовуються для виявлення антропометричних маркерів (ознак) ризику ряду захворювань і патологічних станів. Антропометричні показники використовуються для контролю фізичного розвитку дітей і оцінки ефективності проведених оздоровчих заходів. Вони необхідні для визначення режиму життя і фізичного навантаження дитини. У статистиці антропометричні показники є найважливішими критеріями для визначення таких понять, як «живонароджуваність», «мертвонароджуваність», «недоношеність», «маса тіла при народженні»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ізичний розвиток має важливе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медико-соціальне значення.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івень фізичного розвитку населення багато в чому говорить про соціальне благополуччя в суспільстві. Порушення фізичного розвитку можуть свідчити про несприятливі умови і спосіб життя дитини і повинні слугувати одним із критеріїв для визначення рівня соціального ризику родини, визначення соціального неблагополуччя родин, що вимагає заходів медико-соціального вплив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