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33DC-B97B-4190-B357-3480989F6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BB20-C721-4575-97AD-FF9BE7D4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5755-66A1-41A1-BB9B-D01514A1A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0ECA-0CBE-4728-A69E-769CAFB64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425E-F5D5-4EDB-A0C7-29C19330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D319-DB16-463A-B347-3FA1DDE6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D06A-5CC7-4F9C-B797-2D818142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BF7E-BBBD-4E4F-9D33-7668DB98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A2D8-572D-4655-AA56-FCCD8938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5C6A-DA8D-4FB2-A2B2-DA766284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DE40-E665-4270-BCF3-066D38EE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3E61-E57A-41B1-B393-0FA0B6DA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23CC-1C09-4691-9441-AB265DA7C7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Лекція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Основи організації праці персоналу медичних організац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уть і завдання організації праці. Наукова організація прац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Зміст і принципи наукової організації прац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Управлінська праця. Особливості і специфі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Найбільш поширеними формами розподілу праці в медичних організаціях є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функціональний розподіл прац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фесійно-кваліфікаційний розподіл праці (терапія, хірургія, неврологія, ортопедія-травматологія, ЛОР, очні і т.д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едметний розподіл праці (лікар-ординатор, палатна медична сестра, маніпуляційна, патронажна, операційна медична сестра і т.д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бір найбільш раціональних форм розподілу праці в медичних органі­заціях - важливе завдання. Правильне його рішення забезпечує ґрунтовне планування чисельності медичних працівників у кожній функціональній, професійній і кваліфікаційній груп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Кооперація прац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озподіл праці обов'язково поєднується з його коопераціє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ід кооперацією ми розуміємо об'єднання окремих виконавців у відділення (терапевтичне, хірургічне, неврологічне та ін.), лабораторії (клінічна, біохімічна, урологічна, мікробіологічна, імунологічна та ін.), кабінети (функціональної діагностики, ендоскопічний, рентгенологічний, фізіоте­рапевтичний, ультразвуковий та ін.), служби (амбулаторно-поліклінічна, стаціонарна, реанімаційна, швидка і невідкладна та ін.), окремі групи (приймальна, операційний блок, стерилізаційна, реабілітаційна та ін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Організація прац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 це організаційна система, яка має на меті досягти найкращих результатів використання живої праці у процесі надання медичної допомоги населенн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рганізація праці - це процес, який забезпечує поєднання робочої сили зі знаряддями виробництва для досягнення певної виробничої цілі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hner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 199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ле якою б не була технічна база медичних організацій, процес надання медичної допомоги не може здійснюватися без ціленаправленої діяльності медичного працівника, який використовує технічні засоб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рганізаційна праця медичних працівників є обов'язковою умовою функціонування медичних організацій, а організація праці виступає складовою частиною процесу надання медичної допомоги населенн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рганізація праці медичних працівників базується на пізнанні і використанні економічних законів, законів фізіології і психології праці, даних досліджень соціальної науки, а також математики і кібернетики, спирається на знання юридичної на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кщо практичне впровадження конкретних заходів з організації праці базується на досягненнях сучасної науки і передового досвіду, то йдеться про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наукову організацію праці (НОП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укова організація праці не дає можливості використання суб'єктивних емпіричних оцінок, а реалізує всю сукупність досягнень сучасної науки і практики на найбільш раціональну і ефективну прац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НОП вирішує три взаємопов'язаних завдання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економічн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сихофізіологічн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оціаль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Економічне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завдання НОП медичних організацій полягає у створенні умов для цілеспрямованого використання медичної техніки, комп'ютерів, інструментів, матеріалів і медикаментів, чим забезпечується економія живої прац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Психофізіологічне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завдання НОП медичних організацій пов'язано зі створенням найбільш сприятливих умов праці, які забезпечують збереження фізичного здоров'я і безпеку медичних працівників, підтримують високий рівень їх працездатност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Соціальне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вдання направлене на підвищення ступеня задоволеності медиків своєю працею і створенні умов, які забезпечують зростання їх професійного рів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аким чином, можна вважати, що НОП являє собою постійний творчий процес, який забезпечує приведення у відповідність організації праці рівня розвитку медичної і комп'ютерної техніки, нових медичних технолог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99"/>
                </a:solidFill>
                <a:latin typeface="Arial"/>
              </a:rPr>
              <a:t>Зміст і принципи наукової організації прац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рганізація праці як система включає сукупність елементів, які знаходяться в певному взаємозв'язку і створюють єдине ціле. Елементи організації праці розкривають її змі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Основні напрямки НОП медичних організацій включають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озробку раціональних форм диференціації і кооперацію прац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окращення організації робочих місц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аціоналізацію прийомів і методів прац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окращення умов прац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досконалення нормування праці медичних працівникі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озвиток заходів матеріального і морального стимулювання праці медичних працівникі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кріплення трудової дисциплі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Основні принципи організації праці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мплексност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истемност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егламентації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пеціалізації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абільност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жний з цих принципів має певне самостійне значення. Разом з цим, вони доповнюють один одного, розкриваючи відповідну сторону наукового підходу до організації праці. Тому найбільша дієвість принципів НОП медичних організацій проявляється при їх комплексному використанні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ля забезпечення функціонування медичної організації перш за все необхідна певна розстановка медичних працівників і наділення кожного із них конкретними трудовими функціями. Це завдання вирішується шляхом вибору відповідних форм розділення прац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ід розділенням праці ми розуміємо обособлення різних видів праці і закріплення їх за учасниками виробничого проце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сновним принципом розподілу праці є поєднання спеціалізації окремих виконавців з підвищенням їх виробничо-технічного рів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 змістом праці і призначенням робіт, що виконуються, колектив медичної організації поділяється на лікарів основних і допоміжних підрозділів (лабораторій, кабінетів променевих методів діагностики і лікування, ендоскопічних, фізіотерапевтичних, ультразвукових кабінетів та ін.), лікарів інтернів, середній і молодший медичний персонал, персонал управління і обслуговува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juba</cp:lastModifiedBy>
  <dcterms:modified xsi:type="dcterms:W3CDTF">2014-10-07T08:33:11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