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7E96-3378-494A-BF06-5D2B31D36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48DE-5697-4776-99CA-5C0520C2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ED07-6C7D-40CF-8E97-FA2E40ED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561F-C434-4E6E-AAB4-4BBAD204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DFD5-A674-450D-83BE-CF4D079E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140C-A5E7-4A7C-B55F-F3083FE7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0BBB-26D7-4A29-A5DA-4D52BA3A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123A-37F5-4EC6-BBDA-68428F02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77C5-91FB-4805-8954-6FB1964C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8854-7D1A-4DE8-8128-5E4EEBF3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A828-CB3A-44F5-9D28-DE8A56BC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DF4-2895-4F0B-897E-FDB24138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EE23-C265-4881-AF43-BAB77212C6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Лекція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снови організації праці персоналу медичних організац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уть і завдання організації праці. Наукова організація прац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міст і принципи наукової організації прац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правлінська праця. Особливості і специфі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айбільш поширеними формами розподілу праці в медичних організаціях є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ункціональний розподіл прац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фесійно-кваліфікаційний розподіл праці (терапія, хірургія, неврологія, ортопедія-травматологія, ЛОР, очні і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едметний розподіл праці (лікар-ординатор, палатна медична сестра, маніпуляційна, патронажна, операційна медична сестра і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бір найбільш раціональних форм розподілу праці в медичних органі­заціях - важливе завдання. Правильне його рішення забезпечує ґрунтовне планування чисельності медичних працівників у кожній функціональній, професійній і кваліфікаційній груп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Кооперація прац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поділ праці обов'язково поєднується з його коопераціє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ід кооперацією ми розуміємо об'єднання окремих виконавців у відділення (терапевтичне, хірургічне, неврологічне та ін.), лабораторії (клінічна, біохімічна, урологічна, мікробіологічна, імунологічна та ін.), кабінети (функціональної діагностики, ендоскопічний, рентгенологічний, фізіоте­рапевтичний, ультразвуковий та ін.), служби (амбулаторно-поліклінічна, стаціонарна, реанімаційна, швидка і невідкладна та ін.), окремі групи (приймальна, операційний блок, стерилізаційна, реабілітаційна та ін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рганізація пра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це організаційна система, яка має на меті досягти найкращих результатів використання живої праці у процесі надання медичної допомоги населен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я праці - це процес, який забезпечує поєднання робочої сили зі знаряддями виробництва для досягнення певної виробничої цілі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hner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199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ле якою б не була технічна база медичних організацій, процес надання медичної допомоги не може здійснюватися без ціленаправленої діяльності медичного працівника, який використовує технічні засо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йна праця медичних працівників є обов'язковою умовою функціонування медичних організацій, а організація праці виступає складовою частиною процесу надання медичної допомоги населен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я праці медичних працівників базується на пізнанні і використанні економічних законів, законів фізіології і психології праці, даних досліджень соціальної науки, а також математики і кібернетики, спирається на знання юридичної на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що практичне впровадження конкретних заходів з організації праці базується на досягненнях сучасної науки і передового досвіду, то йдеться про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укову організацію праці (НОП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укова організація праці не дає можливості використання суб'єктивних емпіричних оцінок, а реалізує всю сукупність досягнень сучасної науки і практики на найбільш раціональну і ефективну прац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ОП вирішує три взаємопов'язаних завдання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кономічн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сихофізіологічн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оціаль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Економічне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завдання НОП медичних організацій полягає у створенні умов для цілеспрямованого використання медичної техніки, комп'ютерів, інструментів, матеріалів і медикаментів, чим забезпечується економія живої прац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Психофізіологічне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завдання НОП медичних організацій пов'язано зі створенням найбільш сприятливих умов праці, які забезпечують збереження фізичного здоров'я і безпеку медичних працівників, підтримують високий рівень їх працездатн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Соціальне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вдання направлене на підвищення ступеня задоволеності медиків своєю працею і створенні умов, які забезпечують зростання їх професійного рів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аким чином, можна вважати, що НОП являє собою постійний творчий процес, який забезпечує приведення у відповідність організації праці рівня розвитку медичної і комп'ютерної техніки, нових медичних технолог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Arial"/>
              </a:rPr>
              <a:t>Зміст і принципи наукової організації прац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рганізація праці як система включає сукупність елементів, які знаходяться в певному взаємозв'язку і створюють єдине ціле. Елементи організації праці розкривають її змі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сновні напрямки НОП медичних організацій включають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робку раціональних форм диференціації і кооперацію прац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кращення організації робочих місц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аціоналізацію прийомів і методів прац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кращення умов прац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досконалення нормування праці медичних працівникі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виток заходів матеріального і морального стимулювання праці медичних працівникі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кріплення трудової дисциплі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сновні принципи організації праці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мплексност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ност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егламентації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пеціалізації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більнос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жний з цих принципів має певне самостійне значення. Разом з цим, вони доповнюють один одного, розкриваючи відповідну сторону наукового підходу до організації праці. Тому найбільша дієвість принципів НОП медичних організацій проявляється при їх комплексному використанн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ля забезпечення функціонування медичної організації перш за все необхідна певна розстановка медичних працівників і наділення кожного із них конкретними трудовими функціями. Це завдання вирішується шляхом вибору відповідних форм розділення прац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 розділенням праці ми розуміємо обособлення різних видів праці і закріплення їх за учасниками виробничого проце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новним принципом розподілу праці є поєднання спеціалізації окремих виконавців з підвищенням їх виробничо-технічного рів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змістом праці і призначенням робіт, що виконуються, колектив медичної організації поділяється на лікарів основних і допоміжних підрозділів (лабораторій, кабінетів променевих методів діагностики і лікування, ендоскопічних, фізіотерапевтичних, ультразвукових кабінетів та ін.), лікарів інтернів, середній і молодший медичний персонал, персонал управління і обслуговув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uba</cp:lastModifiedBy>
  <dcterms:modified xsi:type="dcterms:W3CDTF">2014-10-07T08:33:11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