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8AB-5ECA-4858-BCCF-77A772AC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92D-453B-4972-906A-52344942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285-D3F8-46A8-A4AB-1A4B8894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612-D913-4863-9451-30551557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13F-AB13-4D3D-907D-39568793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5D8-D0EC-48B5-A3B5-624B7E14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1FB-DA39-49D9-81D3-CEB2AFBC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B84-2FBC-47E3-BDDA-E6559789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27E-01F3-413B-97AE-03A5C7C2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C03-729C-482E-902F-9D8C4FC6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892-B7CD-4112-B1EB-63EE2778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3A3-2C3D-4403-A611-F5D658C6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B86A-DCEE-452C-A388-BB83F74B5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Лекція №2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ехнологія управління персонал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3асоби управлі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рям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опосередкован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квазі-засоб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Стилі керівництва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вторитет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дміністративно-бюрократич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налітич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езперер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легуюч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мократич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иктаторськ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ирек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истанцій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туї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легіаль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манд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нсерва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нтакт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опера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лібераль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йтраль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оваторськ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блемно-організуюч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артисипа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итуацій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цільо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усіх можливих стилів управління на перший план виступають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авторитарний, ліберальний та демократични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умовах ринкової економіки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якість медичного персоналу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є головним чинником успіху медичних закладів. Тому, керівник закладу повинен володіти сучасними методиками пошуку та оцінки персоналу, що є важливою складовою управлінської діяльності з метою ефективного використання всіх інших ресурсів організації та забезпечення якісних результатів медичної органі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Найом на робо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це ряд дій, направлених на приваблення кандидатів які мають якості, що дають можливість медичній організації досягти поставленої мети, цілей і завд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 медичній організації необхідно прийняти нових працівників, постає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ва пита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 шукати потенційних працівник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оповістити майбутніх працівників про наявність їх вільних робочих міс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Існують два можливих джерела найму: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внутрішній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із працівників організ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зовнішні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- замовлення випускників медичного університету, медичних академій, медичних училищ, медичних коледжів, а також зі сторони за оголошенн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Пит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хнологія управління персоналом медичної органі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ом, відбір і прийом персоналу в медичні органі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ілова оцінка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правління поведінкою медичної організації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тивація і стимулювання трудової діяльності медичного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Концепція управління персоналом включа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у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методології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ування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систем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у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технології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1. Методологія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ає розгляд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суті персоналу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 як об'єкта управління, процесу формування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поведінки індивіді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з метою і завданням організації, методами та принципами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2. Система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ає формування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мети, функці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організаційної структур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, встановлення вертикальних та горизонтальних функціональних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взаємозв'язкі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ерівників і спеціалістів у процесі обґрунтування, розробки, прийняття та реалізації управлінських ріш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3. Технологія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ає: організацію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найму, відбір, прийом персоналу, його ділову оцінку, профорієнтацію та адаптацію, навчання, мотивацію і організацію праці, управління конфліктами і стресами, забезпечення соціального розвитку організації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Система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 управління персоналом  має такі складові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нципи управ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оби управ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илі управ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и управл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9999"/>
                </a:solidFill>
                <a:latin typeface="Arial"/>
              </a:rPr>
              <a:t>Принципи управління персоналом</a:t>
            </a:r>
            <a:r>
              <a:rPr b="0" lang="uk-UA" sz="3200" spc="-1" strike="noStrike">
                <a:solidFill>
                  <a:srgbClr val="009999"/>
                </a:solidFill>
                <a:latin typeface="Arial"/>
              </a:rPr>
              <a:t> 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равила, основні положення та норми, котрі повинні використовувати керівники та спеціалісти у процесі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сі принципи будування системи управління персоналом реалізуються у взаємодії та через засоби управл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3 групи </a:t>
            </a: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методів управлі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дміністратив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ономіч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оціально-психологічн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2:4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