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F225-649B-4A3D-A6EF-B4D332E27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F989-5BDC-4695-9071-06472B70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8568-232B-4217-B0FE-588883DCE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847C-4611-4F47-A242-46A29C4C0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6EB4-D934-4CAF-AEE2-C69166F7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0312-FEA6-4257-8B24-7679E932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93A0-0F59-4031-894F-D282CF95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E5BC-DDB1-4C86-81D0-9CC83B95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6A33-C538-4599-9AC5-82282F16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628B-ED8A-43DD-BD18-1E49D651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9C5B-E31A-46CA-A1BE-6B7ADCB4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C87F-0E1B-4A47-AE22-8B6B54DE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54AD-C9D6-4598-83FE-9FD7328C25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Лекція №2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Технологія управління персонало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9999"/>
                </a:solidFill>
                <a:latin typeface="Arial"/>
              </a:rPr>
              <a:t>3асоби управлінн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прямі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опосередковані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квазі-засоб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Стилі керівництва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авторитет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адміністративно-бюрократич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аналітич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безперерв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елегуюч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емократич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иктаторськ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иректив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истанцій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інтуїтив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колегіаль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команд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консерватив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контакт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кооператив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лібераль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нейтраль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новаторськ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облемно-організуюч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артисипатив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ситуацій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цільов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 усіх можливих стилів управління на перший план виступають 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авторитарний, ліберальний та демократичний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547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умовах ринкової економіки 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якість медичного персоналу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є головним чинником успіху медичних закладів. Тому, керівник закладу повинен володіти сучасними методиками пошуку та оцінки персоналу, що є важливою складовою управлінської діяльності з метою ефективного використання всіх інших ресурсів організації та забезпечення якісних результатів медичної організац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99"/>
                </a:solidFill>
                <a:latin typeface="Arial"/>
              </a:rPr>
              <a:t>Найом на робо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- це ряд дій, направлених на приваблення кандидатів які мають якості, що дають можливість медичній організації досягти поставленої мети, цілей і завда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оли медичній організації необхідно прийняти нових працівників, постає 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два питан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е шукати потенційних працівникі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оповістити майбутніх працівників про наявність їх вільних робочих міс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Існують два можливих джерела найму: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99"/>
                </a:solidFill>
                <a:latin typeface="Arial"/>
              </a:rPr>
              <a:t>внутрішній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- із працівників організа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99"/>
                </a:solidFill>
                <a:latin typeface="Arial"/>
              </a:rPr>
              <a:t>зовнішній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- замовлення випускників медичного університету, медичних академій, медичних училищ, медичних коледжів, а також зі сторони за оголошення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Пита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ехнологія управління персоналом медичної організац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йом, відбір і прийом персоналу в медичні організац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ілова оцінка персона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правління поведінкою медичної організації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отивація і стимулювання трудової діяльності медичного персона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99"/>
                </a:solidFill>
                <a:latin typeface="Arial"/>
              </a:rPr>
              <a:t>Концепція управління персоналом включає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робку 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Arial"/>
              </a:rPr>
              <a:t>методології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управління персонал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формування 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Arial"/>
              </a:rPr>
              <a:t>систем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управління персонал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робку 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Arial"/>
              </a:rPr>
              <a:t>технології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управління персон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9999"/>
                </a:solidFill>
                <a:latin typeface="Arial"/>
              </a:rPr>
              <a:t>1. Методологія управління персонал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ключає розгляд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 суті персоналу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, як об'єкта управління, процесу формування 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поведінки індивідів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гідно з метою і завданням організації, методами та принципами управління персон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9999"/>
                </a:solidFill>
                <a:latin typeface="Arial"/>
              </a:rPr>
              <a:t>2. Система управління персонал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ключає формування 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мети, функцій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організаційної структур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управління персоналом, встановлення вертикальних та горизонтальних функціональних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 взаємозв'язків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ерівників і спеціалістів у процесі обґрунтування, розробки, прийняття та реалізації управлінських ріш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9999"/>
                </a:solidFill>
                <a:latin typeface="Arial"/>
              </a:rPr>
              <a:t>3. Технологія управління персонал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ключає: організацію 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найму, відбір, прийом персоналу, його ділову оцінку, профорієнтацію та адаптацію, навчання, мотивацію і організацію праці, управління конфліктами і стресами, забезпечення соціального розвитку організації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ощ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9999"/>
                </a:solidFill>
                <a:latin typeface="Arial"/>
              </a:rPr>
              <a:t>Система</a:t>
            </a: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 управління персоналом  має такі складові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нципи управл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соби управл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илі управл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етоди управлі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9999"/>
                </a:solidFill>
                <a:latin typeface="Arial"/>
              </a:rPr>
              <a:t>Принципи управління персоналом</a:t>
            </a:r>
            <a:r>
              <a:rPr b="0" lang="uk-UA" sz="3200" spc="-1" strike="noStrike">
                <a:solidFill>
                  <a:srgbClr val="009999"/>
                </a:solidFill>
                <a:latin typeface="Arial"/>
              </a:rPr>
              <a:t> -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правила, основні положення та норми, котрі повинні використовувати керівники та спеціалісти у процесі управління персон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сі принципи будування системи управління персоналом реалізуються у взаємодії та через засоби управлі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3 групи </a:t>
            </a:r>
            <a:r>
              <a:rPr b="1" i="1" lang="uk-UA" sz="3600" spc="-1" strike="noStrike">
                <a:solidFill>
                  <a:srgbClr val="009999"/>
                </a:solidFill>
                <a:latin typeface="Arial"/>
              </a:rPr>
              <a:t>методів управлінн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дміністративн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кономічн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оціально-психологічн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juba</cp:lastModifiedBy>
  <dcterms:modified xsi:type="dcterms:W3CDTF">2014-10-07T08:32:47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