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09A-DB43-4F60-BB24-644F1869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0024-6723-486E-A800-D169D3EB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041-1772-4DD0-97CC-27BC70BC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774-1614-418F-88BC-B17A2FC1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61E-3D45-44C5-9B22-5DD0C670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35C-B479-4482-AF01-1E5D4877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C84-22DF-4AD9-B12A-9E47B0DF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D68-4A7D-4023-8073-8A401F76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FC5-DAD1-45FD-A4C2-6941ED69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360B-0420-4CD0-A9A1-6C0A0878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DD1-936A-4A9B-A6A5-10ACCE73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93F-CED8-40C3-86BF-9ADFC783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38B0-2874-4A54-9603-B791D9BC8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УПРАВЛІННЯ ПЕРСОНАЛОМ МЕДИЧНИХ ЗАКЛАД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ц. Погоріляк Р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равління кадрами охорони здоров'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є органічною складовою частиною управління системою охорони здоров'я в цілому, підпорядкованою тим самим цілям і спрямованою на їх досягнення завдяки конкретній діяльності медичного персон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правління кад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це безперервний динамічний процес управління людськими ресурсами, метою якого є оптимальна розстановка і використання сил на основі більш довершеного планування, підбору, удосконалення, розподілу кадрів, мотивації і регулярного об'єктивного контролю та оцінки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а управління персона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ягає в безперервному пошуку шляхів, що сприяють підвищенню ефективності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я мета досягається внаслідок впровадження прогресивних форм організації праці і раціональнішого використання наявних трудових ресурс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к усякий управлінський процес, управління персоналом має циклічний харак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ну основу цієї діяльності складаю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а і об'єктивна інформація про склад і динаміку кадр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 робі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ідбір, розстановка персон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тивація персон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ювання цілей безперервного навчання і його організаці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ування і організація розвитку кар'є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а оцінка ефективності виконуваних робочих функці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ит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учасна концепція управління персонал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адрова полі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оловні принципи управління персо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етоди, засоби та стилі управл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онцептуальні засади управління кадрами в 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ішний розвиток будь-якої сфери людської діяльності неможливий без управління, тобто систематичного процесу використання ресурсів для досягнення певної мети. Основним ресурсом кожної організації є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юди (кадри, персонал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кільки саме вони приводять в дію решту всіх ресурсів. Отже, мистецтво управління полягає в умінні організувати певну діяльність, оптимально використовуючи людський чин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истемі охорони здоров'я виключно важлива роль відведена безпосередньо медичному працівникові, тому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управління розвитком кадрі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изнається пріоритетним завданням менеджменту в галузі охорони здоров'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ійні методи управління персоналом в галузі ОЗ вже не забезпечують бажаних результатів, а навпаки, часто призводять до застою, а то й до дезорганізації в управлінських структу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з, коли засобів, що виділяються з державного бюджету на розвиток охорони здоров'я, явно недостатньо, найбільш перспективною є мобілізація прихованих можливостей системи на основі кращого використання кадрових ресурс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іжнародний досвід, зокрема досвід ВООЗ, свідчить про те, що серед організаційних змін, метою яких є підвищення ефективності системи охорони здоров'я, найбільшого успіху досягають дії, що проводяться в галузі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правління кадр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правління кадрами включає 3 взаємоп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зані компонен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ув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ідготов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ористання персон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мови ефективного управління кад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шою умово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пішного управління кадрами є взаємозалежне функціонування названих компонентів: планування розвитку кадрів - як кількісне, так і якісне - не матиме сенсу, якщо система підготовки і удосконалення медичних працівників не буде здатна забезпечити обидва цих аспекти. Разом з тим, підготовлені медичні кадри повинні знайти собі практичне застосування, відповідні до їх професійної кваліфік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ою неодмінною умово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фективного управління кадрами є реалізація концепції інтегрованого розвитку медичних кадрів і самої системи охорони здоров'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685800"/>
            <a:ext cx="84582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едостатньо організоване управління кадра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рони здоров'я виявляється в неадекватному використанні персоналу, в низькій його продуктивності, незбалансованості структури персоналу з потребами системи та і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іння кадрами стає найбільш ефективним, якщо визначальним принципом є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кономічна ефективність управлінських ріш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кономічна модель конкуруючих ринків в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є системою функціонування трьох взаємопов'язаних ринк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ринку служб охорони здоров'я, що визначає кількість різних видів медичних послуг, які споживаються населенням, та ціни на н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ринку кадрів охорони здоров'я, що встановлює кількість категорій працюючого персоналу, і рівень його заробітної пла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ринку медичної освіти, що пропонує кількість випускників кожного виду персоналу і вартість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іни в попиті і пропозиції на ринках знаходяться під впливом політики охорони здоров'я і економіки суспільства в цілому, змін соціальних і демографічних чинників. Зміни політики охорони здоров'я, що торкається інтересів одного ринку, неминуче призводить до змін на інших ринках - і не тільки в межах сектора охорони здоров'я. Тому при розробці політики розвитку кадрів охорони здоров'я необхідно заздалегідь оцінити всі прямі і непрямі наслідки для системи від реалізації цієї полі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2:27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