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0D6-2676-44BC-AE60-BBC3C125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EDA-458E-4A0A-8C1A-9051C6B8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668-E721-4C92-9318-2DCED5A9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A94-E7F8-4FA0-973F-4A3B3C25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C8A-B282-49C6-AE99-3B5657EA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3AB-FDDF-4FA0-98E7-1064E39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3CE1-0EFC-4E1F-A4F0-01BE1A5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4C65-7963-49EF-85A4-8CE39049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E244-7606-44A5-BCC7-27B4AC3A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E5C4-1BEB-459C-8D06-3CF63D5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5EE-CC8D-4BFB-A423-AA71F5E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F85-7890-43DD-8E50-22FA8404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E1A-4CEA-4EE3-A60F-72A626A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AC3-5592-495C-8FC1-99C8012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3DA8-4839-4DD2-949D-7AF26AEA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AD2B-452E-4DF9-B8F7-882B9155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9D1A-5D30-42A5-836E-363C3286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2F8-CCCE-4009-B3CB-E0A6DA66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643-BA59-43F6-9DA2-B1ADECE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633-D292-4AB6-8459-30E970B1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95E-F206-46ED-9587-D693EDC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49F-F450-47FB-844B-C2F6060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481-04D4-465D-B073-EBD7906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C55-2CF6-4A55-9D18-0CF9BEE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2F5-D4F3-4ABE-B311-D92A871BA1E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093-75A4-4359-8896-F6BF59676AB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2053800"/>
            <a:ext cx="76788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СИХОЛОГІЧНІ ПРОБЛЕМИ ГРУПОВОЇ ДІЯЛЬНОСТІ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62520" y="4419360"/>
            <a:ext cx="44956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.м.н., доце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чала Л.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формування організації лежать два соціальні феномени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'єднання зусиль учасників організації дає можливість досягти більш високих результатів, ніж ті, які можна отримати шляхом простого підсумовування зусиль ізольованих індивідів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иліта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егшення зусиль з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мо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ільної діяльності)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оціальні ролі у групі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ці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додаткової інформації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ловлювач думок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ювач дум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єнт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50040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Функціональні ролі в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адьорюючий і заохочуюч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оніз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ті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нец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ідо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еструктивні соціальні ролі у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7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літка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визнання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378000"/>
            <a:ext cx="8882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фактор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, щ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уть перешкоджати ефективності групового ухвалення рішення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ести до дисфункціональності в груповій робо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3048120"/>
            <a:ext cx="8871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е мислення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 домінування одних членів групи над іншими в процесі дискусії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71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зія невразливості, яку поділяють майже всі члени групи, часто призводить до надмірного оптимізму або невиправданого риз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льне презирство до раціональних думок і висловлювань, що містять недовір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застережна прихильність до групової морал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е сприйняття порад як прояву злостивості, слабкості чи дур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561600"/>
            <a:ext cx="8882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к на членів групи, що не підкоряються більш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а ілюзія єдност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цензура в ім'я непорушності групового консенсус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вільна поява захисників групи, що оберігають її від інформації, яка могла б похитнути групове самовдоволенн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ист  від феномену групового мислення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критики керівництва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інноваційних ідей і права на помил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ня закріплення поділу або переваг у груп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 зовнішніх експертів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ня «адвоката диявола» у груповій дискусії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45468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а динаміка характеризується двома фазами: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розбіжності думок і розбіжності позицій членів груп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поступового зближення позицій і думок членів групи з конкретного питанн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348480"/>
            <a:ext cx="88822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рівноправної учас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у груповій робо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7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уальні відмінності членів груп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кції на події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і схильності кожного, що виявляються в домінуванні й самовираженн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іння чи небажання прислухуватися до думки інших членів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ня віра в себе і свою ідею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евіра окремих членів групи в тому, що їх уважно вислухають і зрозуміють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вання інших соціально-психологічних бар'єр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34640"/>
            <a:ext cx="88822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ристання закономірностей групової динаміки в процесі ухвалення рішення призводить до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и розбіжностей між слуханням для розуміння і безпідставною згодою з позицією інши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більш повного набору альтернативних ідей; об'єктивної оцінки ідей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й ухвалення оптимального рішенн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потенціалу кожного члена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цнення клімату взаємної довіри й поваги в групі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взаємного розуміння між членами груп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чи більше особи,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заємодіють одна з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ю, знають одна про одну та мають спільну мету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37040"/>
            <a:ext cx="8855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Індивідуальні характеристики членів групи визначають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844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ефективність виконання завд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обливості міжособистісної взаємодії і відносин між членами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уп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ціально-психологічні характеристики групи як одиниці суспільства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79440"/>
            <a:ext cx="8855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лідерства в управлінській діяльності полягає в діагностиці соціально-психологічних характеристик членів групи і створенні умов, за яких будуть розвиватися й посилюватися позитивні якості та власти-вості індивідів і мінімізуватися прояви їхніх негативних рис.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-115200"/>
            <a:ext cx="8855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До індивідуальних схильностей, прояв яких деструктивно впливає на розвиток групи,  відносять: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84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гнення до доміну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аніпулю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чужені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гматиз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гресивність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421560"/>
            <a:ext cx="8855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Типи маніпуляторів за Е. Шостромом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03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иктато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легкодуха люд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бчислюва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рилипайл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6360" y="1904760"/>
            <a:ext cx="4307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уліга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арний хлопец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удд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хисни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315720"/>
            <a:ext cx="8855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Для маніпуляторів характерні чотири ігрових стереотипи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844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й, що змагається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байдуж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Маніпуляція і майєвтика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280" y="1905120"/>
          <a:ext cx="8871120" cy="488628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ніпуляц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єв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ук однобічних ви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хован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а на стереотипні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ілюзії незалеж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і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и певну мету, що ун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ливлює врахування інтересів іншої сторон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ємовигідне співробі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цт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ний, відкрит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иток творчого підход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пільна відповідальність і взаємозалежні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ікавленість усіх у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льтаті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34812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іляють два види агресивної поведінки: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засі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ійснення своєї мети й задоволення потреб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мет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діяння шкоди іншій людині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18792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и зняття агресивнос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логічний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ий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тому, щоб виговоритися, поскаржитися кому-небудь на свої проблеми або поплака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88228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й —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ється на фізичну активність людини, що дає йому змогу спалити надлишок адреналіну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льнитися від напруги. У зв'язку із цим ефективними є: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тя всіма видами спорту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остереження за змаганнями та активне уболівання за “своїх”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лювання, риболовля (інші види активного відпочинку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ан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удь-які дії, п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зані з руйнуванням цілого: биття посуду, крій та шиття, робота сокирою, копання грядок та ін.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діяльності групи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8871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і цілі —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, досягти яких можна за умови спільної роботи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гальні цілі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– цілі, яких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досягти, лише змагаючись один з одним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74520"/>
            <a:ext cx="8882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ий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ьше прийнятний для раціональних людей. Він полягає в пошуку суті явища, що стало предметом роздратування. Цей спосіб дуже ефективний для людини, орієнтованої на логіку, оскільки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887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тична діяльність заспокоює і відбирає багато енергії, спалюючи надлишок адреналіну в кров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є суб'єкту можливість поринути у звичні справи, що сприяє поліпшенню настрою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йому змогу з'ясувати причину та знайти вихід із пробле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22608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Типи підлеглих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мету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завданн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71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перевагу авторитарному керівн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потребу в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отному зв'язку та оцінці діяльності, що залежить від результа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має гроші як заохочення за гарну робот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че працює, коли є стимул працювати більше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е виконує роботу, яка може бути удосконалена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такому випадку — це творчий 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истості, що одержує задоволення від вирішення проблеми)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із середнім ступенем ризику, несе відповідальність за результат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ує енергію на досягнення ціле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є ініціативу й не любить дріб'язкової опік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ює своє прагнення досягти мети залежно від реальності успіху або невдач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7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демократичном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ерівников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є зворотного зв'язку, оцінки. Відчуває потребу у схваленні його особистих дій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і, які можна заробити додатково, сприймає як «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аведливі 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рутинній і «стабільній» роботі, що не вимага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іпшення. Не виявля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сті й одержує задоволення від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ня завдання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9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з високим або низьким ризиком. Має потребу 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данні, уникає оцінюван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 якості його пра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кусує індивідуальну енергію на ме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ітко виконує директив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ою мірою виявляє прагнення д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оч-ног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фортно почуває себе в стабільній обстановці, за усталених правил і процедур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увати свій статус і влад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авати право вільного графіка робо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ювати зворотний зв'язок та оцінювати діяльність підлеглого за результатами робо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кати демонстрування статусу й влад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нормований робочий день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увати схвалення індивідуальних зусиль у процесі роботи над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ям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атеріальне стимулювання та виробити критерій оцінювання ефективності досягнення ме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завдання, що потребують творчого підходу та самостійності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улювати чіткі кр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ії стимулювання, розро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и систему матеріаль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го та нематеріального заохочення за успішне виконання завданн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рутинну роботу, шо не вимагає інноваційних підход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вати право на помилку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ожливість обговорення деталей виконання завдання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796400"/>
            <a:ext cx="81630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ртованістю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називають близькі стосунки між її членами, їх готовність підтримувати один одного.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91772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альний склад групи — це п'ять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осіб!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3783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9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півпрацюють у групах, перебуваючи в стосунках повної взаємозалежн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 однієї групи підпорядковують свою поведінку загальноприйнятим у групі нормам і домагаються спільної ме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мають неоднакові функції. Усі вони є спеціалізова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и є членами одночасно багатьох груп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і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часові й випадкові груп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818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71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кі групи є вільними, інші мають обов'язковий характер (родина, нація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чі групи можуть бути формальними і неформаль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ти за нормами групи завжди важко, особливо ззовн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і групи чинять тиск на своїх членів, щоб змусити їх дотримуватися групових норм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здатна приймати більш ризиковані рішення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ї член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7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в цілому породжують менше ідей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и; однак група продукує кращі ідеї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бк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бічною оцінко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ді виникають конфлікти між групами й усередині груп (ми і вони). Конфлікти можуть бути особисті, міжособистісні, міжгрупові, соціальні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132640"/>
            <a:ext cx="872964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ізаці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– це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ічн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'єднання групи індивідів (двох і більше), діяльність яких свідомо координує суб'єкт управління, щоб упорядкувати спільну діяльність та успішно досягнути спільної мети.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9:29:22Z</dcterms:created>
  <dc:creator>User</dc:creator>
  <dc:description/>
  <dc:language>en-US</dc:language>
  <cp:lastModifiedBy>Ljuba</cp:lastModifiedBy>
  <dcterms:modified xsi:type="dcterms:W3CDTF">2014-10-07T08:31:30Z</dcterms:modified>
  <cp:revision>26</cp:revision>
  <dc:subject/>
  <dc:title>СОЦІАЛЬНО-ПСИХОЛОГІЧНІ ПРОБЛЕМИ ГРУПОВОЇ ДІЯЛЬНОСТІ </dc:title>
</cp:coreProperties>
</file>