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E43-616A-4FE8-BE71-E308C80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0C7-E53A-44F7-9D65-D034DC28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0AF-7371-4BD2-9C51-B4B38E40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D9F-E3F4-4526-9DCD-C4CF61DB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E65-294A-4F89-B715-F85ED4F0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281F-CC22-49F5-B7EA-7DCFB176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26C5-2AA7-4972-BD4E-D524308C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3F00-5A66-43A9-9697-3493EF2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FF1-BFB4-4E1C-9F0D-1CB08C0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BA03-FF4A-446C-B673-132348C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9771-B14B-4918-8B03-9C23AFE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807-6C4D-4B31-89B6-1D139D4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F45-96F7-49A3-ACB6-DC0FB70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89D-A155-49F3-B9A1-73256D0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9D3-2BDF-49EC-B4DC-CD091BD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BF6F-439D-4CA3-9F32-F70B9DD6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FC9-A511-4655-8BFD-0E892F8B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4A6-9BB6-46F6-AE7A-A3957906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69F-840E-43E3-9DEC-0E30603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B58-F4FE-4BD2-B2D6-F791000F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8A1-0ACE-431D-8E94-256FBC14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42A-05A0-42D4-8352-F75DC2D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A6D-F63C-466C-B11D-518401F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EC5-CD4B-438E-BF0D-0B725E7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DF4-32BC-48FB-B843-6B5B0927D81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85A-F220-420D-8298-A67452CAF80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2053800"/>
            <a:ext cx="76788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ПРОБЛЕМИ ГРУПОВОЇ ДІЯЛЬНОСТІ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4956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.м.н., доце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чала Л.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формування організації лежать два соціальні феномени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'єднання зусиль учасників організації дає можливість досягти більш високих результатів, ніж ті, які можна отримати шляхом простого підсумовування зусиль ізольованих індивідів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иліта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егшення зусиль з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мо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ільної діяльності)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оціальні ролі у групі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додаткової інформації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ловлювач думок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ювач дум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єнт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50040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Функціональні ролі в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адьорюючий і заохочуюч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оніз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ті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нец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ідо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еструктивні соціальні ролі у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7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літка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визнання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378000"/>
            <a:ext cx="8882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фактор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, щ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уть перешкоджати ефективності групового ухвалення рішення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ести до дисфункціональності в груповій робо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048120"/>
            <a:ext cx="8871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е мислення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 домінування одних членів групи над іншими в процесі дискусії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7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зія невразливості, яку поділяють майже всі члени групи, часто призводить до надмірного оптимізму або невиправданого риз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льне презирство до раціональних думок і висловлювань, що містять недовір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застережна прихильність до групової морал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е сприйняття порад як прояву злостивості, слабкості чи дур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561600"/>
            <a:ext cx="8882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 на членів групи, що не підкоряються більш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а ілюзія єдност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цензура в ім'я непорушності групового консенсус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вільна поява захисників групи, що оберігають її від інформації, яка могла б похитнути групове самовдоволенн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ист  від феномену групового мислення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критики керівництва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інноваційних ідей і права на помил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ня закріплення поділу або переваг у груп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 зовнішніх експертів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ня «адвоката диявола» у груповій дискусі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45468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а динаміка характеризується двома фазами: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розбіжності думок і розбіжності позицій членів груп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поступового зближення позицій і думок членів групи з конкретного питанн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348480"/>
            <a:ext cx="8882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рівноправної учас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у груповій робо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уальні відмінності членів груп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кції на події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і схильності кожного, що виявляються в домінуванні й самовираженн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іння чи небажання прислухуватися до думки інших членів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ня віра в себе і свою іде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евіра окремих членів групи в тому, що їх уважно вислухають і зрозуміють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інших соціально-психологічних бар'єр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34640"/>
            <a:ext cx="88822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ристання закономірностей групової динаміки в процесі ухвалення рішення призводить до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и розбіжностей між слуханням для розуміння і безпідставною згодою з позицією інши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більш повного набору альтернативних ідей; об'єктивної оцінки ідей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й ухвалення оптимального рішенн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потенціалу кожного члена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цнення клімату взаємної довіри й поваги в групі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взаємного розуміння між членами груп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чи більше особи,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аємодіють одна з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ю, знають одна про одну та мають спільну мету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37040"/>
            <a:ext cx="8855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Індивідуальні характеристики членів групи визначають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844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ефективність виконання завд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обливості міжособистісної взаємодії і відносин між членам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уп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ціально-психологічні характеристики групи як одиниці суспільства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79440"/>
            <a:ext cx="8855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лідерства в управлінській діяльності полягає в діагностиці соціально-психологічних характеристик членів групи і створенні умов, за яких будуть розвиватися й посилюватися позитивні якості та власти-вості індивідів і мінімізуватися прояви їхніх негативних рис.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-115200"/>
            <a:ext cx="8855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До індивідуальних схильностей, прояв яких деструктивно впливає на розвиток групи,  відносять: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84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гнення до доміну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аніпулю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чуже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гматиз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гресивність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421560"/>
            <a:ext cx="8855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Типи маніпуляторів за Е. Шостромом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03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егкодуха люд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бчислюва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рилипайл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6360" y="1904760"/>
            <a:ext cx="430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уліга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арний хлопец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удд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хисн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315720"/>
            <a:ext cx="885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Для маніпуляторів характерні чотири ігрових стереотипи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844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й, що змагається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байдуж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Маніпуляція і майєвтика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1905120"/>
          <a:ext cx="8871120" cy="488628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ніпуляц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є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ук однобічних ви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хован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а на стереотипні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ілюзії незалеж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і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и певну мету, що у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лює врахування інтересів іншої сторон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ємовигідне співробі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цт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ий, відкрит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иток творчого підход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пільна відповідальність і взаємозалежні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ікавленість усіх у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льтаті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34812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іляють два види агресивної поведінки: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засі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ення своєї мети й задоволення потреб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мет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діяння шкоди іншій людині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18792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няття агресивнос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огічний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ий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б виговоритися, поскаржитися кому-небудь на свої проблеми або поплака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88228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—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а фізичну активність людини, що дає йому змогу спалити надлишок адреналін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льнитися від напруги. У зв'язку із цим ефективними є: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тя всіма видами спорту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остереження за змаганнями та активне уболівання за “своїх”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лювання, риболовля (інші види активного відпочинку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н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і дії, п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зані з руйнуванням цілого: биття посуду, крій та шиття, робота сокирою, копання грядок та ін.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діяльності груп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871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і цілі —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, досягти яких можна за умови спільної роботи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льні цілі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– цілі, яких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досягти, лише змагаючись один з одни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4520"/>
            <a:ext cx="8882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ий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е прийнятний для раціональних людей. Він полягає в пошуку суті явища, що стало предметом роздратування. Цей спосіб дуже ефективний для людини, орієнтованої на логіку, оскільки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887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тична діяльність заспокоює і відбирає багато енергії, спалюючи надлишок адреналіну в кров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є суб'єкту можливість поринути у звичні справи, що сприяє поліпшенню настрою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йому змогу з'ясувати причину та знайти вихід із пробле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608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Типи підлеглих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мету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завданн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7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перевагу авторитарному керівн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отребу 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отному зв'язку та оцінці діяльності, що залежить від результа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має гроші як заохочення за гарну робот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че працює, коли є стимул працювати більше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е виконує роботу, яка може бути удосконален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такому випадку — це творчий 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истості, що одержує задоволення від вирішення проблеми)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із середнім ступенем ризику, несе відповідальність за результат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ує енергію на досягнення ціле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 ініціативу й не любить дріб'язкової опік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 своє прагнення досягти мети залежно від реальності успіху або невдач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7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демократичном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ерівников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є зворотного зв'язку, оцінки. Відчуває потребу у схваленні його особистих дій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і, які можна заробити додатково, сприймає як «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аведливі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рутинній і «стабільній» роботі, що не вимаг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іпшення. Не виявля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сті й одержує задоволення ві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я завдання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9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з високим або низьким ризиком. Має потребу 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данні, уникає оцінюван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 якості його пра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кусує індивідуальну енергію на ме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 виконує директив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ою мірою виявляє прагнення д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оч-ног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фортно почуває себе в стабільній обстановці, за усталених правил і процедур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увати свій статус і влад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авати право вільного графіка робо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ювати зворотний зв'язок та оцінювати діяльність підлеглого за результатами робо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кати демонстрування статусу й влад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нормований робочий день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увати схвалення індивідуальних зусиль у процесі роботи над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ям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атеріальне стимулювання та виробити критерій оцінювання ефективності досягнення ме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завдання, що потребують творчого підходу та самостійності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ювати чіткі к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ії стимулювання, розро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и систему матеріал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о та нематеріального заохочення за успішне виконання завданн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рутинну роботу, шо не вимагає інноваційних підход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вати право на помилк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ожливість обговорення деталей виконання завдання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796400"/>
            <a:ext cx="81630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ртованістю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називають близькі стосунки між її членами, їх готовність підтримувати один одного.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77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альний склад групи — це п'ять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осіб!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9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півпрацюють у групах, перебуваючи в стосунках повної взаємозалежн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однієї групи підпорядковують свою поведінку загальноприйнятим у групі нормам і домагаються спільної ме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мають неоднакові функції. Усі вони є спеціалізова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и є членами одночасно багатьох груп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часові й випадкові груп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818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71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кі групи є вільними, інші мають обов'язковий характер (родина, нація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і групи можуть бути формальними і неформаль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ти за нормами групи завжди важко, особливо ззовн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групи чинять тиск на своїх членів, щоб змусити їх дотримуватися групових норм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здатна приймати більш ризиковані рішення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член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7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в цілому породжують менше ідей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и; однак група продукує кращі ідеї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бк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бічною оцінко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ді виникають конфлікти між групами й усередині груп (ми і вони). Конфлікти можуть бути особисті, міжособистісні, міжгрупові, соціальні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132640"/>
            <a:ext cx="87296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ізаці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– це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ічн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'єднання групи індивідів (двох і більше), діяльність яких свідомо координує суб'єкт управління, щоб упорядкувати спільну діяльність та успішно досягнути спільної мети.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9:29:22Z</dcterms:created>
  <dc:creator>User</dc:creator>
  <dc:description/>
  <dc:language>en-US</dc:language>
  <cp:lastModifiedBy>Ljuba</cp:lastModifiedBy>
  <dcterms:modified xsi:type="dcterms:W3CDTF">2014-10-07T08:31:30Z</dcterms:modified>
  <cp:revision>26</cp:revision>
  <dc:subject/>
  <dc:title>СОЦІАЛЬНО-ПСИХОЛОГІЧНІ ПРОБЛЕМИ ГРУПОВОЇ ДІЯЛЬНОСТІ </dc:title>
</cp:coreProperties>
</file>