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965-0BE2-4328-98C0-1C694717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FBF-9698-4AF0-9B88-7E6E4DBD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B16-367E-49A0-ACF4-5D275FDA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69B-C30F-4326-8683-FDF32B3B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B88-9FF1-4000-8D3F-AA3396FA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53F-588D-4EFF-9DCE-C9A9D491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ADC-5506-494A-9FE7-083FF7AD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257-7D66-480E-ABDE-DE35C423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19F-1E77-4D6D-B0CF-5E04BFEB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709-274B-4D0F-AEFA-68F39789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AA1-1A0A-425A-8B96-13B96565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997-A9A4-45CA-93D1-860381D3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B371-B1E2-4B67-9454-74ED5FD4D2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cecff"/>
                </a:solidFill>
                <a:latin typeface="Times New Roman"/>
              </a:rPr>
              <a:t>Система роботи з персоналом</a:t>
            </a:r>
            <a:br>
              <a:rPr sz="6000"/>
            </a:br>
            <a:r>
              <a:rPr b="0" lang="uk-UA" sz="6000" spc="-1" strike="noStrike">
                <a:solidFill>
                  <a:srgbClr val="ccecff"/>
                </a:solidFill>
                <a:latin typeface="Times New Roman"/>
              </a:rPr>
              <a:t>та основи кадрового плануванн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182920"/>
            <a:ext cx="640080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оц. Погоріляк Р.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Кадровий дефіци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снує диспропорція в забезпеченні фахівцями спеціалізованої медичної допомоги (89%) і первинної медико-санітарної допомоги (ПМСД) — 11%. У Європі ця пропорція становить 60% до 40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тже, у сфері охорони здоров'я відповідно до зведеного штатного розкладу не вистачає майже 20% лікарів — фізичних осіб, і </a:t>
            </a: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майже кожна десята штатна лікарська посада є сьогодні вакантн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cecff"/>
                </a:solidFill>
                <a:latin typeface="Arial"/>
              </a:rPr>
              <a:t>продовженн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значені тенденції щодо скорочення кількості лікарів найгостріше спостерігаються за так званими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дефіцитними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 спеціальностями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, зокрема лікарів ПМСД, та за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географічною ознакою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— у сільській місцевост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Тобто на фоні зростаючого кадрового дефіциту у загальній структурі лікарів існує приховане скорочення </a:t>
            </a: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итомої ваги фахівців лікувального профі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cecff"/>
                </a:solidFill>
                <a:latin typeface="Times New Roman"/>
              </a:rPr>
              <a:t>План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адрові ресурси охорони здоров'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адрова полі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Планування персонал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Формування кадрового резер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кщо запитати у керівника медичної установи, що є найскладнішим у роботі організатора охорони здоров'я, він, не розмірковуючи, відповість — це управління персоналом. Дійсно, людський фактор у медицині є найважливішим. Від компетентності кадрів, їх організованої роботи, нарешті, атмосфери на робочому місці залежить здоров'я пацієнт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8720" y="277920"/>
            <a:ext cx="766296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Кадрові ресурси охорони здоров'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Медичні кадри є однією з найважливіших складових ресурсів охорони здоров'я будь-якої країни, які забезпечують ефективність діяльності медичної сфери в цілому, що робить трудовий потенціал пріоритетом у функціонуванні охорони здоров'я як системи, де кадрова стратегія будується з урахуванням національних потреб, оптимальних заходів управління персоналом, світового досві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cecff"/>
                </a:solidFill>
                <a:latin typeface="Arial"/>
              </a:rPr>
              <a:t>продовженн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 даними Всесвітньої організації охорони здоров'я (ВООЗ) аналіз основних тенденцій розвитку трудових ресурсів за останні роки свідчить, що багатьма урядами здійснюються конкретні дії щодо формування системи ефективного менеджменту кадр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355320"/>
            <a:ext cx="792972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продовженн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учасна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кадрова стратегія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охорони здоров'я в розвинутих країнах світу базується на відповідальност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ержавних органів влад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успільства (зокрема професійних медичних асоціацій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Уряди цих країн намагаються регулювати трудові ресурси, визначати та задовольняти реальні потреби в кадрах охорони здоров'я, а також здійснювати підтримку та контроль заходів у сфері їх підготовки і результативного використан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Розвиток трудових</a:t>
            </a:r>
            <a:r>
              <a:rPr b="1" lang="uk-UA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ресурсів </a:t>
            </a:r>
            <a:r>
              <a:rPr b="0" lang="uk-UA" sz="4000" spc="-1" strike="noStrike">
                <a:solidFill>
                  <a:srgbClr val="ccecff"/>
                </a:solidFill>
                <a:latin typeface="Times New Roman"/>
              </a:rPr>
              <a:t>базується на таких </a:t>
            </a: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принципа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доволення потреби у кваліфікованих і досвідчених кадрах з урахуванням досягнень медичної нау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ропорційний розподіл за територіє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рівень надання медичної допомог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безпечення кадрів роботою тощ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ерспектива інтегрування</a:t>
            </a:r>
            <a:r>
              <a:rPr b="1" lang="uk-UA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ccecff"/>
                </a:solidFill>
                <a:latin typeface="Times New Roman"/>
              </a:rPr>
              <a:t>України в європейські структури потребує таких дій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бґрунтування концепці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розробки моделі та методологічних основ управління трудовими ресурсами охорони здоров'я на державному рівні та її підтримки на регіональном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прияння становленню нових форм співпраці щодо кадрового забезпечення галуз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ровідні фактори формування кадрових ресурсів охорони здоров'я в Україні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 результатами багатофакторного кореляційно-регресійного аналізу показників медичної системи виділено такі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провідні фактори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що мають значний вплив на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формування кадрових ресурсів охорони здоров'я в Україн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ип закла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ериторі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пеціальні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0:13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