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492-8CA8-4DA7-AD94-39F48324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7B3-A823-4479-A1E2-3677E803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D72-3DBD-442E-AB4B-9F791A32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09A-49A5-471D-86EF-0FF4120F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339-D8A8-47EC-80F5-E4E82DA1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876-DC25-4165-B41E-9D5612F0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8BE-9AAD-4C27-AE8D-3B9F69A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770-DD71-4470-BF93-2D23B335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600-D0E1-460D-A0B8-C7C48A1E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BD8-2FB6-4F14-8DD1-2D7B07FA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AD0-E1DD-4509-AB8F-26071B86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9F3-9549-4688-B4DA-B40CEE7B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BF47-8EC5-4422-90B0-A881779F1B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cecff"/>
                </a:solidFill>
                <a:latin typeface="Times New Roman"/>
              </a:rPr>
              <a:t>Система роботи з персоналом</a:t>
            </a:r>
            <a:br>
              <a:rPr sz="6000"/>
            </a:br>
            <a:r>
              <a:rPr b="0" lang="uk-UA" sz="6000" spc="-1" strike="noStrike">
                <a:solidFill>
                  <a:srgbClr val="ccecff"/>
                </a:solidFill>
                <a:latin typeface="Times New Roman"/>
              </a:rPr>
              <a:t>та основи кадрового плануванн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82920"/>
            <a:ext cx="640080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ц. Погоріляк Р.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Кадровий дефіци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снує диспропорція в забезпеченні фахівцями спеціалізованої медичної допомоги (89%) і первинної медико-санітарної допомоги (ПМСД) — 11%. У Європі ця пропорція становить 60% до 40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тже, у сфері охорони здоров'я відповідно до зведеного штатного розкладу не вистачає майже 20% лікарів — фізичних осіб, і </a:t>
            </a: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майже кожна десята штатна лікарська посада є сьогодні вакантн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ecff"/>
                </a:solidFill>
                <a:latin typeface="Arial"/>
              </a:rPr>
              <a:t>продовженн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значені тенденції щодо скорочення кількості лікарів найгостріше спостерігаються за так званими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дефіцитним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 спеціальностями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, зокрема лікарів ПМСД, та за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географічною ознакою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— у сільській місцевост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Тобто на фоні зростаючого кадрового дефіциту у загальній структурі лікарів існує приховане скорочення </a:t>
            </a: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итомої ваги фахівців лікувального профі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cecff"/>
                </a:solidFill>
                <a:latin typeface="Times New Roman"/>
              </a:rPr>
              <a:t>План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адрові ресурси охорони здоров'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адрова полі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ланування персона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Формування кадрового резер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кщо запитати у керівника медичної установи, що є найскладнішим у роботі організатора охорони здоров'я, він, не розмірковуючи, відповість — це управління персоналом. Дійсно, людський фактор у медицині є найважливішим. Від компетентності кадрів, їх організованої роботи, нарешті, атмосфери на робочому місці залежить здоров'я пацієнт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8720" y="277920"/>
            <a:ext cx="766296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Кадрові ресурси охорони здоров'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Медичні кадри є однією з найважливіших складових ресурсів охорони здоров'я будь-якої країни, які забезпечують ефективність діяльності медичної сфери в цілому, що робить трудовий потенціал пріоритетом у функціонуванні охорони здоров'я як системи, де кадрова стратегія будується з урахуванням національних потреб, оптимальних заходів управління персоналом, світового досві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ecff"/>
                </a:solidFill>
                <a:latin typeface="Arial"/>
              </a:rPr>
              <a:t>продовженн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 даними Всесвітньої організації охорони здоров'я (ВООЗ) аналіз основних тенденцій розвитку трудових ресурсів за останні роки свідчить, що багатьма урядами здійснюються конкретні дії щодо формування системи ефективного менеджменту кадр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55320"/>
            <a:ext cx="792972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продовженн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учасна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кадрова стратегія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хорони здоров'я в розвинутих країнах світу базується на відповідальност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ержавних органів влад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успільства (зокрема професійних медичних асоціацій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Уряди цих країн намагаються регулювати трудові ресурси, визначати та задовольняти реальні потреби в кадрах охорони здоров'я, а також здійснювати підтримку та контроль заходів у сфері їх підготовки і результативного використан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Розвиток трудових</a:t>
            </a:r>
            <a:r>
              <a:rPr b="1" lang="uk-UA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ресурсів </a:t>
            </a: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базується на таких </a:t>
            </a: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принципа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доволення потреби у кваліфікованих і досвідчених кадрах з урахуванням досягнень медичної нау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ропорційний розподіл за територіє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рівень надання медичної допомог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безпечення кадрів роботою тощ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ерспектива інтегрування</a:t>
            </a:r>
            <a:r>
              <a:rPr b="1" lang="uk-UA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України в європейські структури потребує таких дій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бґрунтування концепці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розробки моделі та методологічних основ управління трудовими ресурсами охорони здоров'я на державному рівні та її підтримки на регіональном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прияння становленню нових форм співпраці щодо кадрового забезпечення галуз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ровідні фактори формування кадрових ресурсів охорони здоров'я в Україні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 результатами багатофакторного кореляційно-регресійного аналізу показників медичної системи виділено такі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провідні фактори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що мають значний вплив на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формування кадрових ресурсів охорони здоров'я в Україн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ип закла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ериторі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пеціальні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0:13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