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FD633-34D6-4EFF-BD65-3BD391263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E877-9D06-46C0-9EA7-AABF97F4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C6648-25B5-4E10-B6A8-D91716FF7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9230D-B01A-4B62-8B04-CA0E3D02B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F0C63-3A4E-4F9F-A44F-46B10EB11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E7DD9-5303-47B9-91C1-E89D5C514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E2F4-3109-4248-A14B-B1937BBC8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FC99E-0CF8-4813-9645-DF430006A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27729-2426-4FA6-A217-5003B1D5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F0846-6717-48FD-AA77-6D4284E6B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4A75-ED88-4271-B586-F34C33D1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4AE84-A1FA-4FC2-B86B-CCD800CAE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3731-7FC5-46CA-9651-02C4B397CE3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2205000"/>
            <a:ext cx="7777080" cy="22885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ежим</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обочого часу</a:t>
            </a:r>
            <a:endParaRPr b="0" lang="en-US" sz="7200" spc="-1" strike="noStrike">
              <a:solidFill>
                <a:srgbClr val="000000"/>
              </a:solidFill>
              <a:latin typeface="Arial"/>
            </a:endParaRPr>
          </a:p>
        </p:txBody>
      </p:sp>
      <p:sp>
        <p:nvSpPr>
          <p:cNvPr id="4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187280" y="836640"/>
            <a:ext cx="648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68360" y="476280"/>
            <a:ext cx="8137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АВОВЕ РЕГУЛЮВАННЯ РОБОЧОГО ЧАС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4000" y="476280"/>
            <a:ext cx="835164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таття 52 КЗпП передбачає випадки встановлення на підприємстві </a:t>
            </a:r>
            <a:r>
              <a:rPr b="1" lang="uk-UA" sz="2800" spc="-1" strike="noStrike">
                <a:solidFill>
                  <a:srgbClr val="000000"/>
                </a:solidFill>
                <a:latin typeface="Arial"/>
              </a:rPr>
              <a:t>шестиденного робочого тижня. </a:t>
            </a:r>
            <a:r>
              <a:rPr b="0" lang="uk-UA" sz="2800" spc="-1" strike="noStrike">
                <a:solidFill>
                  <a:srgbClr val="000000"/>
                </a:solidFill>
                <a:latin typeface="Arial"/>
              </a:rPr>
              <a:t>На тих підприємствах, організаціях, де за характером виробництва та умовами роботи запровадження п'ятиденного робочого тижня є недоцільним, встановлюється шестиденний робочий тиждень з одним вихідним днем. При шестиденному робочому тижні тривалість щоденної роботи не може перевищувати 7 годин при нормі 40 годин і відповідно 6 годин при нормі 36 годин та 4 години при тижневій нормі 24 години</a:t>
            </a:r>
            <a:endParaRPr b="0" lang="en-US" sz="2800" spc="-1" strike="noStrike">
              <a:solidFill>
                <a:srgbClr val="000000"/>
              </a:solidFill>
              <a:latin typeface="Arial"/>
            </a:endParaRPr>
          </a:p>
        </p:txBody>
      </p:sp>
      <p:sp>
        <p:nvSpPr>
          <p:cNvPr id="10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8360" y="765000"/>
            <a:ext cx="81360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П'ятиденний або шестиденний робочий тиждень встановлюється роботодавцем спільно з профспілковим комітетом з урахуванням специфіки роботи, думки трудового колективу та за погодженням з місцевою радою</a:t>
            </a:r>
            <a:endParaRPr b="0" lang="en-US" sz="3600" spc="-1" strike="noStrike">
              <a:solidFill>
                <a:srgbClr val="000000"/>
              </a:solidFill>
              <a:latin typeface="Arial"/>
            </a:endParaRPr>
          </a:p>
        </p:txBody>
      </p:sp>
      <p:sp>
        <p:nvSpPr>
          <p:cNvPr id="10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8360" y="1197000"/>
            <a:ext cx="806436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Режим робочого часу — це порядок розподілу норми робочого часу протягом відповідного календарного періоду. Режим робочого часу встановлюється переважно локальними актами, хоча у деяких випадках він має визначатися і централізованим законодавством</a:t>
            </a:r>
            <a:endParaRPr b="0" lang="en-US" sz="3200" spc="-1" strike="noStrike">
              <a:solidFill>
                <a:srgbClr val="000000"/>
              </a:solidFill>
              <a:latin typeface="Arial"/>
            </a:endParaRPr>
          </a:p>
        </p:txBody>
      </p:sp>
      <p:sp>
        <p:nvSpPr>
          <p:cNvPr id="5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95280" y="476280"/>
            <a:ext cx="82803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а кожному підприємстві режим робочого часу передбачає встановлення:часу початку та закінчення роботи; тривалість перерв для відпочинку і харчування;тривалість і порядок чергування змін. Режим робочого часу є складовим елементом внутрішнього трудового розпорядку на підприємстві, а тому кожен працівник зобов'язаний його дотримуватися.</a:t>
            </a:r>
            <a:endParaRPr b="0" lang="en-US" sz="3200" spc="-1" strike="noStrike">
              <a:solidFill>
                <a:srgbClr val="000000"/>
              </a:solidFill>
              <a:latin typeface="Arial"/>
            </a:endParaRPr>
          </a:p>
        </p:txBody>
      </p:sp>
      <p:sp>
        <p:nvSpPr>
          <p:cNvPr id="5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95280" y="836640"/>
            <a:ext cx="81374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Розрізняють режим робочого часу, який встановлюється для працівників і режим роботи підприємства. Вони можуть співпадати або ж не співпадати. Трудове право регулює лише режим робочого часу працівників.</a:t>
            </a:r>
            <a:endParaRPr b="0" lang="en-US" sz="4000" spc="-1" strike="noStrike">
              <a:solidFill>
                <a:srgbClr val="000000"/>
              </a:solidFill>
              <a:latin typeface="Arial"/>
            </a:endParaRPr>
          </a:p>
        </p:txBody>
      </p:sp>
      <p:sp>
        <p:nvSpPr>
          <p:cNvPr id="6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404640"/>
            <a:ext cx="8064720" cy="563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Централізоване трудове законодавство визначає порядок запровадження на підприємстві режиму робочого часу, його найбільш важливі елементи, а також закріплює гарантії при застосуванні того чи іншого з його видів. Звичайно режим робочого часу на підприємстві закріплюється у колективних договорах, правилах внутрішнього трудового розпорядку, графіках змінності. Він може бути єдиним для всіх працівників підприємства або ж регулюватись у межах окремих підрозділів. Режим робочого часу може бути предметом індивідуально-договірного регулювання та визначатися сторонами при укладенні трудового договору.</a:t>
            </a:r>
            <a:endParaRPr b="0" lang="en-US" sz="2600" spc="-1" strike="noStrike">
              <a:solidFill>
                <a:srgbClr val="000000"/>
              </a:solidFill>
              <a:latin typeface="Arial"/>
            </a:endParaRPr>
          </a:p>
        </p:txBody>
      </p:sp>
      <p:sp>
        <p:nvSpPr>
          <p:cNvPr id="7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11280" y="1052640"/>
            <a:ext cx="784836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Залежно від сфери застосування режими робочого часу можна поділити на</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 </a:t>
            </a:r>
            <a:r>
              <a:rPr b="1" lang="uk-UA" sz="4800" spc="-1" strike="noStrike">
                <a:solidFill>
                  <a:srgbClr val="0033cc"/>
                </a:solidFill>
                <a:latin typeface="Arial"/>
              </a:rPr>
              <a:t>загальні </a:t>
            </a:r>
            <a:r>
              <a:rPr b="1" lang="uk-UA" sz="3200" spc="-1" strike="noStrike">
                <a:solidFill>
                  <a:srgbClr val="000000"/>
                </a:solidFill>
                <a:latin typeface="Arial"/>
              </a:rPr>
              <a:t>та</a:t>
            </a:r>
            <a:r>
              <a:rPr b="1" lang="uk-UA" sz="4800" spc="-1" strike="noStrike">
                <a:solidFill>
                  <a:srgbClr val="0033cc"/>
                </a:solidFill>
                <a:latin typeface="Arial"/>
              </a:rPr>
              <a:t> спеціальні</a:t>
            </a:r>
            <a:endParaRPr b="0" lang="en-US" sz="4800" spc="-1" strike="noStrike">
              <a:solidFill>
                <a:srgbClr val="000000"/>
              </a:solidFill>
              <a:latin typeface="Arial"/>
            </a:endParaRPr>
          </a:p>
        </p:txBody>
      </p:sp>
      <p:sp>
        <p:nvSpPr>
          <p:cNvPr id="7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8920" y="549360"/>
            <a:ext cx="655164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загальних режимах робочого часу розподіл норми тривалості робочого часу, при якому досягається її виконання, відбувається за тижневий або інший обліковий період. До загальних режимів робочого часу належать: п'ятиденний робочий тиждень, шестиденний робочий тиждень та сумований облік робочого часу.</a:t>
            </a:r>
            <a:endParaRPr b="0" lang="en-US" sz="3200" spc="-1" strike="noStrike">
              <a:solidFill>
                <a:srgbClr val="000000"/>
              </a:solidFill>
              <a:latin typeface="Arial"/>
            </a:endParaRPr>
          </a:p>
        </p:txBody>
      </p:sp>
      <p:sp>
        <p:nvSpPr>
          <p:cNvPr id="8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8360" y="333360"/>
            <a:ext cx="828036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и режимі з денним обліком робочого часу встановлена законом тривалість робочого часу реалізується протягом кожного робочого дня. Причому норма робочого дня при п'ятиденному чи шестиденному робочому тижні складає однакову кількість годин. Встановлена законом тижнева норма робочого часу реалізується в рамках кожного календарного тижня з повною кількістю робочих днів. При режимі, який базується на тижневому обліку робочого часу, тривалість щоденної роботи визначається розпорядком (графіком) і може бути неоднаковою в різні дні тижня.</a:t>
            </a:r>
            <a:endParaRPr b="0" lang="en-US" sz="2800" spc="-1" strike="noStrike">
              <a:solidFill>
                <a:srgbClr val="000000"/>
              </a:solidFill>
              <a:latin typeface="Arial"/>
            </a:endParaRPr>
          </a:p>
        </p:txBody>
      </p:sp>
      <p:sp>
        <p:nvSpPr>
          <p:cNvPr id="8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24000" y="981000"/>
            <a:ext cx="820872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йбільш поширеним є </a:t>
            </a:r>
            <a:r>
              <a:rPr b="1" lang="uk-UA" sz="2800" spc="-1" strike="noStrike">
                <a:solidFill>
                  <a:srgbClr val="000000"/>
                </a:solidFill>
                <a:latin typeface="Arial"/>
              </a:rPr>
              <a:t>п'ятиденний робочий тиждень </a:t>
            </a:r>
            <a:r>
              <a:rPr b="0" lang="uk-UA" sz="2800" spc="-1" strike="noStrike">
                <a:solidFill>
                  <a:srgbClr val="000000"/>
                </a:solidFill>
                <a:latin typeface="Arial"/>
              </a:rPr>
              <a:t>з двома вихідними днями. Тривалість щоденної роботи визначається правилами внутрішнього трудового розпорядку або графіками змінності. Виходячи із загальної норми тривалості робочого тижня 40 годин, робочий день може тривати 8 годин щоденно, або ж 8 годин 15 хвилин щоденно зі скороченням робочого часу на одну годину напередодні вихідного дня.</a:t>
            </a:r>
            <a:endParaRPr b="0" lang="en-US" sz="2800" spc="-1" strike="noStrike">
              <a:solidFill>
                <a:srgbClr val="000000"/>
              </a:solidFill>
              <a:latin typeface="Arial"/>
            </a:endParaRPr>
          </a:p>
        </p:txBody>
      </p:sp>
      <p:sp>
        <p:nvSpPr>
          <p:cNvPr id="9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3:01:54Z</dcterms:created>
  <dc:creator>user</dc:creator>
  <dc:description/>
  <dc:language>en-US</dc:language>
  <cp:lastModifiedBy>Ljuba</cp:lastModifiedBy>
  <dcterms:modified xsi:type="dcterms:W3CDTF">2014-10-07T08:29:42Z</dcterms:modified>
  <cp:revision>6</cp:revision>
  <dc:subject/>
  <dc:title>Слайд 1</dc:title>
</cp:coreProperties>
</file>