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DFE0-182F-4393-A18E-FAEFCE2EB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4032-2B53-4B0B-9898-ECEB56854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048-296C-4EA4-B3F4-C5F9259F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8F1-0DEB-479C-AD4D-BE166A4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711-080C-4F2D-8E90-B25F5BE6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C0A-642E-4699-A537-C98447B1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83FA-2838-4683-BB4F-F13210E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FA47-13CA-47DB-8EEA-6487B77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A127-A327-40C4-998A-6CE88F15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9D0-D30D-48C7-A797-FFB7780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AB50-857E-41EB-9A4E-7F72C22B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7750-BAED-45E3-AA36-ADD9688A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11AA-077B-47E6-BC07-4645579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C2D-09B9-439E-B1D2-1D1CF66C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3CB5-C03F-4D84-B84C-C79D7B0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867D-7DE2-4E36-AA1F-9040B67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74D-EC91-4AE7-B9AB-1D68598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06D-7037-4D19-BADC-1AD545D4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8CA8-3ADD-4E6F-A697-D6DBF683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61CD-A64C-48EB-87BE-7C681654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ECC3-8272-4DC0-9FB7-801FB70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5598-D0D2-440B-B0FE-129B9298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DBD3-B3CA-429F-969A-1631E9D3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8F65-F272-4B45-955D-39C34DCF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24A-E182-4877-AB5B-AF4EDE24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3DBD-6D3A-4E01-969C-7B109876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0C9F-7B66-4613-8618-2538590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7597-C1B1-4613-909A-E44CD0E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430C-9E41-460D-8C19-A675241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B82A-0726-4838-9A72-4EEF979F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7234-0173-46EF-88C3-FFC2AE08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F51A-9B92-49A4-87D3-3F208F63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CB36-29F6-44AB-895F-D53A4053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99C5-558A-436C-BBE3-330DDE8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61FF-6043-4C30-8666-2909F06C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E9D-B05B-4DF8-9DB9-333990C0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1EE4-1683-4BDF-B883-83B2D904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F4C5-AC63-4ABE-B6BD-61E72028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2DF6-CE19-4E29-A599-811EFFF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3E92-F612-464B-8F8A-24EF3D6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0D23-62CA-4122-9417-AB228A6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9DE9E-4233-4A99-AC12-C3CAF7F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5312-E96F-4127-A210-CD9A715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66AC-F558-4384-85F3-721B8528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FB91-A287-4667-B1DA-FB4101CE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1A8-40AD-4F4A-BB44-AE36748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74C-8AB4-476E-968B-694D5BBE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1EC-FA51-451E-B9EC-90955D77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70E-849A-4344-98AB-94AB462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CC9-88FD-4442-BCB9-BBFC38D9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4D15-93F4-4FE6-BD3E-276BAD1456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7EB8-161D-447A-8783-6F0E8C7DC1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247F-14F9-4A3E-8476-AE136F54C5F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058-50F2-421F-91CA-A2A41170E0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665280" y="704880"/>
            <a:ext cx="7948440" cy="466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4332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onstantia"/>
              </a:rPr>
              <a:t>доц. Качала Л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571680"/>
            <a:ext cx="7929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Медичн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тист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у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 практична діяльність, що вивчає показники стану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населення, його медичного забезпечення та результати діяльності закладів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у безпосередньому зв’язку з чинниками навколишнього середовища при провідному значенні соціальних фактор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Головна мета медичної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татистик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-  допомогти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яв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оціальні фактори,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вч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поясн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ї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Основні завдання</a:t>
            </a:r>
            <a:br>
              <a:rPr sz="4100"/>
            </a:b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 медичної </a:t>
            </a:r>
            <a:r>
              <a:rPr b="0" lang="ru-RU" sz="4100" spc="-1" strike="noStrike" u="sng">
                <a:solidFill>
                  <a:srgbClr val="04617b"/>
                </a:solidFill>
                <a:uFillTx/>
                <a:latin typeface="Calibri"/>
              </a:rPr>
              <a:t>статистик</a:t>
            </a: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и</a:t>
            </a:r>
            <a:r>
              <a:rPr b="0" lang="uk-UA" sz="4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ґрунтування нормативно-організаційних потреб у наданні окремих видів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закономірностей рівня здоров’я та якості медичн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загальнення результатів діяльності установ, лікарів, оцінка їх ефектив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таннє сприяє плановості в управлінні та контролю за діяльністю медичних заклад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сі ці задачі вирішуються не тільки кількісними вимірюваннями, але і викриттям закономірностей, де спрацьовує один із основних законів статистики – закон великих чисел Чебишева. Цей закон діє лише при достатньо великій кількості спостережень, тобто при масових дослідженнях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296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Загальна організація медичної та державної статистики в Україні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880"/>
            <a:ext cx="7758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основних понять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сторія становленн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едичної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нципи побудови і діяльності медико - статистичної служби Украї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налітична статистика: абсолютні, відносні, середні величини, їх визначення та застосування у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инамічні ряди – визначення, показники динамічного ряду, мета і   способи вирівнювання динамічного ря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етод стандартизації, застосування в практиці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реляційно - регресивний аналіз, застосування у практичній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00" y="853560"/>
            <a:ext cx="8258040" cy="50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Хто володіє інформацією, той володіє світо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. Ротшильд, У. Черчілль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4200" y="333360"/>
            <a:ext cx="8390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дним із головних у соціальній медицині є статистичний метод, який найчастіше і використовується у соціально – медичних та організаційних дослідженн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чним цей метод називається тому, що користується основними положеннями статистики – теорією ймовірності та законом великих чисе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лово “статистика” латинського походження, походить від слова “status” – держава, “statista” – особа, що займається державною справ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931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відноситься до суспільних наук. Вона вивчає масові суспільні явища і складені із них кількісні закономірності. Це о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єднує статистику з іншими суспільними науками – історією, політологією, економікою та інши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вищам суспільного життя притаманна кількісна визначеність, яка виражається в тому, що у кожний певний момент часу має певні кількісні характеристики, які постійно змінюю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Ця кількісна сторона масових суспільних явищ і складає предмет пізнання статистичної науки. Це має величезне явище для вирішення багатьох соціально – економічних та медичних питань, тому що достовірні дані статистики володіють великою доказовою сил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є наймогутнішим знаряддям соціального пізнання. Вона допомагає виявити важливі закономірності різноманітних явищ і процесів в економіці, соціальному житті суспільства в цілому та у медицині зокре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о неї звертаються як для підтвердження певних положень, так і для спростування сумнівн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па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тайте, чим більш розвинуте і цивілізоване суспільство, тим ввічливіше воно відноситься до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атисти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це наука, яка вивчає кількісну сторону масових суспільних явищ в нерозривному зв’язку з їх якісною стороною в конкретних умовах місця і ча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Етапи становлення біостатисти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й етап – початковий (стародавні часи - середин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ругий етап – описовий  (кінець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почато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ретій етап – математичний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X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ка</dc:creator>
  <dc:description/>
  <dc:language>en-US</dc:language>
  <cp:lastModifiedBy>Ljuba</cp:lastModifiedBy>
  <dcterms:modified xsi:type="dcterms:W3CDTF">2014-10-07T08:29:09Z</dcterms:modified>
  <cp:revision>47</cp:revision>
  <dc:subject/>
  <dc:title>Основи медичної статистики (БІОСТАТИСТИКИ)</dc:title>
</cp:coreProperties>
</file>