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E4F3-E838-47E2-99C5-A4EC61C3E0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3FB-7674-4688-9B30-47ED15793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919-0A1E-4AEB-9F59-EFD2893D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F6B-5CFD-49DF-BE75-A2B1F70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F2B-8B8D-4B69-BD57-C6A21AE5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886-414C-4E1F-B9BB-86EF0189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8B25-3CD4-4B8D-BB41-D974FE6C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4E7-E23D-4F14-991A-27D1945A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D909-13DB-45DC-958E-DCD253A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E7F7-4084-4A89-859C-D4A07DC6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E45-70E4-45BC-B6A1-D1A24142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6CFE-650D-4FC5-A1D8-3BA69E1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CE81-3F8C-4847-80B9-D8E50F1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372-8C52-4640-BFCD-E6DAB90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49B6-3840-46A7-AEAF-8AD529F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0302-301F-4744-B705-C0B5F06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D537-7341-408B-BD61-F246934B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2F58-064C-43CA-8C81-6DA753C0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8968-EC2D-4DB3-9743-035FC673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00FD-1F23-407E-8339-1FE40A94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2ECF-08E5-4F2A-91EE-3193C607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F46C-8643-41D5-9A15-C7119228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8A19-FAE1-4F39-864B-2DBEA232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E9F1-22B7-40D2-B3F4-A664EA75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140-7889-4E9C-999C-CB9A9102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E4C9-4B16-4158-B473-E9965AC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FFA5-9EB4-47DF-9E03-EA6DFBC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D09A-BF09-43A5-AFB9-224D121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39F0-4A7C-4003-A5E8-68C49854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9F7C-604E-42CD-9A89-2AC08868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26A2-8671-4654-8F65-B9C75C03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0145-1A88-4D08-BA95-06652F1F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4780-B32B-4B3E-BD74-0DB7DBD0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0030-A0F0-4F80-A1FF-977D811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3DCE-35EE-4F14-AE76-C878BA1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8A3-FF64-4399-8484-148FE04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B617-33F2-4340-9E9D-DB422CE5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5DD6-3BED-45F4-98B0-B8D5398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AE8F-F586-4B87-B852-D6708BB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53D5-8460-442D-B2CB-03E2D87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84FA-7ACD-4B99-B636-E1EED6C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73C1-C24E-465C-B725-03DA5064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1C23-30A9-4D5B-8FBE-BA366A23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FC15-A43D-4855-839B-DEA4E4A3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EF118-70F1-4424-93AC-0EB23803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F23-125A-4342-A4E7-054CA7C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6CC-2AFD-43E2-9385-01507B70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964-6008-4943-AABB-A9883ADA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61E-09C2-4E62-952A-1A5255F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0F2-227A-436C-86B4-AD750EC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5D71-CB52-4AC0-8C64-722474E4B8D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D3B-A3DB-4C9B-AC55-038A8A0C311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2528-3B50-40BC-9814-843A2EF6210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FAA-9C38-490A-A427-252C2EE4F97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665280" y="704880"/>
            <a:ext cx="7948440" cy="466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4332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onstantia"/>
              </a:rPr>
              <a:t>доц. Качала Л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571680"/>
            <a:ext cx="7929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Медичн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тист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у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 практична діяльність, що вивчає показники стану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населення, його медичного забезпечення та результати діяльності закладів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у безпосередньому зв’язку з чинниками навколишнього середовища при провідному значенні соціальних фактор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Головна мета медичної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татистик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-  допомогти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яв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оціальні фактори,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вч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поясн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ї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Основні завдання</a:t>
            </a:r>
            <a:br>
              <a:rPr sz="4100"/>
            </a:b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 медичної </a:t>
            </a:r>
            <a:r>
              <a:rPr b="0" lang="ru-RU" sz="4100" spc="-1" strike="noStrike" u="sng">
                <a:solidFill>
                  <a:srgbClr val="04617b"/>
                </a:solidFill>
                <a:uFillTx/>
                <a:latin typeface="Calibri"/>
              </a:rPr>
              <a:t>статистик</a:t>
            </a: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и</a:t>
            </a:r>
            <a:r>
              <a:rPr b="0" lang="uk-UA" sz="4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ґрунтування нормативно-організаційних потреб у наданні окремих видів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закономірностей рівня здоров’я та якості медичн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загальнення результатів діяльності установ, лікарів, оцінка їх ефектив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таннє сприяє плановості в управлінні та контролю за діяльністю медичних заклад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сі ці задачі вирішуються не тільки кількісними вимірюваннями, але і викриттям закономірностей, де спрацьовує один із основних законів статистики – закон великих чисел Чебишева. Цей закон діє лише при достатньо великій кількості спостережень, тобто при масових дослідженнях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296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Загальна організація медичної та державної статистики в Україні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880"/>
            <a:ext cx="7758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основних понять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сторія становленн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едичної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нципи побудови і діяльності медико - статистичної служби Украї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налітична статистика: абсолютні, відносні, середні величини, їх визначення та застосування у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инамічні ряди – визначення, показники динамічного ряду, мета і   способи вирівнювання динамічного ря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етод стандартизації, застосування в практиці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реляційно - регресивний аналіз, застосування у практичній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00" y="853560"/>
            <a:ext cx="8258040" cy="50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Хто володіє інформацією, той володіє світо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. Ротшильд, У. Черчілль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4200" y="333360"/>
            <a:ext cx="8390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дним із головних у соціальній медицині є статистичний метод, який найчастіше і використовується у соціально – медичних та організаційних дослідженн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чним цей метод називається тому, що користується основними положеннями статистики – теорією ймовірності та законом великих чисе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лово “статистика” латинського походження, походить від слова “status” – держава, “statista” – особа, що займається державною справ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931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відноситься до суспільних наук. Вона вивчає масові суспільні явища і складені із них кількісні закономірності. Це о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єднує статистику з іншими суспільними науками – історією, політологією, економікою та інши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вищам суспільного життя притаманна кількісна визначеність, яка виражається в тому, що у кожний певний момент часу має певні кількісні характеристики, які постійно змінюю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Ця кількісна сторона масових суспільних явищ і складає предмет пізнання статистичної науки. Це має величезне явище для вирішення багатьох соціально – економічних та медичних питань, тому що достовірні дані статистики володіють великою доказовою сил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є наймогутнішим знаряддям соціального пізнання. Вона допомагає виявити важливі закономірності різноманітних явищ і процесів в економіці, соціальному житті суспільства в цілому та у медицині зокре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о неї звертаються як для підтвердження певних положень, так і для спростування сумнівн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па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тайте, чим більш розвинуте і цивілізоване суспільство, тим ввічливіше воно відноситься до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атисти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це наука, яка вивчає кількісну сторону масових суспільних явищ в нерозривному зв’язку з їх якісною стороною в конкретних умовах місця і ча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Етапи становлення біостатисти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й етап – початковий (стародавні часи - середин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ругий етап – описовий  (кінець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почато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ретій етап – математичний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X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ка</dc:creator>
  <dc:description/>
  <dc:language>en-US</dc:language>
  <cp:lastModifiedBy>Ljuba</cp:lastModifiedBy>
  <dcterms:modified xsi:type="dcterms:W3CDTF">2014-10-07T08:29:09Z</dcterms:modified>
  <cp:revision>47</cp:revision>
  <dc:subject/>
  <dc:title>Основи медичної статистики (БІОСТАТИСТИКИ)</dc:title>
</cp:coreProperties>
</file>