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9F8D-9711-48AD-BDBD-AF690CB54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E9E2-024E-4229-99E1-7E2297966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0175-9304-480B-9E97-6A763CAAA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62F5-561E-4558-8142-7920B0797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753DB-4C48-4024-9683-A2466EC95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94370-4C7E-47BE-AA7F-AEB06E30B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444D5-DAC8-41CB-B89B-BAE489FAA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F7E24-EA46-464D-8D7B-A258F8706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8392B-AECB-4609-AF84-C638FCF10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280FA-99F6-4B38-A500-1B5855C74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9F079-E144-4EB0-BDCC-5420DA456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B204-7B5A-4459-9915-D29DE0C7C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39107-2C04-49C4-A582-63A9519FE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211F0-5713-44AD-82C2-79531F0FF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E5182-F067-486B-953B-A0ACBE2BF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40FEF-4698-4852-BCCF-F124B7D37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2FD74-8EF3-41A1-945D-04765B94E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52C0D7-855A-4999-9A86-6C96746D3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656C09-B884-449B-BAD1-B95355521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2CA0A6-D6EE-49F1-9014-3BC82649F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AFBD0D-13F3-4B94-B393-19870E9AE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9838DF-453B-48BD-A50B-821EF8F21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6454-5BB8-4BC4-AF07-82A70F62E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994DE0-8363-4155-B160-3219E74B5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51E97E-7D59-45F7-A016-5497E23D8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124E46-7AEB-4D0D-AD4A-D4C518578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0C37C3-008B-42EB-B9B9-C4A324D73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C51D2F-23C7-4697-A405-8CBD6E3D9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6E9C05-723A-4343-BCCB-4B582829B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F1D690-5828-4B2F-AE82-5462D26EC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45854-2D38-4F33-881C-6F8930194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2AD40-0419-49BC-88E6-E7721934F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CC573-914E-405E-BB3E-FE4581346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BB8B-F483-41A1-8AED-A12DCAE77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CC7C0-AD65-4F6F-B0E3-47FCB19CC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97345-C7C7-4A80-8D72-BFA77FF1E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9F2EC-F7D4-46D8-99FC-2AAB2449D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276FA-EF7D-4EE5-A4B7-60E16662F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FE0F9-50F2-49F0-9674-31AA6EF3A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64B2B-C416-4F67-A738-0EC651C5B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CE9CE-A6FC-4C92-A707-F9BE6CABC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CB1DC-4DCA-4D2F-BDD8-533ABFB83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935FF-D2DB-4E71-9D85-1DBB4CFB4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897EB2-1EB0-42D0-A514-3FE70E368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574C-A743-43C9-839B-374A57A55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682AE9-0D35-4948-A894-F772AF500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2DE5B4-8797-48A5-8690-0AD0FE20F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8EA17E-B24D-4692-8483-46628527A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5A782F-F2C8-4323-976F-6AD826F0D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41B5A2-1212-4213-948D-44AF82B82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273ECB-B159-41E2-AEC4-7CD097943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CE0FC0-1A4B-4477-BA01-C6793D7CD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1AFBC3-C327-4D76-983A-20988E867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65FAE5-E92D-46CA-8A31-9CE9A4D09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80F06E-D16F-4D79-99F9-E6AFC4D2F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60C8-7B93-41D1-A4AB-2D2B1E858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739A40-B92A-4733-82C0-BBBF3622D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5E85DA-5E6A-4CB2-AB90-A49756FC2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E979EE-6412-4CC8-A9EF-B206F90F5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F53F63-B9FD-40AA-AC36-37715A487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40CA6F-1F5F-4E97-953F-39C88E060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DCDA4B-8695-486A-86A7-639B94A0F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9BAF21-2015-443C-A005-C03A6BE2F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A97A06-0E6E-42D1-974B-FBFB17298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D68774-22C5-49EE-A0EB-6C630805A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D12B1F-40C1-4D95-B1B8-7FEA047C0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1602-1CBC-4C3B-A0BD-A2B4B849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91525E-1F07-4989-A383-175E2F349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5C59AD-72CC-4328-AB6E-2D1DDD496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6A7298-31A2-4B13-90D8-A6B1E35C9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50BBF1-CBEF-4360-A574-96C841015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4A3C78-C79D-4AAF-8D33-785666DE1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AF54B9-D5AE-496B-A3D8-C0CC4E9A2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2527A4-67E0-45D2-8874-2FAFF1F75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6007A7-0856-465C-9C0E-F96587A12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B27222-0B8E-4719-9C98-5FF43C147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0E657E-14BD-43D5-9C81-D8169AE8A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1F1E-5362-417F-A412-3A64DD46F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24BF0D-F75E-4F9B-9681-BEB8E95AB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BB74E8-4699-47A9-B8E2-B8291BEDA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8C714C-8022-4990-9B6D-A2DD141A2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913733-17A4-4921-9837-4B4EB5280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A4AD6E-4DB5-4E38-A956-9F9809C22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96C0-7033-4D7A-A982-B91422250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EAA3D-BC46-4935-A6C1-262CD8A1D81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47660-B527-4464-B3E2-AFD8F7CE755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0F452-3B43-4F2F-BBBA-3C8E5884BFD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60CF7-3F6F-4AC0-8E2D-521D48B6D6A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A5BF6-DC3C-4DDD-82BF-003D4CE1CDBB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5677D-EAF0-4643-B0E0-1174421E665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0CD43-0DF6-4F63-9EC6-C580E8C077C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22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575f6d"/>
                </a:solidFill>
                <a:latin typeface="Century Schoolbook"/>
              </a:rPr>
              <a:t>УЖГОРОДСЬКИЙ НАЦІОНАЛЬНИЙ УНІВЕРСИТЕТ</a:t>
            </a:r>
            <a:br>
              <a:rPr sz="2000"/>
            </a:br>
            <a:r>
              <a:rPr b="1" lang="uk-UA" sz="2000" spc="-1" strike="noStrike">
                <a:solidFill>
                  <a:srgbClr val="575f6d"/>
                </a:solidFill>
                <a:latin typeface="Century Schoolbook"/>
              </a:rPr>
              <a:t>ФАКУЛЬТЕТ ПІСЛЯДИПЛОМНОЇ ОСВІТИ</a:t>
            </a:r>
            <a:br>
              <a:rPr sz="2000"/>
            </a:br>
            <a:r>
              <a:rPr b="1" lang="uk-UA" sz="2000" spc="-1" strike="noStrike">
                <a:solidFill>
                  <a:srgbClr val="575f6d"/>
                </a:solidFill>
                <a:latin typeface="Century Schoolbook"/>
              </a:rPr>
              <a:t>КАФЕДРА ГРОМАДСЬКОГО ЗДОРОВ</a:t>
            </a:r>
            <a:r>
              <a:rPr b="1" lang="en-US" sz="2000" spc="-1" strike="noStrike">
                <a:solidFill>
                  <a:srgbClr val="575f6d"/>
                </a:solidFill>
                <a:latin typeface="Century Schoolbook"/>
              </a:rPr>
              <a:t>’</a:t>
            </a:r>
            <a:r>
              <a:rPr b="1" lang="uk-UA" sz="2000" spc="-1" strike="noStrike">
                <a:solidFill>
                  <a:srgbClr val="575f6d"/>
                </a:solidFill>
                <a:latin typeface="Century Schoolbook"/>
              </a:rPr>
              <a:t>Я</a:t>
            </a:r>
            <a:br>
              <a:rPr sz="2000"/>
            </a:br>
            <a:br>
              <a:rPr sz="3300"/>
            </a:br>
            <a:r>
              <a:rPr b="1" lang="uk-UA" sz="2800" spc="-1" strike="noStrike">
                <a:solidFill>
                  <a:srgbClr val="575f6d"/>
                </a:solidFill>
                <a:latin typeface="Century Schoolbook"/>
              </a:rPr>
              <a:t>ЛЕКЦІЯ НА ТЕМУ:</a:t>
            </a:r>
            <a:br>
              <a:rPr sz="2800"/>
            </a:br>
            <a:br>
              <a:rPr sz="3200"/>
            </a:br>
            <a:r>
              <a:rPr b="1" lang="uk-UA" sz="3200" spc="-1" strike="noStrike">
                <a:solidFill>
                  <a:srgbClr val="575f6d"/>
                </a:solidFill>
                <a:latin typeface="Century Schoolbook"/>
              </a:rPr>
              <a:t> СПІЛКУВАННЯ</a:t>
            </a:r>
            <a:br>
              <a:rPr sz="3200"/>
            </a:br>
            <a:r>
              <a:rPr b="1" lang="uk-UA" sz="3200" spc="-1" strike="noStrike">
                <a:solidFill>
                  <a:srgbClr val="575f6d"/>
                </a:solidFill>
                <a:latin typeface="Century Schoolbook"/>
              </a:rPr>
              <a:t> ЯК ОДИН ІЗ АСПЕКТІВ</a:t>
            </a:r>
            <a:br>
              <a:rPr sz="3200"/>
            </a:br>
            <a:r>
              <a:rPr b="1" lang="uk-UA" sz="3200" spc="-1" strike="noStrike">
                <a:solidFill>
                  <a:srgbClr val="575f6d"/>
                </a:solidFill>
                <a:latin typeface="Century Schoolbook"/>
              </a:rPr>
              <a:t> ЕФЕКТИВНОЇ ДІЯЛЬНОСТІ ЛІКАРЯ</a:t>
            </a:r>
            <a:br>
              <a:rPr sz="3300"/>
            </a:b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928760" y="4941720"/>
            <a:ext cx="37148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entury Schoolbook"/>
              </a:rPr>
              <a:t>Доц. Качала Л. О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575f6d"/>
                </a:solidFill>
                <a:latin typeface="Century Schoolbook"/>
              </a:rPr>
              <a:t>ФУНКЦІЇ СПІЛКУВАННЯ:</a:t>
            </a:r>
            <a:br>
              <a:rPr sz="4400"/>
            </a:b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інформаційно-комунікативна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(обмін інформацією);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регуляційно-комунікативна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(міжособистісна взаємодія);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афекційно-комунікативна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(розуміння людьми один одного);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психологічна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(функції емоційного задоволення від спілкування)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600" cy="112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575f6d"/>
                </a:solidFill>
                <a:latin typeface="Century Schoolbook"/>
              </a:rPr>
              <a:t>ЕФЕКТИ СПІЛКУВАННЯ:</a:t>
            </a:r>
            <a:br>
              <a:rPr sz="4000"/>
            </a:b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Century Schoolbook"/>
              </a:rPr>
              <a:t>Ефект «ореолу»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Century Schoolbook"/>
              </a:rPr>
              <a:t>Ефект «проектування»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-5400"/>
            <a:ext cx="822960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64296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00"/>
                </a:solidFill>
                <a:latin typeface="Century Schoolbook"/>
              </a:rPr>
              <a:t>Для того, щоб бути успішним, спілкування обов’язково передбачає зворотній зв'язок – отримання суб’єктом інформації  про результати взаємодії, виконує функцію контролю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uk-UA" sz="4000" spc="-1" strike="noStrike">
                <a:solidFill>
                  <a:srgbClr val="000000"/>
                </a:solidFill>
                <a:latin typeface="Century Schoolbook"/>
              </a:rPr>
              <a:t>і сприяє саморегуляції.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15480" cy="20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uk-UA" sz="4800" spc="-1" strike="noStrike">
                <a:solidFill>
                  <a:srgbClr val="575f6d"/>
                </a:solidFill>
                <a:latin typeface="Century Schoolbook"/>
              </a:rPr>
              <a:t>СПОСОБИ ПЕРЕДАЧІ ІНФОРМАЦІЇ:</a:t>
            </a:r>
            <a:br>
              <a:rPr sz="4800"/>
            </a:b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безпосереднє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або вербальне (словесне)  спілкування;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опосередковане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або невербальне (несловесне) спілкування.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-184680"/>
            <a:ext cx="822960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260280"/>
            <a:ext cx="8229600" cy="638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entury Schoolbook"/>
              </a:rPr>
              <a:t>Мовлення (вербальне спілкування) </a:t>
            </a:r>
            <a:r>
              <a:rPr b="0" lang="uk-UA" sz="3600" spc="-1" strike="noStrike">
                <a:solidFill>
                  <a:srgbClr val="000000"/>
                </a:solidFill>
                <a:latin typeface="Century Schoolbook"/>
              </a:rPr>
              <a:t>– особлива і найбільш досконала форма спілкування. Воно виконує основну функцію – комунікативну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Century Schoolbook"/>
              </a:rPr>
              <a:t>Комунікативна функція полягає в тому, що в процесі спілкування між людьми здійснюється двобічний обмін інформацією, емоціями, ідеями, можуть бути виражені симпатія і антипатія, які призводять до взаєморозуміння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Мовлення може бути діалогічне і монологічн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Century Schoolbook"/>
              </a:rPr>
              <a:t>Діалогічне мовлення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 підтримується взаємними репліками співрозмовників (бесіда лікаря і хворого, бесіда завідувача відділення з ординатором, головного лікар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із замісниками тощо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Century Schoolbook"/>
              </a:rPr>
              <a:t>Монологічне мовлення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 – заздалегідь підготовлений обсяг інформації (лекція, доповідь, виступ тощо). Воно потребує завершеної думки, суворої логіки та послідовності і тому є більш складним, ніж діалогічне, яке формується і корегується у процесі бесід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-145440"/>
            <a:ext cx="77868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6840" y="476280"/>
            <a:ext cx="7643880" cy="59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entury Schoolbook"/>
              </a:rPr>
              <a:t>Відкрите спілкування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 – це бажання і вміння повно виразити свою точку зору і готовність врахувати позицію пацієнта, дає змогу отримати найповніший обсяг необхідної інформації, але потребує значної кількості часу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-13680"/>
            <a:ext cx="746748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125000"/>
            <a:ext cx="7467480" cy="53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entury Schoolbook"/>
              </a:rPr>
              <a:t>Закрите спілкування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 застосовується лікарями, коли значна різниця у ступені предметної компетентності пацієнта, вважаючи безглуздим витрачати час і зусилля на підняття компетентності пацієнта. Таку стратегію часто обирають лікарі, які не спроможні зрозуміло висловити свою точку зору та наявну інформацію. Зазвичай це по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’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язано з низьким рівнем професіоналізму або зі значним рівнем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синдрому вигорання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”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 лікаря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575f6d"/>
                </a:solidFill>
                <a:latin typeface="Century Schoolbook"/>
              </a:rPr>
              <a:t>ПЛАН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1" lang="uk-UA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Психологічні основи ділового спілкуванн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uk-UA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Основи службового етикету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3</a:t>
            </a:r>
            <a:r>
              <a:rPr b="1" lang="uk-UA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Конфліктні ситуації в колективі та управління ним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6840" y="1341000"/>
            <a:ext cx="7467480" cy="51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Лікар кожний день спілкується з пацієнтами, і від того, наскільки ефективним є це спілкування, часто залежить успіх його діяльності, позитивна психологічна налаштованість осіб, задіяних у спілкуванні. Це, в свою чергу, позначається на ефективності досягнення поставленої мети. Ще Стендаль у свій час казав: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Уміння вести розмову – це талант.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”</a:t>
            </a: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У спілкуванні розкривається суб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’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єктивний світ однієї людини для іншої. Потреба у спілкуванні є однією з основних (базових) потреб людин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Згадаймо глибокий вислів французького письменника Антуана де Сент Екзюпері, що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1" lang="uk-UA" sz="2400" spc="-1" strike="noStrike">
                <a:solidFill>
                  <a:srgbClr val="000000"/>
                </a:solidFill>
                <a:latin typeface="Century Schoolbook"/>
              </a:rPr>
              <a:t>людське спілкування є найвищим благом і радістю у житті.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У процесі спілкування людина набуває тих рис, які притаманні іншим. Не випадково кажуть: із ким поведешся, того і наберешся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-99720"/>
            <a:ext cx="746748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3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39640" y="907920"/>
            <a:ext cx="74678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На превеликий жаль, сьогодні ми спостерігаємо зниження рівня спілкування серед людей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Фактори, які сприяють цьому явищу такі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Фактор особистісної автономії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Фактор урбанізації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Фактор масової комунікації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Фактор наживи й удавання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Фактор дегуманізації життя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Всі ці фактори призводять до розвитку своєрідного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1" lang="uk-UA" sz="2800" spc="-1" strike="noStrike">
                <a:solidFill>
                  <a:srgbClr val="000000"/>
                </a:solidFill>
                <a:latin typeface="Century Schoolbook"/>
              </a:rPr>
              <a:t>синдрому дискомунікації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”</a:t>
            </a:r>
            <a:r>
              <a:rPr b="1" lang="uk-UA" sz="2800" spc="-1" strike="noStrike">
                <a:solidFill>
                  <a:srgbClr val="000000"/>
                </a:solidFill>
                <a:latin typeface="Century Schoolbook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почуття самотності серед людей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комунікативна безпорадність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конфліктне спілкування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стомлення від спілкування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64296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entury Schoolbook"/>
              </a:rPr>
              <a:t>Спілкування</a:t>
            </a: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 – це складний процес </a:t>
            </a: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взаємодії двох або більше людей, </a:t>
            </a: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які перебувають у процесі </a:t>
            </a: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інформаційного взаємообміну </a:t>
            </a: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(інформаційного метаболізму)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У спілкуванні здійснюється своєрідна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презентація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”</a:t>
            </a: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 внутрішнього світу особистості. Саме тому спілкування виявляє певні людські властивості, розкриває, чого варта та чи інша людина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uk-UA" sz="33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uk-UA" sz="33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Саме тому є важливим розуміти, з яких компонентів складається спілкування, які є основні види спілкування і їх відмінності, а також, які засоби можна використати для досягнення максимальної комунікативної ефективності та збереження позитивного психологічного клімату в сфері спілкування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-5400"/>
            <a:ext cx="822960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40464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entury Schoolbook"/>
              </a:rPr>
              <a:t>Мета спілкування </a:t>
            </a: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– це те, заради чого людина проявляє цей вид активності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entury Schoolbook"/>
              </a:rPr>
              <a:t>Зміст спілкування </a:t>
            </a: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– це інформація, яка в міжособистісних контактах передається від одного учасника спілкування до іншого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entury Schoolbook"/>
              </a:rPr>
              <a:t>Засоби спілкування</a:t>
            </a: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 –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це різні варіанти передачі, перероблення та розшифровування інформації, яка передається у процесі спілкування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9T17:20:00Z</dcterms:created>
  <dc:creator>Ната</dc:creator>
  <dc:description/>
  <dc:language>en-US</dc:language>
  <cp:lastModifiedBy>Ljuba</cp:lastModifiedBy>
  <dcterms:modified xsi:type="dcterms:W3CDTF">2014-10-07T08:28:54Z</dcterms:modified>
  <cp:revision>40</cp:revision>
  <dc:subject/>
  <dc:title>Ужгородський національний університет Факультет післядипломної освіти Кафедра громадського здоров’я  ЛЕКЦІЯ на тему: “Соціально-психологічні основи  культури управління”</dc:title>
</cp:coreProperties>
</file>