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3F7-E84F-45A5-8C9E-EC597CFD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E11-C063-4753-9E31-F5B6859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776-9CC2-48B8-A260-C287A1A7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80B-3BFD-4A70-8F59-1164D0BB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99E3-F25D-4CF9-81BA-8F67AAC5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1BAD-33B2-4CC7-B2C3-A1AE095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FC70-8F43-46BE-A4A5-016D7EE4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6BC-27C4-4B4A-B894-99358161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C91-7BFA-40E3-A062-C5B80569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E03-77D9-4BA8-99C4-466132F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566-ADB0-4FC8-AD0C-B8D0F49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57D-6617-47D7-B086-A8ED2BB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8F44-FAC0-4469-A002-2243788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37D9-2C9D-4A65-9625-FD7210B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7B18-6F4F-4524-A2D1-77632513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14A1-385E-45E1-BAA9-01507204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AAA-8C7F-413E-84A1-A90E268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43859-1DC1-4776-B9BE-80ADEBC3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7A6D-BCF0-4062-BD5A-D5A0600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252F6-CE4A-4CCB-8DBA-FFC7D8F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62ED4-50CE-4C3F-90A7-2C2F794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F674E-C847-4E14-8A0C-5533EB5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E2D-2E90-4AAB-AD57-7E04C57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3B65-0EED-4966-B8D5-C67F0F7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701E6-3187-45B1-8831-C870ECB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3D076-E75F-4030-B9DC-E738E2EA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C8F39-5969-448B-88AD-1F5FE4D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BB645-964E-4CFD-BD21-8624A35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94CBD-E09A-4432-A6EC-E49782D3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CF8B4-DEA5-4068-8CB4-F335E1E4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E8A3-F197-4552-B136-27CFB2FA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0CCE-F282-4E69-B71F-E7D0E9E1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B5C7-4BC8-4C95-A2E7-5362D93E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F3C-82B2-465B-A32B-AE725AEF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B069-DBC7-4D6B-B2CA-BCF4556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AD22-F1E6-4664-AE4F-9FCE276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A6C9-53A5-4B0D-8F1F-DB1EF02A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EBCB-62A0-42FE-AF09-80B1436B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4B9E-0B01-47CC-AFD9-013EF0C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6200-FE8E-4531-9845-5DC203A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3D1A-E98E-4E85-B98A-8BCB6C9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8381-EE5D-4597-B6D9-20DA1182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39A3-8395-4EEE-95B9-ACF54D33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44C23-B580-42E0-8B22-0002E1F2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287-81FF-4ED1-9B9A-DA75913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D439C-3C05-46E9-BE59-CCD2E799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139DF-53E2-46AA-A02D-52D9F92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78974-E9FC-4322-8C31-40A12FAB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901D8-B5AF-42D4-895A-AEAD3F5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228BE-9D11-4CD8-8ED6-449B5AA4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6C3D6-91DB-4C2A-8703-4166E59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7136E-007A-4CF0-9C19-50331CE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99FB7-C07C-4D93-8599-CC7705A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B972E-3123-4F0A-BC2F-D2C28518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0C642-A445-47BA-B43A-433848D8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372-5B84-41EB-933C-E813EFA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BE8D6-34F3-4CF8-8B77-786970DC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4BCB5-E6AD-495E-B452-586A349D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0CDEC-BA84-4204-A748-66BE7B25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A544C-1162-4CEB-AB85-4004387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EA033-3F54-4A8F-AED6-54B8322F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3F499-1F5D-416D-A08C-90913AB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50172-7BD2-47EC-B888-925C335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5B2B4-FE90-42A0-A011-489C2CD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57224-B5F2-4C46-9D85-B7883B26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D01B8-E43C-4E27-A987-8F2D49E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406-378C-4AF0-83F4-C1A778A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C2ABA-EBD9-4471-8024-26AAFAF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AF4C6-A5DB-4839-8FBE-FDFE9040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F734E-3817-4176-B8E0-2A7D3F5F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174B4-983A-4A1C-B1C5-9699CFBB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A7873-1FA3-43B2-A3BC-8F179A2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AD476-EF45-49FF-B52E-78C3E3FE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11E1C-A314-456D-B4FB-17CA466C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373E1-26EC-4624-97E7-C49D01B7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CE54C-7342-49E3-8F89-47AAFC2A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75268-C067-4BDC-882D-59AB48D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92A-F530-4F4D-9710-3B8DA41B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07720-B639-4604-9595-93949219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50113-4602-4393-A68E-E72D8EA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FB511-5681-4CA9-B0CC-C33F291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D408B-8AE7-4EEB-BD71-9E9259D5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4D155-5D08-4CFA-AA2D-F81DA00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ED5-EF6A-4E22-B6B1-2382C78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868-3135-4626-B86B-A2BAA6CA68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253-82EA-46E7-B217-E1BD334B06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70B-5D15-4C86-9B6B-9F78851275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7F2-9715-47E9-95A8-BE79DE51F7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1D55-777C-4EAC-99D5-EE84499F1F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A02A-E598-47DA-ABD9-34543DFF70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73E-CCC7-4CBE-8C9A-AADA35765C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33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800"/>
            </a:b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СПІЛКУВАННЯ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ЯК ОДИН ІЗ АСПЕКТІВ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ЕФЕКТИВНОЇ ДІЯЛЬНОСТІ ЛІКАРЯ</a:t>
            </a:r>
            <a:br>
              <a:rPr sz="33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5f6d"/>
                </a:solidFill>
                <a:latin typeface="Century Schoolbook"/>
              </a:rPr>
              <a:t>ФУНКЦІЇ СПІЛКУВАННЯ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інформа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обмін інформацією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регуля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міжособистісна взаємодія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фек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розуміння людьми один одного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сихологіч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функції емоційного задоволення від спілкування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Century Schoolbook"/>
              </a:rPr>
              <a:t>ЕФЕКТИ СПІЛКУВАННЯ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ореолу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проектування»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Для того, щоб бути успішним, спілкування обов’язково передбачає зворотній зв'язок – отримання суб’єктом інформації  про результати взаємодії, виконує функцію контрол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і сприяє саморегуляції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575f6d"/>
                </a:solidFill>
                <a:latin typeface="Century Schoolbook"/>
              </a:rPr>
              <a:t>СПОСОБИ ПЕРЕДАЧІ ІНФОРМАЦІЇ: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езпосередн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вербальне (словесне)  спілкування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посередкован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невербальне (несловесне) спілкуванн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6028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Мовлення (вербальне спілкування) 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– особлива і найбільш досконала форма спілкування. Воно виконує основну функцію – комунікативн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Комунікативна функція полягає в тому, що в процесі спілкування між людьми здійснюється двобічний обмін інформацією, емоціями, ідеями, можуть бути виражені симпатія і антипатія, які призводять до взаєморозумінн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влення може бути діалогічне і монологіч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Діа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підтримується взаємними репліками співрозмовників (бесіда лікаря і хворого, бесіда завідувача відділення з ординатором, головного лік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із замісниками тощ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Моно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заздалегідь підготовлений обсяг інформації (лекція, доповідь, виступ тощо). Воно потребує завершеної думки, суворої логіки та послідовності і тому є більш складним, ніж діалогічне, яке формується і корегується у процесі бесі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7786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76438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ід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бажання і вміння повно виразити свою точку зору і готовність врахувати позицію пацієнта, дає змогу отримати найповніший обсяг необхідної інформації, але потребує значної кількості час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3680"/>
            <a:ext cx="746748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За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застосовується лікарями, коли значна різниця у ступені предметної компетентності пацієнта, вважаючи безглуздим витрачати час і зусилля на підняття компетентності пацієнта. Таку стратегію часто обирають лікарі, які не спроможні зрозуміло висловити свою точку зору та наявну інформацію. Зазвичай це по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зано з низьким рівнем професіоналізму або зі значним рівне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индрому вигоранн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лікар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ікар кожний день спілкується з пацієнтами, і від того, наскільки ефективним є це спілкування, часто залежить успіх його діяльності, позитивна психологічна налаштованість осіб, задіяних у спілкуванні. Це, в свою чергу, позначається на ефективності досягнення поставленої мети. Ще Стендаль у свій час казав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міння вести розмову – це талант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спілкуванні розкривається су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ивний світ однієї людини для іншої. Потреба у спілкуванні є однією з основних (базових) потреб люди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гадаймо глибокий вислів французького письменника Антуана де Сент Екзюпері, що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юдське спілкування є найвищим благом і радістю у житті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процесі спілкування людина набуває тих рис, які притаманні іншим. Не випадково кажуть: із ким поведешся, того і набереш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 превеликий жаль, сьогодні ми спостерігаємо зниження рівня спілкування серед люд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и, які сприяють цьому явищу такі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особистісної автоном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урбані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масової комунік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наживи й удав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дегуманізації житт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сі ці фактори призводять до розвитку своєрідн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дрому дискомунікації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чуття самотності серед люд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мунікативна безпорадніст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фліктне спілкуванн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томлення від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пілкуванн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– це склад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заємодії двох або більше людей,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і перебувають у процесі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нформаційного взаємообмін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(інформаційного метаболізму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 спілкуванні здійснюється своєрідн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резентаці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внутрішнього світу особистості. Саме тому спілкування виявляє певні людські властивості, розкриває, чого варта та чи інша людин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аме тому є важливим розуміти, з яких компонентів складається спілкування, які є основні види спілкування і їх відмінності, а також, які засоби можна використати для досягнення максимальної комунікативної ефективності та збереження позитивного психологічного клімату в сфері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Мета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те, заради чого людина проявляє цей вид активності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міст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інформація, яка в міжособистісних контактах передається від одного учасника спілкування до інш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асоби спілкува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це різні варіанти передачі, перероблення та розшифровування інформації, яка передається у процесі спілкуванн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54Z</dcterms:modified>
  <cp:revision>40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