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FF93-7499-4F99-8230-F25A1BF66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4258-D78A-46B1-9F91-F7E2C5255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95B0-63C9-4FF6-92BE-E0CD8FB82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7DCA-6661-4856-8A47-E4FADCFCC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28C9E-983D-47F9-8D54-34CBB01A4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6C22C-CB95-4117-81BE-22FD82874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DBC08-012F-418F-A08B-06A38BCA3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DC624-0817-45E9-8B02-1926E375F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E5C89-3C81-4751-86E0-0ADEEBEDC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E9BD4-80FE-451E-A2BE-DF61C71FD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6C65A-EFA5-4296-86A8-588083D31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EEC6-4F3C-4F6B-AEA0-0C9C0B8ED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9A50D-F649-4195-8207-3670389BA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3D184-30BD-45BD-A925-9790A24D0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210B0-2144-428C-BEA0-8F06477F3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18E7A-F803-4586-94E7-17E4A71C6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6B4FA-A565-4697-A604-84F650934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508B53-08CE-4241-8FBD-B8557D866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99A5DB-2BFE-4BFA-A552-F2B0FDC64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38E406-2BD1-485C-AC49-579D97C7C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E33CDC-FC88-4E2F-A71E-BB59FD380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F03BB7-B80F-4F86-A9D8-9EF29814B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EF46-6394-41DF-9483-2B5E2FE84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46C823-CFED-4D59-B89D-685516EBE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F69133-79CB-49A8-82BB-27F8B35FD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9EA31E-2266-4FA3-A86A-1AE911BBC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D7CCC6-6363-49AA-8457-04FA705B5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1CFAEF-D6BE-4EBD-A296-56C1E1E28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BE49DC-624B-4FD3-BC35-4F6A0BDCA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EED3DD-F430-497D-BD2D-00E798E72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8F7DB8-4DA3-4AFA-ABFD-7F76E41C0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6489EF-473B-4040-A776-FCEB7B6DD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2379A7-5ACC-432C-A625-7EB28DC10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0DAF-2F49-474A-9CBA-1572C7DE4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7E06CE-CFC0-4952-BAF3-5DC021A5B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F9EB7B-D961-471B-BC13-8EC55AD88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7FD2AF-24F6-4C8F-BA57-6DE48EAAD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D7605F-AAD1-430F-A73A-BEB8EAD3C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6955FB-9890-436E-A517-62DAAF2EA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6B50AA-2066-4093-ABAF-7A16A35B5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31F01A-80BE-4585-9F09-76CEE84FB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393B65-48A5-4E8E-943F-DF7280CD6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6DC178-ADED-44EC-BB96-B6DC7CDB6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FBED9C-3380-47F5-8EA2-E39747E6E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2FE9-EBD7-4A7C-8BAB-2F2EFBBA0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9FFE24-4A19-4C6C-8320-748486F14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C02C45-0FB1-4794-96DB-D34F41658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A0374E-26E0-480B-B080-E28DBF956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8AB119-7AE5-4F1F-963E-EB3AC31C1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E7D045-1075-42A2-8C7F-F90A06062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EE4692-00B9-436F-9593-81348C547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5EE191-11C1-4779-8D18-AA29DE866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A6E2FC-944F-4F7C-898D-D713E67C5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39B72F-961E-4E72-91DE-0A9B9EA08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890E63-002A-4222-A019-4D4FE6344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18AB-35E0-466C-9718-2F6F4725D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8B6925-4201-4EBA-9AA1-24247857C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F93E70-DA55-402B-AA43-C26462058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2A0AB3-708E-4013-85BC-A99888BC7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FA8357-AA88-4A77-B079-6665FEDB9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FE56E3-AF6D-414D-8062-4BE45C854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1981DC-1EE9-4AD1-8E43-1E8EC1EFE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A20C0C-E024-440B-BA47-05FA69744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3D7F9E-99B8-4065-BA29-0740201DA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D262C1-3EF3-4F7A-BB94-542DCE202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7EA05F-138D-47A2-9B7D-D9D7D6C93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9E67-2AAD-4721-A67E-AA36BD16F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CC3436-135B-4916-8458-BB5D89339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A863D4-060F-4789-96F2-A66EB7C88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4D4249-75F4-4579-81D7-95024D44A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59F255-91CC-4E2A-9D0D-5C542D75A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66698F-03D4-4402-9DBA-DF5AA90EA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1DD271-7C0C-4F03-AA56-9458CF59F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868F2A-CEED-4303-98F5-AC8936E22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1C1047-D1D6-40B5-9EC7-FCC467B8B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ABD807-BC32-4540-A775-93792E32B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B35F03-22E4-440A-9894-86921B51C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8E40-35F5-4B43-B5E2-69879E3ED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2A4EE0-EF34-4CDA-A416-1C7128249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FE3460-0AB7-46CB-99F7-30C65FA52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00D200-5AA1-4C11-A1A1-E0BF7A421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CC43F9-F78A-48D9-8168-7C277AF40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2052CA-B7F5-48A2-BFE3-8755E86BF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5A41-99A2-4A35-9E7B-E14AABE2F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452C8-14FA-4BB0-A05D-5B20D8841A7D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4D5F7-3613-4244-845D-D5B559545F8A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E25F4-78EA-4CEF-AD2C-1F324F6A48C7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BB1EA-60FF-4590-8598-48819A31344E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ECA1A-402C-41A9-8A61-73CA9D56DA9A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72534-49BB-4F7F-8C39-A90C227EB872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80769-B8D6-443B-B247-ACF60B905433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-243000"/>
            <a:ext cx="7772400" cy="524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572314"/>
                </a:solidFill>
                <a:latin typeface="Corbel"/>
              </a:rPr>
              <a:t>УЖГОРОДСЬКИЙ НАЦІОНАЛЬНИЙ УНІВЕРСИТЕТ</a:t>
            </a:r>
            <a:br>
              <a:rPr sz="2400"/>
            </a:br>
            <a:r>
              <a:rPr b="0" lang="uk-UA" sz="2400" spc="-1" strike="noStrike">
                <a:solidFill>
                  <a:srgbClr val="572314"/>
                </a:solidFill>
                <a:latin typeface="Corbel"/>
              </a:rPr>
              <a:t>ФАКУЛЬТЕТ ПІСЛЯДИПЛОМНОЇ ОСВІТИ</a:t>
            </a:r>
            <a:br>
              <a:rPr sz="2400"/>
            </a:br>
            <a:r>
              <a:rPr b="0" lang="uk-UA" sz="2400" spc="-1" strike="noStrike">
                <a:solidFill>
                  <a:srgbClr val="572314"/>
                </a:solidFill>
                <a:latin typeface="Corbel"/>
              </a:rPr>
              <a:t>КАФЕДРА ГРОМАДСЬКОГО ЗДОРОВ’</a:t>
            </a:r>
            <a:r>
              <a:rPr b="0" lang="en-US" sz="2400" spc="-1" strike="noStrike">
                <a:solidFill>
                  <a:srgbClr val="572314"/>
                </a:solidFill>
                <a:latin typeface="Gill Sans MT"/>
              </a:rPr>
              <a:t>Я</a:t>
            </a:r>
            <a:br>
              <a:rPr sz="2400"/>
            </a:br>
            <a:br>
              <a:rPr sz="2400"/>
            </a:br>
            <a:r>
              <a:rPr b="0" lang="uk-UA" sz="3200" spc="-1" strike="noStrike">
                <a:solidFill>
                  <a:srgbClr val="572314"/>
                </a:solidFill>
                <a:latin typeface="Corbel"/>
              </a:rPr>
              <a:t>Лекція на тему:</a:t>
            </a:r>
            <a:br>
              <a:rPr sz="3200"/>
            </a:br>
            <a:r>
              <a:rPr b="1" lang="ru-RU" sz="4300" spc="-1" strike="noStrike">
                <a:solidFill>
                  <a:srgbClr val="572314"/>
                </a:solidFill>
                <a:latin typeface="Corbel"/>
              </a:rPr>
              <a:t>“</a:t>
            </a:r>
            <a:r>
              <a:rPr b="1" lang="uk-UA" sz="4300" spc="-1" strike="noStrike">
                <a:solidFill>
                  <a:srgbClr val="572314"/>
                </a:solidFill>
                <a:latin typeface="Corbel"/>
              </a:rPr>
              <a:t>ПЛАНУВАННЯ В СИСТЕМІ ОХОРОНИ ЗДОРОВ’</a:t>
            </a:r>
            <a:r>
              <a:rPr b="1" lang="ru-RU" sz="4300" spc="-1" strike="noStrike">
                <a:solidFill>
                  <a:srgbClr val="572314"/>
                </a:solidFill>
                <a:latin typeface="Corbel"/>
              </a:rPr>
              <a:t>Я”</a:t>
            </a:r>
            <a:br>
              <a:rPr sz="4300"/>
            </a:b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4214880" y="4928760"/>
            <a:ext cx="428616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Проф. РОГАЧ І.М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-46440"/>
            <a:ext cx="8229600" cy="68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457200" y="115560"/>
            <a:ext cx="8229600" cy="652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46680" indent="-2682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Corbel"/>
              </a:rPr>
              <a:t>Планування в системі охорони здоров'я - </a:t>
            </a:r>
            <a:r>
              <a:rPr b="0" lang="uk-UA" sz="3200" spc="-1" strike="noStrike">
                <a:solidFill>
                  <a:srgbClr val="000000"/>
                </a:solidFill>
                <a:latin typeface="Corbel"/>
              </a:rPr>
              <a:t>одна із загальних функцій управління, вид управлінської діяльності, направленої на визначення цілей, ефективних методів, шляхів, засобів і етапів їх досягнення, необхідних ресурсів, витрат і результатів медичних закладів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Corbel"/>
              </a:rPr>
              <a:t>Актуальність планування </a:t>
            </a:r>
            <a:r>
              <a:rPr b="0" lang="uk-UA" sz="3200" spc="-1" strike="noStrike">
                <a:solidFill>
                  <a:srgbClr val="000000"/>
                </a:solidFill>
                <a:latin typeface="Corbel"/>
              </a:rPr>
              <a:t>полягає в тому, що воно дає повніше уявлення про обсяг медичних послуг та наявність медичної продукції на ринку і попит на неї, знання про дію економічних тенденцій та законів у реальній медичній практиці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-28800"/>
            <a:ext cx="8229600" cy="68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457200" y="356760"/>
            <a:ext cx="8229600" cy="628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Corbel"/>
              </a:rPr>
              <a:t>Прогнозування </a:t>
            </a:r>
            <a:r>
              <a:rPr b="0" lang="uk-UA" sz="3600" spc="-1" strike="noStrike">
                <a:solidFill>
                  <a:srgbClr val="000000"/>
                </a:solidFill>
                <a:latin typeface="Corbel"/>
              </a:rPr>
              <a:t>- процес передбачення, побудований на ймовірності, науково обґрунтованому судженні про перспективи розвитку медичного закладу в цілому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-46440"/>
            <a:ext cx="8229600" cy="68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457200" y="499680"/>
            <a:ext cx="8229600" cy="60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rbel"/>
              </a:rPr>
              <a:t>Планування як складова економічної науки ґрунтується на загальних взаємопов'язаних методах наукових досліджень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i="1" lang="uk-UA" sz="3200" spc="-1" strike="noStrike">
                <a:solidFill>
                  <a:srgbClr val="000000"/>
                </a:solidFill>
                <a:latin typeface="Corbel"/>
              </a:rPr>
              <a:t>екстраполяції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i="1" lang="uk-UA" sz="3200" spc="-1" strike="noStrike">
                <a:solidFill>
                  <a:srgbClr val="000000"/>
                </a:solidFill>
                <a:latin typeface="Corbel"/>
              </a:rPr>
              <a:t>порівняльному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i="1" lang="uk-UA" sz="3200" spc="-1" strike="noStrike">
                <a:solidFill>
                  <a:srgbClr val="000000"/>
                </a:solidFill>
                <a:latin typeface="Corbel"/>
              </a:rPr>
              <a:t>балансовому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i="1" lang="uk-UA" sz="3200" spc="-1" strike="noStrike">
                <a:solidFill>
                  <a:srgbClr val="000000"/>
                </a:solidFill>
                <a:latin typeface="Corbel"/>
              </a:rPr>
              <a:t>нормативному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i="1" lang="uk-UA" sz="3200" spc="-1" strike="noStrike">
                <a:solidFill>
                  <a:srgbClr val="000000"/>
                </a:solidFill>
                <a:latin typeface="Corbel"/>
              </a:rPr>
              <a:t>економіко - математичному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ПЛАН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Corbel"/>
              </a:rPr>
              <a:t>Загальноекономічний та управлінський аспекти планування в системі охорони здоров'я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Corbel"/>
              </a:rPr>
              <a:t>Основні види планування в системі охорони здоров'я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Gill Sans MT"/>
              </a:rPr>
              <a:t>3.</a:t>
            </a:r>
            <a:r>
              <a:rPr b="0" lang="uk-UA" sz="3200" spc="-1" strike="noStrike">
                <a:solidFill>
                  <a:srgbClr val="000000"/>
                </a:solidFill>
                <a:latin typeface="Corbel"/>
              </a:rPr>
              <a:t>  Планування потреби в персоналі та його структура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648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572314"/>
                </a:solidFill>
                <a:latin typeface="Corbel"/>
              </a:rPr>
              <a:t>Загальноекономічний та управлінський аспекти планування</a:t>
            </a:r>
            <a:br>
              <a:rPr sz="3600"/>
            </a:br>
            <a:r>
              <a:rPr b="1" lang="uk-UA" sz="3600" spc="-1" strike="noStrike">
                <a:solidFill>
                  <a:srgbClr val="572314"/>
                </a:solidFill>
                <a:latin typeface="Corbel"/>
              </a:rPr>
              <a:t> в системі охорони здоров'я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457200" y="1557000"/>
            <a:ext cx="8229600" cy="508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39480" indent="-2628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rbel"/>
              </a:rPr>
              <a:t>Перехід України від централізованого управління економікою до ринкових відносин сприяв удосконаленню системи управління в лікувально - профілактичних закладах, у т.ч. перебудові планування. З'ясовано, що в умовах ринкової економіки ті медичні заклади та установи, які належним чином здійснюють самостійно комплекс планової роботи, більше захищені економічно та соціально і досягають успіхів у своїй роботі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-99720"/>
            <a:ext cx="8229600" cy="68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7200" y="214200"/>
            <a:ext cx="8229600" cy="642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57480" indent="-27684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000000"/>
                </a:solidFill>
                <a:latin typeface="Corbel"/>
              </a:rPr>
              <a:t>План </a:t>
            </a:r>
            <a:r>
              <a:rPr b="0" lang="uk-UA" sz="3000" spc="-1" strike="noStrike">
                <a:solidFill>
                  <a:srgbClr val="000000"/>
                </a:solidFill>
                <a:latin typeface="Corbel"/>
              </a:rPr>
              <a:t>- оформлене управлінське рішення, яке включає кількісне відображення цілей та розробки шляхів їх досягнення. Іншими словами, це результат планування, мотивована модель дій, створена на основі кон'юнктурного прогнозу економічного середовища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i="1" lang="uk-UA" sz="3000" spc="-1" strike="noStrike">
                <a:solidFill>
                  <a:srgbClr val="000000"/>
                </a:solidFill>
                <a:latin typeface="Corbel"/>
              </a:rPr>
              <a:t>Основні розділи плану сфери охорони здоров'я такі: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orbel"/>
              </a:rPr>
              <a:t>а)</a:t>
            </a:r>
            <a:r>
              <a:rPr b="0" lang="uk-UA" sz="30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uk-UA" sz="3000" spc="-1" strike="noStrike">
                <a:solidFill>
                  <a:srgbClr val="000000"/>
                </a:solidFill>
                <a:latin typeface="Corbel"/>
              </a:rPr>
              <a:t>мережа медичних закладів;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orbel"/>
              </a:rPr>
              <a:t>б)</a:t>
            </a:r>
            <a:r>
              <a:rPr b="0" lang="uk-UA" sz="30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uk-UA" sz="3000" spc="-1" strike="noStrike">
                <a:solidFill>
                  <a:srgbClr val="000000"/>
                </a:solidFill>
                <a:latin typeface="Corbel"/>
              </a:rPr>
              <a:t>потреба підготовки кадрів для закладів системи охорони здоров'я;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orbel"/>
              </a:rPr>
              <a:t>в)</a:t>
            </a:r>
            <a:r>
              <a:rPr b="0" lang="uk-UA" sz="30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uk-UA" sz="3000" spc="-1" strike="noStrike">
                <a:solidFill>
                  <a:srgbClr val="000000"/>
                </a:solidFill>
                <a:latin typeface="Corbel"/>
              </a:rPr>
              <a:t>капітальне будівництво;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orbel"/>
              </a:rPr>
              <a:t>г)</a:t>
            </a:r>
            <a:r>
              <a:rPr b="0" lang="uk-UA" sz="30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uk-UA" sz="3000" spc="-1" strike="noStrike">
                <a:solidFill>
                  <a:srgbClr val="000000"/>
                </a:solidFill>
                <a:latin typeface="Corbel"/>
              </a:rPr>
              <a:t>матеріально - технічне забезпечення закладів охорони здоров'я;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orbel"/>
              </a:rPr>
              <a:t>д)</a:t>
            </a:r>
            <a:r>
              <a:rPr b="0" lang="uk-UA" sz="30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uk-UA" sz="3000" spc="-1" strike="noStrike">
                <a:solidFill>
                  <a:srgbClr val="000000"/>
                </a:solidFill>
                <a:latin typeface="Corbel"/>
              </a:rPr>
              <a:t>бюджет охорони здоров'я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-28800"/>
            <a:ext cx="8229600" cy="68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457200" y="642960"/>
            <a:ext cx="8229600" cy="59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Corbel"/>
              </a:rPr>
              <a:t>План медичного закладу </a:t>
            </a:r>
            <a:r>
              <a:rPr b="0" lang="uk-UA" sz="3200" spc="-1" strike="noStrike">
                <a:solidFill>
                  <a:srgbClr val="000000"/>
                </a:solidFill>
                <a:latin typeface="Corbel"/>
              </a:rPr>
              <a:t>- це завчасно розроблена система заходів, що передбачає цілі, зміст, збалансовану взаємодію ресурсів, обсяг, методи, послідовність і строки надання медичних послуг та реалізації продукції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-28800"/>
            <a:ext cx="8229600" cy="68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457200" y="642960"/>
            <a:ext cx="8229600" cy="59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rbel"/>
              </a:rPr>
              <a:t>Значення планування та його суть обґрунтував у 30 - х роках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XX</a:t>
            </a:r>
            <a:r>
              <a:rPr b="0" lang="uk-UA" sz="3200" spc="-1" strike="noStrike">
                <a:solidFill>
                  <a:srgbClr val="000000"/>
                </a:solidFill>
                <a:latin typeface="Corbel"/>
              </a:rPr>
              <a:t> ст.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uk-UA" sz="3200" spc="-1" strike="noStrike">
                <a:solidFill>
                  <a:srgbClr val="000000"/>
                </a:solidFill>
                <a:latin typeface="Corbel"/>
              </a:rPr>
              <a:t>А. Файоль: </a:t>
            </a:r>
            <a:r>
              <a:rPr b="0" i="1" lang="uk-UA" sz="3200" spc="-1" strike="noStrike">
                <a:solidFill>
                  <a:srgbClr val="000000"/>
                </a:solidFill>
                <a:latin typeface="Corbel"/>
              </a:rPr>
              <a:t>"</a:t>
            </a:r>
            <a:r>
              <a:rPr b="0" i="1" lang="uk-UA" sz="3200" spc="-1" strike="noStrike" u="sng">
                <a:solidFill>
                  <a:srgbClr val="000000"/>
                </a:solidFill>
                <a:uFillTx/>
                <a:latin typeface="Corbel"/>
              </a:rPr>
              <a:t>Управляти</a:t>
            </a:r>
            <a:r>
              <a:rPr b="0" i="1" lang="uk-UA" sz="3200" spc="-1" strike="noStrike">
                <a:solidFill>
                  <a:srgbClr val="000000"/>
                </a:solidFill>
                <a:latin typeface="Corbel"/>
              </a:rPr>
              <a:t> - це </a:t>
            </a:r>
            <a:r>
              <a:rPr b="0" i="1" lang="uk-UA" sz="3200" spc="-1" strike="noStrike" u="sng">
                <a:solidFill>
                  <a:srgbClr val="000000"/>
                </a:solidFill>
                <a:uFillTx/>
                <a:latin typeface="Corbel"/>
              </a:rPr>
              <a:t>передбачати</a:t>
            </a:r>
            <a:r>
              <a:rPr b="0" i="1" lang="uk-UA" sz="3200" spc="-1" strike="noStrike">
                <a:solidFill>
                  <a:srgbClr val="000000"/>
                </a:solidFill>
                <a:latin typeface="Corbel"/>
              </a:rPr>
              <a:t>"</a:t>
            </a:r>
            <a:r>
              <a:rPr b="0" lang="uk-UA" sz="3200" spc="-1" strike="noStrike">
                <a:solidFill>
                  <a:srgbClr val="000000"/>
                </a:solidFill>
                <a:latin typeface="Corbel"/>
              </a:rPr>
              <a:t>, а </a:t>
            </a:r>
            <a:r>
              <a:rPr b="0" i="1" lang="uk-UA" sz="3200" spc="-1" strike="noStrike">
                <a:solidFill>
                  <a:srgbClr val="000000"/>
                </a:solidFill>
                <a:latin typeface="Corbel"/>
              </a:rPr>
              <a:t>"</a:t>
            </a:r>
            <a:r>
              <a:rPr b="0" i="1" lang="uk-UA" sz="3200" spc="-1" strike="noStrike" u="sng">
                <a:solidFill>
                  <a:srgbClr val="000000"/>
                </a:solidFill>
                <a:uFillTx/>
                <a:latin typeface="Corbel"/>
              </a:rPr>
              <a:t>передбачати</a:t>
            </a:r>
            <a:r>
              <a:rPr b="0" i="1" lang="uk-UA" sz="3200" spc="-1" strike="noStrike">
                <a:solidFill>
                  <a:srgbClr val="000000"/>
                </a:solidFill>
                <a:latin typeface="Corbel"/>
              </a:rPr>
              <a:t> - це </a:t>
            </a:r>
            <a:r>
              <a:rPr b="0" i="1" lang="uk-UA" sz="3200" spc="-1" strike="noStrike" u="sng">
                <a:solidFill>
                  <a:srgbClr val="000000"/>
                </a:solidFill>
                <a:uFillTx/>
                <a:latin typeface="Corbel"/>
              </a:rPr>
              <a:t>вже</a:t>
            </a:r>
            <a:r>
              <a:rPr b="0" i="1" lang="uk-UA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i="1" lang="uk-UA" sz="3200" spc="-1" strike="noStrike" u="sng">
                <a:solidFill>
                  <a:srgbClr val="000000"/>
                </a:solidFill>
                <a:uFillTx/>
                <a:latin typeface="Corbel"/>
              </a:rPr>
              <a:t>майже</a:t>
            </a:r>
            <a:r>
              <a:rPr b="0" i="1" lang="uk-UA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i="1" lang="uk-UA" sz="3200" spc="-1" strike="noStrike" u="sng">
                <a:solidFill>
                  <a:srgbClr val="000000"/>
                </a:solidFill>
                <a:uFillTx/>
                <a:latin typeface="Corbel"/>
              </a:rPr>
              <a:t>діяти</a:t>
            </a:r>
            <a:r>
              <a:rPr b="0" i="1" lang="uk-UA" sz="3200" spc="-1" strike="noStrike">
                <a:solidFill>
                  <a:srgbClr val="000000"/>
                </a:solidFill>
                <a:latin typeface="Corbel"/>
              </a:rPr>
              <a:t>"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rbel"/>
              </a:rPr>
              <a:t>На початку 60 - х років у корпораціях набуло розповсюдження довгострокове, а на початку 70 - х р.р. - і стратегічне планування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7560"/>
            <a:ext cx="8229600" cy="68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457200" y="428400"/>
            <a:ext cx="8229600" cy="60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rbel"/>
              </a:rPr>
              <a:t>Недооцінка планування як основного виду управлінської діяльності та зведення його до мінімуму в системі охорони здоров'я призводить до зниження якісних показників і нормативів, а тому синтезувати позитивні елементи і планового, і ринкового регулювання необхідно в єдиному організаційно - правовому і медично - економічному механізмі системи охорони здоров'я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-28800"/>
            <a:ext cx="8229600" cy="68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457200" y="356760"/>
            <a:ext cx="8229600" cy="628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orbel"/>
              </a:rPr>
              <a:t>У зарубіжній літературі визначення планування трактуються 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uk-UA" sz="3200" spc="-1" strike="noStrike">
                <a:solidFill>
                  <a:srgbClr val="000000"/>
                </a:solidFill>
                <a:latin typeface="Corbel"/>
              </a:rPr>
              <a:t>по - різному, але по суті вони схожі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uk-UA" sz="3200" spc="-1" strike="noStrike">
                <a:solidFill>
                  <a:srgbClr val="000000"/>
                </a:solidFill>
                <a:latin typeface="Corbel"/>
              </a:rPr>
              <a:t>Наприклад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rbel"/>
              </a:rPr>
              <a:t>"планування - це системно - методичний процес пізнання і вирішення проблем майбутнього"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rbel"/>
              </a:rPr>
              <a:t>"під плануванням розуміють таке рішення, яке виробляється за часом раніше від    настання даних кон'юнктурних подій"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-46440"/>
            <a:ext cx="8229600" cy="68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457200" y="500040"/>
            <a:ext cx="8229600" cy="614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rbel"/>
              </a:rPr>
              <a:t>Поняття </a:t>
            </a:r>
            <a:r>
              <a:rPr b="0" i="1" lang="uk-UA" sz="3200" spc="-1" strike="noStrike">
                <a:solidFill>
                  <a:srgbClr val="000000"/>
                </a:solidFill>
                <a:latin typeface="Corbel"/>
              </a:rPr>
              <a:t>"планування діяльності підприємства"</a:t>
            </a:r>
            <a:r>
              <a:rPr b="0" lang="uk-UA" sz="3200" spc="-1" strike="noStrike">
                <a:solidFill>
                  <a:srgbClr val="000000"/>
                </a:solidFill>
                <a:latin typeface="Corbel"/>
              </a:rPr>
              <a:t> поєднує два аспекти. </a:t>
            </a:r>
            <a:r>
              <a:rPr b="0" lang="uk-UA" sz="3200" spc="-1" strike="noStrike" u="sng">
                <a:solidFill>
                  <a:srgbClr val="000000"/>
                </a:solidFill>
                <a:uFillTx/>
                <a:latin typeface="Corbel"/>
              </a:rPr>
              <a:t>Перший</a:t>
            </a:r>
            <a:r>
              <a:rPr b="0" lang="uk-UA" sz="3200" spc="-1" strike="noStrike">
                <a:solidFill>
                  <a:srgbClr val="000000"/>
                </a:solidFill>
                <a:latin typeface="Corbel"/>
              </a:rPr>
              <a:t> - загальноекономічний, з точки зору загальної теорії підприємства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uk-UA" sz="3200" spc="-1" strike="noStrike" u="sng">
                <a:solidFill>
                  <a:srgbClr val="000000"/>
                </a:solidFill>
                <a:uFillTx/>
                <a:latin typeface="Corbel"/>
              </a:rPr>
              <a:t>Другий</a:t>
            </a:r>
            <a:r>
              <a:rPr b="0" lang="uk-UA" sz="3200" spc="-1" strike="noStrike">
                <a:solidFill>
                  <a:srgbClr val="000000"/>
                </a:solidFill>
                <a:latin typeface="Corbel"/>
              </a:rPr>
              <a:t> – конкретно - управлінський, з погляду функцій менеджменту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2T15:15:35Z</dcterms:created>
  <dc:creator>Наталка</dc:creator>
  <dc:description/>
  <dc:language>en-US</dc:language>
  <cp:lastModifiedBy>Ljuba</cp:lastModifiedBy>
  <dcterms:modified xsi:type="dcterms:W3CDTF">2014-10-07T08:28:35Z</dcterms:modified>
  <cp:revision>17</cp:revision>
  <dc:subject/>
  <dc:title>УЖГОРОДСЬКИЙ НАЦІОНАЛЬНИЙ УНІВЕРСИТЕТ ФАКУЛЬТЕТ ПІСЛЯДИПЛОМНОЇ ОСВІТИ КАФЕДРА ГРОМАДСЬКОГО ЗДОРОВ’Я  Лекція на тему: “ПЛАНУВАННЯ В СИСТЕМІ ОХОРОНИ ЗДОРОВ’Я”</dc:title>
</cp:coreProperties>
</file>