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B06E-0977-4984-9C55-BDD0FFA21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CF53-27B1-4DFB-9B6D-3A077E89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A072-D7EF-4F06-BBDB-3BE905D9C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02EF-2373-4064-8B56-4AB154A91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AA59-5176-4B9C-B123-50287F28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A6C1-85F5-4A11-8C6F-E9348C6B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1BE8-CAC4-4BF3-B23E-E34ADEAF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C2C2-2E9E-425D-9254-8D835494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C884-3138-4FF5-8FF7-FF552ABF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D794-B9D5-4759-B6A6-E98A4997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34DE-2EDF-4D76-A654-6170CB37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F673-07B9-477D-8CC2-5F4A88E9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381F-A539-49AB-B37A-E2A9949F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91C41-35AD-4B28-820A-8B4FFA72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D3A7-94D7-45A7-9B97-874FBA1E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CD32-9D02-49CE-B59B-CE11AA616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AA2C-5F43-48A2-8F52-C744F7CC8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824A2-245A-4159-8C79-98999F313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CECAA-8B0C-405A-9ADA-DCF2D269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16D17-DCD2-4FED-89B0-C96B7028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5CA4F-7B90-4DE4-B8D4-856BF289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E55C4-9C64-4555-9189-A1679609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92DF-8F22-4925-A343-88143183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54B69-D142-4C20-A0EE-6B805221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ADCF6-1742-442B-96F1-119DA97C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45CB7-1905-4486-B39F-3FE7C299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A74FA-AC72-4180-98C7-EF505118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FAC9F-8D6E-49AB-949F-0D733480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3A740-A408-4A9D-A277-71D75FC03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04137-8F47-4529-89FF-34F072D0B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CBE94-071D-4B3A-8465-50ECB509E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C7637-2A7C-471D-85C3-1CF5DCCC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27BE4-61D9-4A6F-9BB8-3CFF8EF7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D070-AA18-42B3-AC44-4BBFE0E3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FC94C-1BAE-45AD-BF65-3E234600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DD5FB-2D00-46EC-8EC9-A4389A1E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21077-A54E-4D64-8BD5-2EC780B6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06D04-6300-44F1-B4E6-96B2471A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F6092-A395-4517-A6E5-6EC37837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A7B77-CA17-4810-8AF0-84084870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D9E03-6715-4668-877E-7F3E3FFA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3463F-5BC9-4C3D-B4D8-A699DDB5D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8BE93-9CA8-40C3-A034-1A924D07C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64AF6-6086-494C-B332-9312408F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1672-CCA3-4A25-889E-CCE3B708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09ACC-DE30-4FEF-99CA-5082DF31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0981D-BD5A-4D69-A346-646162F3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DFFF6-AE35-4F48-B371-68B39E17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D822D-657A-4B47-BDF7-6F82610F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AD019-76CE-4A4E-8E7B-6236680F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E70C2-47AE-46BB-BEAB-704BA854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3FD84-A55E-4CB4-8095-CB80CC8D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A08AD-D72F-4864-98EA-A6893608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2F9B5-FCC1-42D0-B412-26ACD611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15B1D-34FC-4E9E-B2B6-EA449EB0D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4BD3-A84E-4808-8101-D769F38E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74DAD-86DE-473B-AD0B-B6A36ACF2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BF6D8-C8CF-479F-8FA8-84EB6D171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89C5E-F9CD-46FB-9C24-99145EC0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0B2B8-80A6-47BF-9FAA-7EAA083B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36062-B691-4E93-91D4-B2E4DA66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EF9A0-FCE4-43B5-9D09-20B3764B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3AD54-EB49-4FFC-AAF3-DB3D1501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00427-8814-46F5-B96B-9CBAC830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850B4-FA7C-4B22-A350-600FA712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59AEE-4302-4362-B4BA-4850E76C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C2CA-3EA6-4C8F-865E-2747711D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2128F-56FC-4516-A0EA-8528032F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7EE7F-73B7-4A1D-AC30-ADEAFACCB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553F2-D6EA-4A14-A4EB-A0F74F1A2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21AB1-EF01-4EA7-80C3-39C567DEF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FBF42-9AA2-41BC-AA65-5A319180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7160E-664A-4FB9-B7C0-552F5140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B2760-0CBB-4957-A7D9-58972E4B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2F7A0-4DBF-4CD8-9394-C58FC13A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32012-470A-4496-B984-0969634F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0CD7F-0090-44F7-A1DD-599741AF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5836-9E88-43D1-852E-1A7AF077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23404-C78F-4D09-B00B-207A36DC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3E586-E9C8-4680-A378-50D1F110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54D66-65FA-4CDB-A9B3-7E576EEB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CF047-2912-45F0-B4F1-B6D891934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6A3B4-D02E-45C6-A5B9-6ECCED94D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3912-91F4-4651-8CE1-4800987A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A9CD-329F-4385-B61E-9F3D8D00C42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F11F-3146-48F0-980D-8BA9C6B39B9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6C80-50ED-40CC-9038-93392413BCD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A97A-5DB3-4148-8D16-C229AED6527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323E-499E-4833-96CF-0681424D4FB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CB1A-2106-440A-BBA4-485B55890A7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9D47-0BB3-4832-A3D8-0C29B58ECFB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-243000"/>
            <a:ext cx="7772400" cy="52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72314"/>
                </a:solidFill>
                <a:latin typeface="Corbel"/>
              </a:rPr>
              <a:t>УЖГОРОДСЬКИЙ НАЦІОНАЛЬНИЙ УНІВЕРСИТЕТ</a:t>
            </a:r>
            <a:br>
              <a:rPr sz="2400"/>
            </a:br>
            <a:r>
              <a:rPr b="0" lang="uk-UA" sz="2400" spc="-1" strike="noStrike">
                <a:solidFill>
                  <a:srgbClr val="572314"/>
                </a:solidFill>
                <a:latin typeface="Corbel"/>
              </a:rPr>
              <a:t>ФАКУЛЬТЕТ ПІСЛЯДИПЛОМНОЇ ОСВІТИ</a:t>
            </a:r>
            <a:br>
              <a:rPr sz="2400"/>
            </a:br>
            <a:r>
              <a:rPr b="0" lang="uk-UA" sz="2400" spc="-1" strike="noStrike">
                <a:solidFill>
                  <a:srgbClr val="572314"/>
                </a:solidFill>
                <a:latin typeface="Corbel"/>
              </a:rPr>
              <a:t>КАФЕДРА ГРОМАДСЬКОГО ЗДОРОВ’</a:t>
            </a:r>
            <a:r>
              <a:rPr b="0" lang="en-US" sz="2400" spc="-1" strike="noStrike">
                <a:solidFill>
                  <a:srgbClr val="572314"/>
                </a:solidFill>
                <a:latin typeface="Gill Sans MT"/>
              </a:rPr>
              <a:t>Я</a:t>
            </a:r>
            <a:br>
              <a:rPr sz="2400"/>
            </a:br>
            <a:br>
              <a:rPr sz="2400"/>
            </a:br>
            <a:r>
              <a:rPr b="0" lang="uk-UA" sz="3200" spc="-1" strike="noStrike">
                <a:solidFill>
                  <a:srgbClr val="572314"/>
                </a:solidFill>
                <a:latin typeface="Corbel"/>
              </a:rPr>
              <a:t>Лекція на тему:</a:t>
            </a:r>
            <a:br>
              <a:rPr sz="3200"/>
            </a:b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“</a:t>
            </a:r>
            <a:r>
              <a:rPr b="1" lang="uk-UA" sz="4300" spc="-1" strike="noStrike">
                <a:solidFill>
                  <a:srgbClr val="572314"/>
                </a:solidFill>
                <a:latin typeface="Corbel"/>
              </a:rPr>
              <a:t>ПЛАНУВАННЯ В СИСТЕМІ ОХОРОНИ ЗДОРОВ’</a:t>
            </a: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Я”</a:t>
            </a: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214880" y="4928760"/>
            <a:ext cx="428616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Проф. РОГАЧ І.М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46440"/>
            <a:ext cx="822960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115560"/>
            <a:ext cx="8229600" cy="65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orbel"/>
              </a:rPr>
              <a:t>Планування в системі охорони здоров'я - 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одна із загальних функцій управління, вид управлінської діяльності, направленої на визначення цілей, ефективних методів, шляхів, засобів і етапів їх досягнення, необхідних ресурсів, витрат і результатів медичних закладі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Актуальність планування 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полягає в тому, що воно дає повніше уявлення про обсяг медичних послуг та наявність медичної продукції на ринку і попит на неї, знання про дію економічних тенденцій та законів у реальній медичній практиці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-28800"/>
            <a:ext cx="822960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356760"/>
            <a:ext cx="8229600" cy="628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orbel"/>
              </a:rPr>
              <a:t>Прогнозування </a:t>
            </a:r>
            <a:r>
              <a:rPr b="0" lang="uk-UA" sz="3600" spc="-1" strike="noStrike">
                <a:solidFill>
                  <a:srgbClr val="000000"/>
                </a:solidFill>
                <a:latin typeface="Corbel"/>
              </a:rPr>
              <a:t>- процес передбачення, побудований на ймовірності, науково обґрунтованому судженні про перспективи розвитку медичного закладу в цілому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46440"/>
            <a:ext cx="822960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49968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Планування як складова економічної науки ґрунтується на загальних взаємопов'язаних методах наукових досліджень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екстраполяції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порівняльному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балансовому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нормативному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економіко - математичном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ЛАН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Загальноекономічний та управлінський аспекти планування в системі охорони здоров'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Основні види планування в системі охорони здоров'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Gill Sans MT"/>
              </a:rPr>
              <a:t>3.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 Планування потреби в персоналі та його структур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64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572314"/>
                </a:solidFill>
                <a:latin typeface="Corbel"/>
              </a:rPr>
              <a:t>Загальноекономічний та управлінський аспекти планування</a:t>
            </a:r>
            <a:br>
              <a:rPr sz="3600"/>
            </a:br>
            <a:r>
              <a:rPr b="1" lang="uk-UA" sz="3600" spc="-1" strike="noStrike">
                <a:solidFill>
                  <a:srgbClr val="572314"/>
                </a:solidFill>
                <a:latin typeface="Corbel"/>
              </a:rPr>
              <a:t> в системі охорони здоров'я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557000"/>
            <a:ext cx="822960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Перехід України від централізованого управління економікою до ринкових відносин сприяв удосконаленню системи управління в лікувально - профілактичних закладах, у т.ч. перебудові планування. З'ясовано, що в умовах ринкової економіки ті медичні заклади та установи, які належним чином здійснюють самостійно комплекс планової роботи, більше захищені економічно та соціально і досягають успіхів у своїй роботі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99720"/>
            <a:ext cx="822960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214200"/>
            <a:ext cx="8229600" cy="642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orbel"/>
              </a:rPr>
              <a:t>План </a:t>
            </a: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- оформлене управлінське рішення, яке включає кількісне відображення цілей та розробки шляхів їх досягнення. Іншими словами, це результат планування, мотивована модель дій, створена на основі кон'юнктурного прогнозу економічного середовища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uk-UA" sz="3000" spc="-1" strike="noStrike">
                <a:solidFill>
                  <a:srgbClr val="000000"/>
                </a:solidFill>
                <a:latin typeface="Corbel"/>
              </a:rPr>
              <a:t>Основні розділи плану сфери охорони здоров'я такі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а)</a:t>
            </a: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мережа медичних закладів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б)</a:t>
            </a: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потреба підготовки кадрів для закладів системи охорони здоров'я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в)</a:t>
            </a: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капітальне будівництво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г)</a:t>
            </a: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матеріально - технічне забезпечення закладів охорони здоров'я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д)</a:t>
            </a: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бюджет охорони здоров'я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28800"/>
            <a:ext cx="822960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64296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orbel"/>
              </a:rPr>
              <a:t>План медичного закладу 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- це завчасно розроблена система заходів, що передбачає цілі, зміст, збалансовану взаємодію ресурсів, обсяг, методи, послідовність і строки надання медичних послуг та реалізації продукції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28800"/>
            <a:ext cx="822960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64296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Значення планування та його суть обґрунтував у 30 - х роках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XX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ст.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А. Файоль: 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"</a:t>
            </a: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Corbel"/>
              </a:rPr>
              <a:t>Управляти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 - це </a:t>
            </a: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Corbel"/>
              </a:rPr>
              <a:t>передбачати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"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, а 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"</a:t>
            </a: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Corbel"/>
              </a:rPr>
              <a:t>передбачати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 - це </a:t>
            </a: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Corbel"/>
              </a:rPr>
              <a:t>вже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Corbel"/>
              </a:rPr>
              <a:t>майже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Corbel"/>
              </a:rPr>
              <a:t>діяти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"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На початку 60 - х років у корпораціях набуло розповсюдження довгострокове, а на початку 70 - х р.р. - і стратегічне плануванн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42840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Недооцінка планування як основного виду управлінської діяльності та зведення його до мінімуму в системі охорони здоров'я призводить до зниження якісних показників і нормативів, а тому синтезувати позитивні елементи і планового, і ринкового регулювання необхідно в єдиному організаційно - правовому і медично - економічному механізмі системи охорони здоров'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-28800"/>
            <a:ext cx="822960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356760"/>
            <a:ext cx="8229600" cy="628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rbel"/>
              </a:rPr>
              <a:t>У зарубіжній літературі визначення планування трактуються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uk-UA" sz="3200" spc="-1" strike="noStrike">
                <a:solidFill>
                  <a:srgbClr val="000000"/>
                </a:solidFill>
                <a:latin typeface="Corbel"/>
              </a:rPr>
              <a:t>по - різному, але по суті вони схожі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Corbel"/>
              </a:rPr>
              <a:t>Наприклад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"планування - це системно - методичний процес пізнання і вирішення проблем майбутнього"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"під плануванням розуміють таке рішення, яке виробляється за часом раніше від    настання даних кон'юнктурних подій"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46440"/>
            <a:ext cx="822960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50004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Поняття 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"планування діяльності підприємства"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поєднує два аспекти. 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Corbel"/>
              </a:rPr>
              <a:t>Перший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- загальноекономічний, з точки зору загальної теорії підприємств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Corbel"/>
              </a:rPr>
              <a:t>Другий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– конкретно - управлінський, з погляду функцій менеджмент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15:15:35Z</dcterms:created>
  <dc:creator>Наталка</dc:creator>
  <dc:description/>
  <dc:language>en-US</dc:language>
  <cp:lastModifiedBy>Ljuba</cp:lastModifiedBy>
  <dcterms:modified xsi:type="dcterms:W3CDTF">2014-10-07T08:28:35Z</dcterms:modified>
  <cp:revision>17</cp:revision>
  <dc:subject/>
  <dc:title>УЖГОРОДСЬКИЙ НАЦІОНАЛЬНИЙ УНІВЕРСИТЕТ ФАКУЛЬТЕТ ПІСЛЯДИПЛОМНОЇ ОСВІТИ КАФЕДРА ГРОМАДСЬКОГО ЗДОРОВ’Я  Лекція на тему: “ПЛАНУВАННЯ В СИСТЕМІ ОХОРОНИ ЗДОРОВ’Я”</dc:title>
</cp:coreProperties>
</file>