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F94-5407-4456-9F31-70F55264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3EF-302D-41D6-9DA4-6E87F80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C7F-F71C-4B3C-98EF-29985DB7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EC9-86BF-4F25-9DA1-08154832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685D-A1CD-4C71-9E90-53A8F39F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8034-30E6-4D56-A93E-B763BC3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933-FB9A-44CA-968A-E4D3600C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CF59-5D33-44CF-B613-A0EB072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393E-ED75-4FB8-BF45-DB98F3C0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7C9B-05AA-43A9-A612-EED0FF1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2AD-8ABD-41A7-BBCB-F26F93F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C0C-6198-4F86-9360-64DD1568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524D-EE69-4090-AE7B-76EA2F5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FAB-182F-475B-BC30-2FA46A7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77F-A483-4015-AE68-F80BD75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5380-D75A-4616-8937-41050339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5714-815E-4263-8896-65115DEC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E5654-7EC3-417E-84B4-D7038E69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04EF6-BD3F-4AB9-B011-48FBEB7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4219B-7F77-4529-B1AA-D886CC65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45361-27B4-4873-8B71-88A37863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C1834-2713-42AE-995A-668D5D6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3EE-5607-44E2-A7EA-AFBF9343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FBBB0-7D64-4754-A9EB-660529F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32DE5-6B58-4B33-BFD9-14C739D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21CE7-842B-4FAA-82F4-4681D07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8292B-5589-4A2A-9CE2-E38E1E1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D4AAC-8928-4941-9446-4E69AA89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D3EA0-2543-47EF-ABB7-76F28115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9A55C-0751-4C5E-B051-1A62EECB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97E42-F700-43A9-8E00-C7C49B6C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7BBE-EC22-449B-B031-09DAE4FB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A31E-CB4E-49F3-A478-6413E164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A24-A10A-4F59-A09A-8958D967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ADA7-628D-457F-995F-19F9555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E7EC-B2EA-4CBD-B92E-1BA3E9A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B651-7BD6-408E-BC21-A5A53C30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9CFE-168A-4C78-A24F-CA95C15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3A15-FF03-4BD8-8D2E-7FA66FE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A7DB-6291-4A38-B186-A7D5112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4FD1-386A-474E-AC22-DB44D8A1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607A-9098-4F68-ABDB-1C644E50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0B23-3A56-4910-9914-AE2FDE70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621EF-D31B-4FBB-B0DD-F5AC3875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021-B6F4-4C39-B3AB-2B4C7618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BCA2E-7FA3-4C55-AFDD-3D5982B1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D4DD4-A62F-42CD-8D38-70E691E9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691B0-9A32-48DF-9A6A-EBAADEE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DD6A0-052C-43AE-B32F-939B4D06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638BD-F655-4D98-BD82-552DD5F8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CC976-3AC6-474F-B7B9-A09987D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07097-4837-4C23-9A52-B91212A6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87261-A334-4E37-B0C9-CC2BC3F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8F36C-4D91-4D2B-BC38-7ABA290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B0E02-7590-46AD-ACF8-6A71F478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109-7359-4EF7-8AC8-DB84AD1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3E6A4-3490-49EA-8709-A3628A59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B8DC6-DC71-42BF-A2C8-57F97B4C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ACA13-D950-4E7E-94E3-F4A94D6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7EFBC-711C-4DFF-A37E-56B3A440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684BA-6DE7-4930-8972-9E39CCDB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602BD-BEC9-4F4D-823C-05A95C62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59056-8087-43FE-8EF1-FAD3390B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156BD-D34E-422D-B462-67784EB1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4253F-BCF7-41E3-83D4-74986879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079B7-7D79-4E51-A612-333D16E9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D59-C057-417B-B397-BBB0AB6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CBA82-B683-498E-912E-9F18A420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2D21A-4C15-4B07-8DE7-BE80D69B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A1521-48E3-469A-A237-36C0D9FF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8D7C2-1EE2-4E01-8B05-EF7B7E95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58076-6E65-4E6F-B46D-A4295CDC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34D28-CE53-4E20-A48F-07DB16D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F266C-F2A6-4738-806F-4483DFE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0E33D-246B-4DE0-B363-A016714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500E2-3795-42D9-854D-729B0592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5948E-5E8A-485F-94D3-1877A9D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FA0-F583-497E-8973-67BA320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64AA8-AC64-48A4-81CF-F308980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8EF26-47AB-4BF2-AA67-DE59181C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7255E-A6D7-4890-B397-01959A1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CDB70-0A6E-428A-B545-589110E9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06AFB-0E25-48E8-91BC-B04523A8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B6F-D7C2-4CE0-B8C4-DDF350A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EF01-4167-43E2-B50F-CBFC90356B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C9B-E057-4FF3-BF6C-F5F7EDE4834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0BB-8A2A-4995-B129-FB6CAF8A8C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4994-8BD9-4F9B-A391-9B1C109653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FCA-537C-4E18-A2D2-583A96155F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9AA9-E34C-41F4-8781-037EE754F2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659-1DCA-4592-AF5D-E50F5ACDE7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2900"/>
            </a:b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400"/>
            </a:br>
            <a:br>
              <a:rPr sz="28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КУЛЬТУРА УПРАВЛІННЯ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ЯК СКЛАДОВА ЧАСТИНА МЕНЕДЖМЕНТУ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В СИСТЕМІ ОХОРОНИ ЗДОРОВ</a:t>
            </a:r>
            <a:r>
              <a:rPr b="1" i="1" lang="en-US" sz="3200" spc="-1" strike="noStrike">
                <a:solidFill>
                  <a:srgbClr val="575f6d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Я</a:t>
            </a:r>
            <a:br>
              <a:rPr sz="3200"/>
            </a:br>
            <a:br>
              <a:rPr sz="29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600200"/>
          <a:ext cx="7467480" cy="16844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Розумне і природне дотримання прийнятих у суспільстві правил поведі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оважне ставлення до звичаїв і норм життєдіяльності інших людей і наро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Зрадлив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ідлабузництво, заздрощ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5405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правжня висока культура управління, як і культура особистості – це гармонія знань і морально-етичних якостей, які, безумовно, залежать від інтелектуально-культурних якостей особистості, що перебуває біля керма управлі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Культура управління включає в себе такі основні принцип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вибір форми поведінк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тиль і тактика поведінки з погляду моральних і єтичних цінност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особиста поведінка, міра її такту і відповідальності, як показники вияву і розвитку духовної культури особистості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фери і рівні поведінки за відповідними моральними нормами. Інакше кажучи, наскільки наші вчинки і поведінка не ображають інших, подобаються їм чи викликають заперечення, сприймаються схильно чи відкидаютьс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нарешті, що можна, а чого не можна дозволяти собі в певній ситуації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Для повноти методології культури управління як виду діяльності наведемо основні чинники, що впливають на її рівень. До них належа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загальнокультурного розвитку країни, її матеріальний і духовний стан у конкретний період розвитк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тан правової забезпеченості виробництва, всіх видів суспільно-корисної діяльності, адекватності  правових норм країни потребам конкретної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розвитку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та управління, стан його потенціалу,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язки  із зовнішнім середовищем, стан технології, його конкурентоспроможність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истема зовнішніх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язк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ів, зовнішніх “подразників”, які стосуються безпосередньо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кта управління, а звідси і конкретного виду управлінської діяльності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організаційно-правовий і організаційно-культурний порядок на підприємстві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рім того слід наголосити , що приведення о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а управління в заданий стан – не разова акція, а постійна щоденна діяльність, насамперед  профілактичного характеру, з попередженням можливих “збоїв” як у технологічному, так і в су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ивному напрямі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рацює не менеджер – працює режим, створений менеджером. І в цьому полягає можливість доскональної діяльності персоналу, в якій передбачено все: від надійної технології роботи до системи міжособистісних відноси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Усе це вимагає не просто іншого організаційного порядку в Україні, а й наявності кадрів, здатних працювати справді в демократичних умовах. Потрібен не тільки новий ступінь політичної культури управлінців,а й куди досконаліший рівень управлінського професіоналізму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-1695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У нашій країні до теперішнього часу керівник розглядається як посада, а не як професія, тому система освіти ще не зорієнтована належним чином на підготовку керівників – професіоналів, що призводить до зниження професіоналізму, стресам, психосоматичним захворюванн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це вміння досягати поставленої мети, використовуючи працю, інтелект та мотиви поведінк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нших люде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аб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- наука управління людьм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771516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Щоб управляти, необхідно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по-перш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впливати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а по-друг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бачити мету свого впливу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47592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Сучасний менеджмен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має  принципові особливості у порівнянні з 60-80 рокам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 орієнтований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на соціологізацію, психологізацію та активізацію людського фактор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4920" y="24768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це висококваліфікований спеціаліст, який володіє конкретною сумою знань і навичок у галузі сучасного менеджменту та комп’ютерних технологій і наділений достатньо широкими повноваженнями для того, щоб займатись самостійною управлінською діяльніст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етодологічні основи та ознаки культури управління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фесійний і соціально-психологічний портр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ерів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жен соціальний організм , як і кожен організм взагалі , поряд із загальними рисами, має свої особливості, що відображають характер поведінки кожної конкретної системи. Тому проблеми формування і реалізації моделі управління необхідно вирішувати диференційовано, як на макрорівні щодо окремих країн, так і на мікрорівні стосовно конкретних організацій з урахуванням сформованої в них організаційної культури і відповідних тенденцій розвитку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рганізаційна культура найбільше виявляється під час створення в них відповідної системи управління. Якщо, наприклад, якась система має організаційну культуру із “жіночим” началом, то стиль управління в ній більш демократичний, що характеризується колегіальністю у прийнятті рішень. В умовах організаційної культури з “чоловічим” началом стиль управління відрізняється авторитарністю, жорсткістю та одно-осібністю в прийнятті управлінських рішен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ам термін “культура управління” віднедавна здобув широке розповсюдження. Ним дедалі частіше користуються як наукові співробітники, так і практики. Саме тому передусім визначимо зміст цього терміну з урахуванням основних тенденцій розвитку наукового управлінського знання, вирішених та невирішених проблем у цій галуз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теорія раціональної організації роботи апарату управління, прищеплення йому найбільш ефективних засобів, форм і методів його праці, розкриття ролі культурного елементу в нь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765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входять завдання управлінцям-практикам про різні методи вирішення усіх можливих організаційно-управлінських проблем: навчити їх ставити мету й науково достовірно аналізувати труднощі, що заважають їх досягненню; показувати їм, як треба оцінювати переваги чи хиби управлінських рішен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як до явища організаційної культури належать і питання технологічного характеру, способи отримання і переробки інформації, визначення чисельності необхідних працівників апарата управління, підбір та розстановка кадрів тощ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ходячи із вищесказаного,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сукупність теоретичних та практичних положень, принципів і норм, що мають загальний характер і відносяться різною мірою до різних аспектів людської діяльност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 - важлива сфера впливу на свідомість, вчинки підлеглих, їхні помисли і бажання. Водночас вона є одним із вирішальних чинників успіху в управлінн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, втім, може стикатися з безкульту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м. Щоб краще зрозуміти можливість подібного зіткнення, звернімо увагу на характеристику цих антиподів, що наведені в табл.№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Таблиця № 1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-468360" y="1125360"/>
          <a:ext cx="208080" cy="39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125360"/>
          <a:ext cx="7467480" cy="543096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рівня культури управлі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безкульту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`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 Глибина розуміння життя інших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Широта мислення управлінц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Доброзичливість, людяність і гуманне ставлення до інши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Щирість і природність у поведінці, вчинках, здатність за будь-яких обставин залишатися самим собо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Правдивість і відверт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 Толерантність, чуйність і повага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 Скромність, розвинене почуття власної г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 Чемність, готовність відгукнутися на прохання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Поверховість, зазнайств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 Грубість і жорсток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 Словоблуддя і нечес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Непорядність і аморальність у  поведінц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Брехливість, підступ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Зневага, зверхнє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Байдужість, корисливе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Формально-поверхневе дотримання правил і норм поведін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18Z</dcterms:modified>
  <cp:revision>68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