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E43C-A0C8-49D0-BCB0-A04BF1D61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D25C-3656-49A5-8F86-F502009A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DD05-62F8-4CE3-8E98-E3E822A0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9B1C-4466-4553-8ECE-ADE29173B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2B04-D234-442A-BCD1-23FAF25A8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E87E2-BC01-4B9A-9797-6748C127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AC3D-281A-4FD2-B803-10B4382F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E284-348C-45A8-9FAD-1A31E6F9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A8CD-93E5-4EC8-BCC7-D0DDECC2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CD30-565F-4AB5-A0DB-9FE1E411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DA0A-7354-4899-B6B5-F974E91D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7A47-2707-4D52-A439-E4A66FF2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186C-1BD0-46B7-9FC7-D72AB7DF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6447-B911-42E1-8D6F-3101CC89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3843-9C64-4180-84E7-B9D23E48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CAE4-4553-49E6-A2A8-6D0EFF410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7724-51A6-4DBC-B2CB-E7C060B8C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A2CE24-08CC-4D50-9A4C-601FC67E5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C0594E-4A01-4009-9557-46BBCB81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1F5D07-D77A-4E4D-8969-27CDDF02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E38620-8C56-401A-A171-EBCC14C0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735011-14D3-4C7F-A484-B93317C5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A91D-3D00-423F-8EDE-9ADC0BA0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110DCB-7FC2-4C4B-BA47-F9953625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FCD5F7-FA27-4A63-9AAA-B32E7AEA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79402C-8D98-40D8-ABBB-C527B7C9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82286A-B0E4-43EB-9F7D-BDFDED6E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4E4EC8-53DC-4740-AE72-2B7A62C2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BEDA36-A077-4796-B2FA-13FE2978C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0BC7B0-29BD-4404-AE69-0C60E021D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6F52E-4B7D-45F6-AE2D-B25A9E53B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EDF9F-7D80-40EB-9303-B41ED684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AB8C8-898A-4E23-A98A-F011FBC4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52EF-D6E8-4829-B7A1-37288E09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D23F6-D1CD-4BD7-9F04-36A409DE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F1934-80F0-4799-A474-3D114E0F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EF95A-928D-4D7E-BF53-BA50957A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4DED7-7895-4EAA-8E3A-23542AD8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265B2-E62C-4CD8-A516-059FEC5B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1AFD7-7582-46DE-8633-DBDAD43C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A8AC1-C5AF-4AC1-AACA-3713CA56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5A418-E500-4A7C-9A26-25204CBBF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B5E95-FCA2-4078-8880-3B2F57885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D71A1A-C7E9-470F-B964-A55FA9CD1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F990-0DA4-4287-B975-5A6EABED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096130-3D09-4473-A909-122DF1CD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E5AE20-8528-4CD1-882D-A0F77FB4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6E3D01-F37F-4F10-BA16-6BDD0019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E224C6-901D-4D08-9495-0C0B94C3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9D43B9-2B47-4463-A5D9-25D54A37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BC9CD7-68D1-4413-A9EA-5D05761C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01B2FE-4716-475E-A59E-135FC5B4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F0C38E-122F-4503-AD42-C09B8883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E72E83-DCB9-4FA5-A41A-339EF6B8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DF5AC5-3002-498C-A171-7012DF2FD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D85B-1949-4FDF-86BD-DE7AC1B8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866F90-880A-4FA4-AB10-450156EC4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341013-B17E-40B1-803F-9282C17CC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E5FF5F-CE0A-4348-80EB-4F6CA660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5FF227-0B56-46CE-8B89-E04310D5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3F3EBB-B034-4BC4-B9A9-662FD50A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CFA2EF-4C64-47A6-8B34-7BB4B946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702E5E-4C0E-4D25-AD5D-927F7012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1FB533-AEB3-4423-8A35-29AB4450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47EB32-1BF7-4FCF-A2E7-46DFA860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261651-04C3-4B2A-8AE7-3E7B2DF3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A8C0-CDA4-4F39-8B6C-A5C2801E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06A115-2DF6-4E94-AAA4-981684CA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B1A599-0CF1-4D90-8679-1513C5F12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EC1CAD-2DD9-40BB-A478-F12DE4118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63ADDB-B2AE-4283-9AD9-9D912824B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28063B-4118-4687-B20E-F180C507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6E379A-A4D8-49A1-AFD1-9F080E26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23E1CE-E5E9-4483-B124-75EC73F9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210D54-D895-4B3C-9F2D-F851F79E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7175FD-5224-4DEB-B727-7A8AF3B6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D8783E-A16E-4476-B73E-5E545E33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0A90-CD94-432F-B9DE-DD0ED2DF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85BBCC-48E7-4493-B9BA-D19C9156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487978-E609-4831-8D08-FF24466E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CD25F0-A629-4F29-87BD-45770E48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51DC06-BAB6-4C76-9D75-082055726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3B7E88-04D5-4598-841A-9E878615C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E807-203C-4DAA-B1AF-A74617F5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6648-1CC3-4BA8-844A-6E69CAE3A6D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2436-1509-4BDE-B153-D64BADBE350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92C9-13EC-44F8-8205-B1E5E58E25A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2CA8-0CCF-4557-8BED-1FC14FF7395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6077-C8BA-4A98-8CDB-B4294880646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5089-57BB-4719-A6ED-C695AC36E42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E727-F282-4715-803A-99B446AD765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22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575f6d"/>
                </a:solidFill>
                <a:latin typeface="Century Schoolbook"/>
              </a:rPr>
              <a:t>УЖГОРОДСЬКИЙ НАЦІОНАЛЬНИЙ УНІВЕРСИТЕТ</a:t>
            </a:r>
            <a:br>
              <a:rPr sz="2000"/>
            </a:br>
            <a:r>
              <a:rPr b="1" lang="uk-UA" sz="2000" spc="-1" strike="noStrike">
                <a:solidFill>
                  <a:srgbClr val="575f6d"/>
                </a:solidFill>
                <a:latin typeface="Century Schoolbook"/>
              </a:rPr>
              <a:t>ФАКУЛЬТЕТ ПІСЛЯДИПЛОМНОЇ ОСВІТИ</a:t>
            </a:r>
            <a:br>
              <a:rPr sz="2000"/>
            </a:br>
            <a:r>
              <a:rPr b="1" lang="uk-UA" sz="2000" spc="-1" strike="noStrike">
                <a:solidFill>
                  <a:srgbClr val="575f6d"/>
                </a:solidFill>
                <a:latin typeface="Century Schoolbook"/>
              </a:rPr>
              <a:t>КАФЕДРА ГРОМАДСЬКОГО ЗДОРОВ</a:t>
            </a:r>
            <a:r>
              <a:rPr b="1" lang="en-US" sz="2000" spc="-1" strike="noStrike">
                <a:solidFill>
                  <a:srgbClr val="575f6d"/>
                </a:solidFill>
                <a:latin typeface="Century Schoolbook"/>
              </a:rPr>
              <a:t>’</a:t>
            </a:r>
            <a:r>
              <a:rPr b="1" lang="uk-UA" sz="2000" spc="-1" strike="noStrike">
                <a:solidFill>
                  <a:srgbClr val="575f6d"/>
                </a:solidFill>
                <a:latin typeface="Century Schoolbook"/>
              </a:rPr>
              <a:t>Я</a:t>
            </a:r>
            <a:br>
              <a:rPr sz="2000"/>
            </a:br>
            <a:br>
              <a:rPr sz="2900"/>
            </a:br>
            <a:r>
              <a:rPr b="1" lang="uk-UA" sz="2400" spc="-1" strike="noStrike">
                <a:solidFill>
                  <a:srgbClr val="575f6d"/>
                </a:solidFill>
                <a:latin typeface="Century Schoolbook"/>
              </a:rPr>
              <a:t>ЛЕКЦІЯ НА ТЕМУ:</a:t>
            </a:r>
            <a:br>
              <a:rPr sz="2400"/>
            </a:br>
            <a:br>
              <a:rPr sz="2800"/>
            </a:br>
            <a:r>
              <a:rPr b="1" lang="uk-UA" sz="28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i="1" lang="uk-UA" sz="3200" spc="-1" strike="noStrike">
                <a:solidFill>
                  <a:srgbClr val="575f6d"/>
                </a:solidFill>
                <a:latin typeface="Arial"/>
              </a:rPr>
              <a:t>КУЛЬТУРА УПРАВЛІННЯ</a:t>
            </a:r>
            <a:br>
              <a:rPr sz="3200"/>
            </a:br>
            <a:r>
              <a:rPr b="1" i="1" lang="uk-UA" sz="3200" spc="-1" strike="noStrike">
                <a:solidFill>
                  <a:srgbClr val="575f6d"/>
                </a:solidFill>
                <a:latin typeface="Arial"/>
              </a:rPr>
              <a:t> ЯК СКЛАДОВА ЧАСТИНА МЕНЕДЖМЕНТУ</a:t>
            </a:r>
            <a:br>
              <a:rPr sz="3200"/>
            </a:br>
            <a:r>
              <a:rPr b="1" i="1" lang="uk-UA" sz="3200" spc="-1" strike="noStrike">
                <a:solidFill>
                  <a:srgbClr val="575f6d"/>
                </a:solidFill>
                <a:latin typeface="Arial"/>
              </a:rPr>
              <a:t> В СИСТЕМІ ОХОРОНИ ЗДОРОВ</a:t>
            </a:r>
            <a:r>
              <a:rPr b="1" i="1" lang="en-US" sz="3200" spc="-1" strike="noStrike">
                <a:solidFill>
                  <a:srgbClr val="575f6d"/>
                </a:solidFill>
                <a:latin typeface="Arial"/>
              </a:rPr>
              <a:t>’</a:t>
            </a:r>
            <a:r>
              <a:rPr b="1" i="1" lang="uk-UA" sz="3200" spc="-1" strike="noStrike">
                <a:solidFill>
                  <a:srgbClr val="575f6d"/>
                </a:solidFill>
                <a:latin typeface="Arial"/>
              </a:rPr>
              <a:t>Я</a:t>
            </a:r>
            <a:br>
              <a:rPr sz="3200"/>
            </a:br>
            <a:br>
              <a:rPr sz="29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928760" y="4941720"/>
            <a:ext cx="37148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Доц. Качала Л. О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457200" y="1600200"/>
          <a:ext cx="7467480" cy="1684440"/>
        </p:xfrm>
        <a:graphic>
          <a:graphicData uri="http://schemas.openxmlformats.org/drawingml/2006/table">
            <a:tbl>
              <a:tblPr/>
              <a:tblGrid>
                <a:gridCol w="3733920"/>
                <a:gridCol w="3733560"/>
              </a:tblGrid>
              <a:tr h="16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9. Розумне і природне дотримання прийнятих у суспільстві правил поведін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0. Поважне ставлення до звичаїв і норм життєдіяльності інших людей і народ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9. Зрадливі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0. Підлабузництво, заздрощ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75405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Справжня висока культура управління, як і культура особистості – це гармонія знань і морально-етичних якостей, які, безумовно, залежать від інтелектуально-культурних якостей особистості, що перебуває біля керма управлінн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68000" y="476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1" lang="uk-UA" sz="2000" spc="-1" strike="noStrike">
                <a:solidFill>
                  <a:srgbClr val="000000"/>
                </a:solidFill>
                <a:latin typeface="Century Schoolbook"/>
              </a:rPr>
              <a:t>Культура управління включає в себе такі основні принципи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           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-вибір форми поведінки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           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- стиль і тактика поведінки з погляду моральних і єтичних цінностей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- особиста поведінка, міра її такту і відповідальності, як показники вияву і розвитку духовної культури особистості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- сфери і рівні поведінки за відповідними моральними нормами. Інакше кажучи, наскільки наші вчинки і поведінка не ображають інших, подобаються їм чи викликають заперечення, сприймаються схильно чи відкидаються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- нарешті, що можна, а чого не можна дозволяти собі в певній ситуації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Для повноти методології культури управління як виду діяльності наведемо основні чинники, що впливають на її рівень. До них належать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            </a:t>
            </a: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- рівень загальнокультурного розвитку країни, її матеріальний і духовний стан у конкретний період розвитку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            </a:t>
            </a: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- стан правової забезпеченості виробництва, всіх видів суспільно-корисної діяльності, адекватності  правових норм країни потребам конкретної організації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- рівень розвитку конкретного об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`</a:t>
            </a: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є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кта управління, стан його потенціалу, зв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`</a:t>
            </a: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язки  із зовнішнім середовищем, стан технології, його конкурентоспроможність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- система зовнішніх зв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`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язк</a:t>
            </a: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ів, зовнішніх “подразників”, які стосуються безпосередньо конкретного об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`</a:t>
            </a: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єкта управління, а звідси і конкретного виду управлінської діяльності організації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- організаційно-правовий і організаційно-культурний порядок на підприємстві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Крім того слід наголосити , що приведення об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`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єкта управління в заданий стан – не разова акція, а постійна щоденна діяльність, насамперед  профілактичного характеру, з попередженням можливих “збоїв” як у технологічному, так і в суб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`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єктивному напрямі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Працює не менеджер – працює режим, створений менеджером. І в цьому полягає можливість доскональної діяльності персоналу, в якій передбачено все: від надійної технології роботи до системи міжособистісних відносин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Усе це вимагає не просто іншого організаційного порядку в Україні, а й наявності кадрів, здатних працювати справді в демократичних умовах. Потрібен не тільки новий ступінь політичної культури управлінців,а й куди досконаліший рівень управлінського професіоналізму 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-169560"/>
            <a:ext cx="74674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333000"/>
            <a:ext cx="746748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У нашій країні до теперішнього часу керівник розглядається як посада, а не як професія, тому система освіти ще не зорієнтована належним чином на підготовку керівників – професіоналів, що призводить до зниження професіоналізму, стресам, психосоматичним захворювання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85716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entury Schoolbook"/>
              </a:rPr>
              <a:t>Менеджмент </a:t>
            </a: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–</a:t>
            </a:r>
            <a:r>
              <a:rPr b="1" lang="uk-UA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це вміння досягати поставленої мети, використовуючи працю, інтелект та мотиви поведінки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інших людей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або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Century Schoolbook"/>
              </a:rPr>
              <a:t>менеджмент</a:t>
            </a: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 - наука управління людьми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907560"/>
            <a:ext cx="7715160" cy="55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entury Schoolbook"/>
              </a:rPr>
              <a:t>Щоб управляти, необхідно,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uk-UA" sz="4000" spc="-1" strike="noStrike">
                <a:solidFill>
                  <a:srgbClr val="000000"/>
                </a:solidFill>
                <a:latin typeface="Century Schoolbook"/>
              </a:rPr>
              <a:t>по-перше,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uk-UA" sz="4000" spc="-1" strike="noStrike">
                <a:solidFill>
                  <a:srgbClr val="000000"/>
                </a:solidFill>
                <a:latin typeface="Century Schoolbook"/>
              </a:rPr>
              <a:t>впливати,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uk-UA" sz="4000" spc="-1" strike="noStrike">
                <a:solidFill>
                  <a:srgbClr val="000000"/>
                </a:solidFill>
                <a:latin typeface="Century Schoolbook"/>
              </a:rPr>
              <a:t>а по-друге,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uk-UA" sz="4000" spc="-1" strike="noStrike">
                <a:solidFill>
                  <a:srgbClr val="000000"/>
                </a:solidFill>
                <a:latin typeface="Century Schoolbook"/>
              </a:rPr>
              <a:t>бачити мету свого впливу!!!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47592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Сучасний менеджмент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має  принципові особливості у порівнянні з 60-80 роками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і орієнтований</a:t>
            </a: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на соціологізацію, психологізацію та активізацію людського фактора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94920" y="247680"/>
            <a:ext cx="74674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620280"/>
            <a:ext cx="746748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ЕНЕДЖЕР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– це висококваліфікований спеціаліст, який володіє конкретною сумою знань і навичок у галузі сучасного менеджменту та комп’ютерних технологій і наділений достатньо широкими повноваженнями для того, щоб займатись самостійною управлінською діяльніст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575f6d"/>
                </a:solidFill>
                <a:latin typeface="Century Schoolbook"/>
              </a:rPr>
              <a:t>ПЛА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1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Методологічні основи та ознаки культури управління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2. 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Професійний і соціально-психологічний портр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керівни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3.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Психологічні основи ділового спілкуванн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4.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Основи службового етикет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5.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Конфліктні ситуації в колективі та управління ни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Кожен соціальний організм , як і кожен організм взагалі , поряд із загальними рисами, має свої особливості, що відображають характер поведінки кожної конкретної системи. Тому проблеми формування і реалізації моделі управління необхідно вирішувати диференційовано, як на макрорівні щодо окремих країн, так і на мікрорівні стосовно конкретних організацій з урахуванням сформованої в них організаційної культури і відповідних тенденцій розвитку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Організаційна культура найбільше виявляється під час створення в них відповідної системи управління. Якщо, наприклад, якась система має організаційну культуру із “жіночим” началом, то стиль управління в ній більш демократичний, що характеризується колегіальністю у прийнятті рішень. В умовах організаційної культури з “чоловічим” началом стиль управління відрізняється авторитарністю, жорсткістю та одно-осібністю в прийнятті управлінських рішен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Сам термін “культура управління” віднедавна здобув широке розповсюдження. Ним дедалі частіше користуються як наукові співробітники, так і практики. Саме тому передусім визначимо зміст цього терміну з урахуванням основних тенденцій розвитку наукового управлінського знання, вирішених та невирішених проблем у цій галузі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Культура управління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– це теорія раціональної організації роботи апарату управління, прищеплення йому найбільш ефективних засобів, форм і методів його праці, розкриття ролі культурного елементу в ньом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55280" y="765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До 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предмета культури управління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входять завдання управлінцям-практикам про різні методи вирішення усіх можливих організаційно-управлінських проблем: навчити їх ставити мету й науково достовірно аналізувати труднощі, що заважають їх досягненню; показувати їм, як треба оцінювати переваги чи хиби управлінських рішень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До 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предмета культури управління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як до явища організаційної культури належать і питання технологічного характеру, способи отримання і переробки інформації, визначення чисельності необхідних працівників апарата управління, підбір та розстановка кадрів тощо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Виходячи із вищесказаного, 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культура управління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– це сукупність теоретичних та практичних положень, принципів і норм, що мають загальний характер і відносяться різною мірою до різних аспектів людської діяльності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Культура управління - важлива сфера впливу на свідомість, вчинки підлеглих, їхні помисли і бажання. Водночас вона є одним із вирішальних чинників успіху в управлінні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Культура, втім, може стикатися з безкультур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`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ям. Щоб краще зрозуміти можливість подібного зіткнення, звернімо увагу на характеристику цих антиподів, що наведені в табл.№1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000" y="-1717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575f6d"/>
                </a:solidFill>
                <a:latin typeface="Century Schoolbook"/>
              </a:rPr>
              <a:t>Таблиця № 1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-468360" y="1125360"/>
          <a:ext cx="208080" cy="3970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395280" y="1125360"/>
          <a:ext cx="7467480" cy="5430960"/>
        </p:xfrm>
        <a:graphic>
          <a:graphicData uri="http://schemas.openxmlformats.org/drawingml/2006/table">
            <a:tbl>
              <a:tblPr/>
              <a:tblGrid>
                <a:gridCol w="3733920"/>
                <a:gridCol w="3733560"/>
              </a:tblGrid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сновні ознаки рівня культури управлі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сновні ознаки безкульту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`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. Глибина розуміння життя інших люд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2.Широта мислення управлінц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.Доброзичливість, людяність і гуманне ставлення до інших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. Щирість і природність у поведінці, вчинках, здатність за будь-яких обставин залишатися самим собо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. Правдивість і відверті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. Толерантність, чуйність і повага до інши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. Скромність, розвинене почуття власної гід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8. Чемність, готовність відгукнутися на прохання інши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.Поверховість, зазнайство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2. Грубість і жорстокі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. Словоблуддя і нечесні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. Непорядність і аморальність у  поведінц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. Брехливість, підступні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.Зневага, зверхнє ставлення до інши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.Байдужість, корисливе ставлення до інши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8.Формально-поверхневе дотримання правил і норм поведінки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7:20:00Z</dcterms:created>
  <dc:creator>Ната</dc:creator>
  <dc:description/>
  <dc:language>en-US</dc:language>
  <cp:lastModifiedBy>Ljuba</cp:lastModifiedBy>
  <dcterms:modified xsi:type="dcterms:W3CDTF">2014-10-07T08:28:18Z</dcterms:modified>
  <cp:revision>68</cp:revision>
  <dc:subject/>
  <dc:title>Ужгородський національний університет Факультет післядипломної освіти Кафедра громадського здоров’я  ЛЕКЦІЯ на тему: “Соціально-психологічні основи  культури управління”</dc:title>
</cp:coreProperties>
</file>