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24F-D367-478C-976A-EA1D901DAB8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E5D9-C36C-43DA-A748-784AE43D8E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29D-9FB7-4A13-93EA-1311F63F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E5D-7F1F-4D39-866F-46ED274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9FB-2B14-4C10-9DB1-8927715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CF8-1411-457E-ADF8-0B5872D8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EAFA-F248-4C14-A0D6-554C8A08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66DC-9615-44D3-9C68-3F3C646A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DE7B-140F-4253-BAE0-A219AAE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4A7-67A9-4AB8-8B72-E712E06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866-B31A-46C6-919E-FFF3C13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1809-36F6-4501-97A6-68AC77F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43A4-0E76-4C1D-8507-7314F84B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BA2-2753-419F-AC3F-C2C78A3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CFCA-371C-401B-A2A0-1861962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E99A-6C9E-4661-A7DB-FBE7B9C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190-DF63-4FFE-B14D-1D7F8A13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F78-986C-4F4D-9C75-B4103F8F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9782-3661-4E6B-A6DA-3903398E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1C81E-3195-4C9A-AD7F-886D6E69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74E32-E7A2-44D5-8D2F-204A7AC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1D2B-50FE-4CB8-8970-5DA17D69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60314-173D-4397-9894-3E58BD7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7D548-93D4-42E8-B0D2-60CC1451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A29-CA2D-47B7-9C06-37B108F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0AABC-00B7-40E2-92F4-7471803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B7569-A192-4DBC-A697-258C37A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C743-BE27-48C1-9129-1806419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67305-79F9-44B0-9872-7821AE1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F505B-A2D4-4429-9C1F-9216069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15DCA-9AEC-42B4-9953-C0A79098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FF0A1-5959-4294-A7CC-CF8FB4A1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44E3-E2C7-4942-AAA6-641B79C0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C2A8-1237-4CC8-86AF-2929E56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C8D2-60DA-47D2-9B24-A9D13C6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780-01F6-48F1-BDF3-70E5D43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3207-B9FD-4A90-A5AB-905D56F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5D30-8075-461D-BA70-5CA65B1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F1DC-C4E9-4FCE-931C-134F691F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9DF0-2025-4703-9248-88DDC79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3634-45C8-4C02-8559-DA3C923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AC02-63E6-4AA0-B288-F1EDA627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3D0B-C6CC-4A44-938D-B5AD99A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CD15-10DE-44D2-8A38-5BF529EB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63C8-E2AD-4099-9D9A-B5CA9A38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181-83E1-4744-8A40-D9E15A6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BB6-17A5-4ADE-B530-C992AED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6AC-0EE5-4C8B-8185-DF80ECF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555-29A9-4595-B514-69E199B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C02-D314-4C35-923D-485E6E7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BC1-9EDF-4983-974A-EBE7CFF6535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E406-FFD8-435E-92E9-827F29CD807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95C-5D3A-4F58-A623-39E17CC7A92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CA09-3471-4BB7-88FE-6C099358288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Ужгородський національний університет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Факультет післядипломної освіти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Кафедра громадського здоров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я</a:t>
            </a: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Лекція (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I, II 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частина )</a:t>
            </a:r>
            <a:br>
              <a:rPr sz="2900"/>
            </a:br>
            <a:br>
              <a:rPr sz="2900"/>
            </a:b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ОСНОВИ</a:t>
            </a:r>
            <a:br>
              <a:rPr sz="4300"/>
            </a:b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 МЕДИЧНОГО СТРАХУВАННЯ</a:t>
            </a: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429080" y="5357520"/>
            <a:ext cx="4143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ф. Рогач І. 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Trebuchet MS"/>
              </a:rPr>
              <a:t>Страхова медицина світу характеризується наступними рисами: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лежність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у більшості країн світу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сфери охорони здоров'я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яка доповнює державну систему охорони здоров'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сім залученим, незалежно від виду медичного страхування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днакової за обсягом та якістю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еобхідної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ої допомог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вобода вибор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для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ацієнт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ослуг найвищої кваліфікації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исока прибутков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кладених капіталів (за кордоном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провадження сучасних форм управлі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ованість на високоосвічене населе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 достатньою медичною культуро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цікавлен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у запровадженні системи медичного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ініціативність, комунікабельність, працьовиті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безпечення відшкодування втрат застрахованом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гідно з угодою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конкретну потреб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що вимагає утримання певних резервів і обумовлює більшу варт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ПЛ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 Медичне страхування та страхова медицина, їх 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1. Завдання та головні риси страхової медицин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2. Суб'єкти і об'єкти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 Суть обов'язков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1. Суть добровільн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 Економічні категорії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1. Роль та місце страхових резервів при формуванні страхових фонді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Як тільки ВИ подумаєте, що не в змозі виконати певну справу, з цього моменту її здійснення стає для ВАС неможливим.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Б. Спіно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Теоретичні основи медичного страхуванн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світовій практиці страхування розглядається я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захисту від фінансових, соціальних, виробничих і майнових ризикі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ажливий чинник стабільності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успільного виробниц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жерело залучення інвестиційного капіталу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о галузей народного господарства і національної економік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оздоровлення нації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 рахунок надання вчасної кваліфікованої медичної допомог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удосконалення виробничого процесу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(закупка сучасного обладнання та впровадження сучасних технологій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трахування є системою економічних відносин між суб'єктами господарювання (страховиком і страхувальником), а також різновид підприємницької діяльності, за допомогою якої забезпечується надання страхових гаранті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ля застосування страхування необхідна майнова самостійність та зацікавленість суб'єктів господарювання у передачі відповідальності за наслідки ризику спеціалізованим формуванн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вітовий досвід свідчить, що дієвим механізмом соціального захисту населення в умовах ринку, підвищення ефективності діяльності та якості системи охорони здоров'я є медичне страхування, впровадження якого в Україні гальмується через неврегульованість законодавчої бази розвитку медичного страхового ринку, що включає організацію юридичного захисту прав страховиків та страхувальників, впровадження єдиних правил, вимог і стандартів діяльності, координацію зусиль страховиків на ринку послуг медичного страхування та і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озрізняют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трахування майна, відповідальності, підприємницьких ризиків, рівня житт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(соціальне, особист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ержавне соціальне страхування (пенсійне, від безробіття та нещасних випадків на виробництві, медичне)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 добровільних внесків працюючого населення, розмір яких відповідає доходам і не залежить від реального ризику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яка передбачає виплати потенційних споживачів медичних послуг (працівників, роботодавців, держави) фіксованого внеску страховій компанії (ці кошти у разі хвороби компенсують витрати медичного закладу на надання медичної допомог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приватне 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при якій окремі особи або групи населення сплачують страхові премії страховій компанії, що покриває витрати медичних закладів під час надання медичних послу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В процесі історичного розвитку суспільства сформувались основні механізми соціального захисту працівників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озподіл ризиків шляхом введення ОМС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часткова оплата внесків роботодавц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ення страхування через державні та напівдержавні комерційні організації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механізм перерозподілу доходів (принцип солідар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ожна людина має знати, як зменшити ризик від погіршення здоров'я, настання захворювання чи нещасного випадку в умовах ринкової економіки, яка є основою страхової медицини та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трахова медицин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кладна і надзвичайно мобільна система товарно-ринкових відносин у галузі охорони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Товаром виступає оплачувана, конкурентоспроможна, гарантована, якісна і достатня за обсягом медична послуга, яка провокується ризиком для здоров'я. Покупцем послуги може бути:  держава, група людей (виробничі колективи, заклади та установи різних форм власності) або фізична особа, які перебувають в умовах ризику для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истема організаційних та фінансових заходів щодо забезпечення діяльності страхової медиц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тою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ово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ц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і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чного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ування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є забезпечення громадянам соціальних гарантій і прав на отримання медичної допомоги за рахунок накопичених 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коштів при виникненні страхового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ипадку а також фінансування профілактичних заход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Медичне страхування</a:t>
            </a:r>
            <a:br>
              <a:rPr sz="3600"/>
            </a:b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 передбачає наступні завдання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осередницьку діяльність в організації та фінансуванні страхов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ння медичної допомоги населенн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контроль за обсягом та якістю виконання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трахових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медичн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лікувально-профілактичними та соціальними закладами і окремими приватно практикуючими лікар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розрахунок із заклада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хорони здоров'я, соціальними установами та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риватними лікаря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конану роботу згідно з угодою через страхові фонди (медичні організації), які формуються за рахунок грошових внесків підприємств, закладів, організацій, громадя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50:00Z</dcterms:created>
  <dc:creator>Ната</dc:creator>
  <dc:description/>
  <dc:language>en-US</dc:language>
  <cp:lastModifiedBy>Ljuba</cp:lastModifiedBy>
  <dcterms:modified xsi:type="dcterms:W3CDTF">2014-10-07T08:25:46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( I, II частина )  “ОСНОВИ  МЕДИЧНОГО СТРАХУВАННЯ”</dc:title>
</cp:coreProperties>
</file>