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25D-7F2C-429D-8055-83FBFDA827D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606F-6125-48C1-9B4E-9055BEBFDE4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E57-5453-4AAE-AAF9-34891DC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B70-BAD2-4EA2-BE45-E96E8043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8A6-A2B3-41FC-8A8D-D413310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C99-6E5E-4721-8C17-DB40C8EA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2B39-34FB-441D-892E-5D01AB6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408D-5D91-417F-AE84-2208B28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2F6-3A02-47BF-B3F1-4575D363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82CC-0A28-4B77-9A9F-F316816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A63-3953-435C-9AF1-84D2FEDF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20EB-02E1-456D-90F1-0ACC6485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0E0D-E102-4D34-9033-78D0713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263-7E05-4329-BCEF-4DB929C9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93E-3B05-446C-B784-1E31135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9F9-F86E-4DF0-8271-D9EC034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CC0C-4544-4E42-82F7-F8DCC26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73BF-7B64-4AE4-9A60-FC74158C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495-CC3A-496F-B3F3-6B35E885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5D459-455F-44D9-A532-B9BCB543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1B6BE-683D-4A2A-B4B8-CA55DE0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97A3F-FD3F-4656-A952-9D636C74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7BC93-D75B-461E-81C0-0D59E61D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ACE5E-C923-4406-BAF2-6BF91AB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ACE-1691-4B0A-81FB-746CB4D9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691C5-FE1D-45D5-9C7E-EC584CC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33A93-5497-4827-B275-A6EF294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C7E28-C342-41C3-AC63-C53ADF7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0C2E0-459D-45EC-82DC-C43B9C2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7B2B1-A2CA-4830-9457-732480A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5DCA2-76DC-4D67-9DBE-CF779D3C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8FFEE-15CF-47E4-8043-4C288D06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4D3C-AE6F-4EA4-A92E-11EB4EAF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9D0F-E29C-4524-AADE-7B96398E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1908-B113-453C-83E1-0922B6E0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07D-1BB5-4AAA-8D47-0B50897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98E8-592D-4A64-A2B4-45C7455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24F5-F3F6-41E0-8727-6D0C0CC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CA13-95A7-48EF-891C-34FCF05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80DE-8946-42A8-93A9-B2BD55E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0CD3-0E5E-4008-8F9E-3140FCA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678B-18ED-4D3E-BEFF-D8AAF37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9958-BCF9-4BBE-A345-58EAC949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1F02-8449-4F49-A58C-88F8ED4A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EB8D-11E5-4F83-8C04-E9A49198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AF-9BE4-411D-843D-EB944F1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3A8-2F0A-4EF4-B7E2-A610490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87E-1BE3-4D77-96DB-6F4ACEF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D5A-D238-4047-98F1-085AE63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C3C-BF24-414D-B38B-D04C608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5BF-EA07-4995-8085-598C7DB9B99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AEB-194B-4167-8D0B-ED2B94056E2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ABF-2387-4E01-897E-A2B8E967CD3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F3E2-E9F6-4E71-939C-311F50C592E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Ужгородський національний університет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Факультет післядипломної освіти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Кафедра громадського здоров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я</a:t>
            </a: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Лекція (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I, II 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частина )</a:t>
            </a:r>
            <a:br>
              <a:rPr sz="2900"/>
            </a:br>
            <a:br>
              <a:rPr sz="2900"/>
            </a:b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ОСНОВИ</a:t>
            </a:r>
            <a:br>
              <a:rPr sz="4300"/>
            </a:b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 МЕДИЧНОГО СТРАХУВАННЯ</a:t>
            </a: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429080" y="5357520"/>
            <a:ext cx="4143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ф. Рогач І. 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Trebuchet MS"/>
              </a:rPr>
              <a:t>Страхова медицина світу характеризується наступними рисами: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лежність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у більшості країн світу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сфери охорони здоров'я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яка доповнює державну систему охорони здоров'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сім залученим, незалежно від виду медичного страхування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днакової за обсягом та якістю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еобхідної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ої допомог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вобода вибор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для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ацієнт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ослуг найвищої кваліфікації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исока прибутков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кладених капіталів (за кордоном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провадження сучасних форм управлі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ованість на високоосвічене населе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 достатньою медичною культуро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цікавлен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у запровадженні системи медичного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ініціативність, комунікабельність, працьовиті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безпечення відшкодування втрат застрахованом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гідно з угодою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конкретну потреб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що вимагає утримання певних резервів і обумовлює більшу варт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ПЛ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 Медичне страхування та страхова медицина, їх 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1. Завдання та головні риси страхової медицин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2. Суб'єкти і об'єкти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 Суть обов'язков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1. Суть добровільн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 Економічні категорії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1. Роль та місце страхових резервів при формуванні страхових фонді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Як тільки ВИ подумаєте, що не в змозі виконати певну справу, з цього моменту її здійснення стає для ВАС неможливим.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Б. Спіно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Теоретичні основи медичного страхуванн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світовій практиці страхування розглядається я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захисту від фінансових, соціальних, виробничих і майнових ризикі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ажливий чинник стабільності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успільного виробниц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жерело залучення інвестиційного капіталу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о галузей народного господарства і національної економік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оздоровлення нації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 рахунок надання вчасної кваліфікованої медичної допомог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удосконалення виробничого процесу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(закупка сучасного обладнання та впровадження сучасних технологій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трахування є системою економічних відносин між суб'єктами господарювання (страховиком і страхувальником), а також різновид підприємницької діяльності, за допомогою якої забезпечується надання страхових гаранті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ля застосування страхування необхідна майнова самостійність та зацікавленість суб'єктів господарювання у передачі відповідальності за наслідки ризику спеціалізованим формуванн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вітовий досвід свідчить, що дієвим механізмом соціального захисту населення в умовах ринку, підвищення ефективності діяльності та якості системи охорони здоров'я є медичне страхування, впровадження якого в Україні гальмується через неврегульованість законодавчої бази розвитку медичного страхового ринку, що включає організацію юридичного захисту прав страховиків та страхувальників, впровадження єдиних правил, вимог і стандартів діяльності, координацію зусиль страховиків на ринку послуг медичного страхування та і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озрізняют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трахування майна, відповідальності, підприємницьких ризиків, рівня житт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(соціальне, особист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ержавне соціальне страхування (пенсійне, від безробіття та нещасних випадків на виробництві, медичне)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 добровільних внесків працюючого населення, розмір яких відповідає доходам і не залежить від реального ризику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яка передбачає виплати потенційних споживачів медичних послуг (працівників, роботодавців, держави) фіксованого внеску страховій компанії (ці кошти у разі хвороби компенсують витрати медичного закладу на надання медичної допомог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приватне 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при якій окремі особи або групи населення сплачують страхові премії страховій компанії, що покриває витрати медичних закладів під час надання медичних послу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В процесі історичного розвитку суспільства сформувались основні механізми соціального захисту працівників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озподіл ризиків шляхом введення ОМС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часткова оплата внесків роботодавц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ення страхування через державні та напівдержавні комерційні організації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механізм перерозподілу доходів (принцип солідар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ожна людина має знати, як зменшити ризик від погіршення здоров'я, настання захворювання чи нещасного випадку в умовах ринкової економіки, яка є основою страхової медицини та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трахова медицин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кладна і надзвичайно мобільна система товарно-ринкових відносин у галузі охорони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Товаром виступає оплачувана, конкурентоспроможна, гарантована, якісна і достатня за обсягом медична послуга, яка провокується ризиком для здоров'я. Покупцем послуги може бути:  держава, група людей (виробничі колективи, заклади та установи різних форм власності) або фізична особа, які перебувають в умовах ризику для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истема організаційних та фінансових заходів щодо забезпечення діяльності страхової медиц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тою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ово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ц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і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чного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ування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є забезпечення громадянам соціальних гарантій і прав на отримання медичної допомоги за рахунок накопичених 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коштів при виникненні страхового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ипадку а також фінансування профілактичних заход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Медичне страхування</a:t>
            </a:r>
            <a:br>
              <a:rPr sz="3600"/>
            </a:b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 передбачає наступні завдання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осередницьку діяльність в організації та фінансуванні страхов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ння медичної допомоги населенн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контроль за обсягом та якістю виконання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трахових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медичн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лікувально-профілактичними та соціальними закладами і окремими приватно практикуючими лікар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розрахунок із заклада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хорони здоров'я, соціальними установами та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риватними лікаря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конану роботу згідно з угодою через страхові фонди (медичні організації), які формуються за рахунок грошових внесків підприємств, закладів, організацій, громадя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50:00Z</dcterms:created>
  <dc:creator>Ната</dc:creator>
  <dc:description/>
  <dc:language>en-US</dc:language>
  <cp:lastModifiedBy>Ljuba</cp:lastModifiedBy>
  <dcterms:modified xsi:type="dcterms:W3CDTF">2014-10-07T08:25:46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( I, II частина )  “ОСНОВИ  МЕДИЧНОГО СТРАХУВАННЯ”</dc:title>
</cp:coreProperties>
</file>