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598-6B7F-453E-B865-566D594A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9F7-1091-4981-BCBC-E024FA3E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8BA-66EC-4BB8-908D-B77A7C9F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A20-6A71-4A65-A456-4DAC7764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EFE-8043-44A3-8B33-8077DB4E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893-C74B-4461-841D-54D73C63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9C9-9361-42A8-B87B-9598904C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74A-3CC0-4AE2-96D2-1B4E2428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DE6-E746-4F91-8142-9D1005BB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391-9558-4377-9122-AB2856E4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B7D-6F27-475A-A097-3B17E538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6E3-F0AF-4FA9-A9FD-7F912398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4CE0-5D25-4293-84E4-536011F79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3880"/>
            <a:ext cx="777708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оняття трудового договор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5146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рудовий договір — це угода між працівником і власником підприємства, установи, організації, уповноваженим ним органом чи фізичною особою, за як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600200"/>
            <a:ext cx="86868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аці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обов'язується виконувати роботу, визначену цією угодою, з підляганням внутрішньому трудовому розпоряд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 влас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повноважений ним орган чи фізична особа зобов'язується виплачувати працівникові заробітну плату і забезпечувати необхідні для виконання роботи умови праці, передбачені законодавством про працю, колективним договором і угодою стор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990720"/>
            <a:ext cx="46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конодавче визначення трудового договору вказує на його двосторонній характер і характеризує його як у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3605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 трудового договору необхідно відрізняти цивільно-правові договори про працю, що відомі на практиці, під назвою «трудові угод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719360"/>
            <a:ext cx="8534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трудові угоди» також є у більшості випадків двосторонніми і передбачають виконання роботи і передачу замовнику її результат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трудовим договором працівник виконує роботу під керівництвом роботодавця, і останній зобов'язаний організувати роботу і забезпечити процес її викон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61936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цивільно-правовим договором особа виконує замовлення самостійно або із залученням інших виконавців, розпоряджаючись робочим часом на власний розсу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21932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рудовий догові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є основн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нститутом у системі трудового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13372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ін розглядається також як підстава виникнення трудових правовідносин і водночас як форма залучення до прац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рудовий договір широко використовується в усіх країнах з ринковою економікою для найму робочої с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752480"/>
            <a:ext cx="6858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юридичною природою трудовий договір це угода про працю між роботодавцем і найманим праців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я основна його ознака характерна для всіх видів трудового договор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21932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рудовий договір — універсальна модель найму. Праця токаря, керівника підприємства, моряка, артиста, службовця здійснюється за трудовим договор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4382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а підставі трудового договору </a:t>
            </a:r>
            <a:r>
              <a:rPr b="0" lang="uk-UA" sz="3600" spc="-1" strike="noStrike" u="sng">
                <a:solidFill>
                  <a:srgbClr val="ff3300"/>
                </a:solidFill>
                <a:uFillTx/>
                <a:latin typeface="Arial"/>
              </a:rPr>
              <a:t>працівник здає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в найм власнику засобів виробництва (роботодавцю) свою здатість до пра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28800"/>
            <a:ext cx="815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точки зору права нема різниці чи працює особа за трудовим договором на державному підприємстві, в установі, у колективному господарстві, чи у фізичної особ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05740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і наймані працівники мають однаковий правовий статус, і будь-який роботодавець зобов'язаний дотримуватись усіх правил і гарантій щодо них, передбачених трудовим законодав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2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