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D810-6B7F-4473-97ED-583D7B78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7D44-6CF1-4F82-B5FB-5BEA6C68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5380-3C3D-4271-85A0-22CE1961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ECF4-8E1F-43B3-AEC8-1E2FBC2D0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F373-DDFB-43E0-8C52-DE35EB2F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3C8D-CC3C-40BC-BE0B-6A2E3908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AF7B-5F76-40F5-B161-58FB4908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546F-612D-4C22-963A-A6505373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B4A9-8856-47AB-B07B-F0449A32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3215-6CB2-479A-BB29-B80967C0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68EB-EE92-4100-BF59-08B666C4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2EC1-F17B-47B1-A2B3-D3BFD009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4840-249E-4678-A6E0-A4A02F3BA8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23880"/>
            <a:ext cx="7777080" cy="33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Поняття трудового договор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6200000">
            <a:off x="-3131640" y="3321000"/>
            <a:ext cx="6480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5701320" y="3225960"/>
            <a:ext cx="6669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-3131640" y="3321000"/>
            <a:ext cx="6480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5701320" y="3225960"/>
            <a:ext cx="6669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21932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251460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рудовий договір — це угода між працівником і власником підприємства, установи, організації, уповноваженим ним органом чи фізичною особою, за яко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339048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567684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1600200"/>
            <a:ext cx="86868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аців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обов'язується виконувати роботу, визначену цією угодою, з підляганням внутрішньому трудовому розпоряд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 власни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повноважений ним орган чи фізична особа зобов'язується виплачувати працівникові заробітну плату і забезпечувати необхідні для виконання роботи умови праці, передбачені законодавством про працю, колективним договором і угодою сторі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131640" y="3321000"/>
            <a:ext cx="6480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5701320" y="3225960"/>
            <a:ext cx="6669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121932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990720"/>
            <a:ext cx="4648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Законодавче визначення трудового договору вказує на його двосторонній характер і характеризує його як у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-3131640" y="3321000"/>
            <a:ext cx="6480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5701320" y="3225960"/>
            <a:ext cx="6669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21932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23605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ід трудового договору необхідно відрізняти цивільно-правові договори про працю, що відомі на практиці, під назвою «трудові угоди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-339048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567684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719360"/>
            <a:ext cx="85345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«трудові угоди» також є у більшості випадків двосторонніми і передбачають виконання роботи і передачу замовнику її результаті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 трудовим договором працівник виконує роботу під керівництвом роботодавця, і останній зобов'язаний організувати роботу і забезпечити процес її викон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-3131640" y="3321000"/>
            <a:ext cx="6480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5701320" y="3225960"/>
            <a:ext cx="6669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121932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61936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 цивільно-правовим договором особа виконує замовлення самостійно або із залученням інших виконавців, розпоряджаючись робочим часом на власний розсу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-3131640" y="3321000"/>
            <a:ext cx="6480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5701320" y="3225960"/>
            <a:ext cx="6669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219320"/>
            <a:ext cx="8229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Трудовий догові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</a:rPr>
              <a:t>є основн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інститутом у системі трудового пра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-339048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567684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2133720"/>
            <a:ext cx="8458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ін розглядається також як підстава виникнення трудових правовідносин і водночас як форма залучення до прац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-339048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567684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752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Трудовий договір широко використовується в усіх країнах з ринковою економікою для найму робочої с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-3131640" y="3321000"/>
            <a:ext cx="6480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5701320" y="3225960"/>
            <a:ext cx="6669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21932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752480"/>
            <a:ext cx="68580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 юридичною природою трудовий договір це угода про працю між роботодавцем і найманим праців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Ця основна його ознака характерна для всіх видів трудового договор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-3131640" y="3321000"/>
            <a:ext cx="6480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5701320" y="3225960"/>
            <a:ext cx="6669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21932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1219320"/>
            <a:ext cx="7239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рудовий договір — універсальна модель найму. Праця токаря, керівника підприємства, моряка, артиста, службовця здійснюється за трудовим договор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-339048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567684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243828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На підставі трудового договору </a:t>
            </a:r>
            <a:r>
              <a:rPr b="0" lang="uk-UA" sz="3600" spc="-1" strike="noStrike" u="sng">
                <a:solidFill>
                  <a:srgbClr val="ff3300"/>
                </a:solidFill>
                <a:uFillTx/>
                <a:latin typeface="Arial"/>
              </a:rPr>
              <a:t>працівник здає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в найм власнику засобів виробництва (роботодавцю) свою здатість до прац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-3131640" y="3321000"/>
            <a:ext cx="6480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5701320" y="3225960"/>
            <a:ext cx="6669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121932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828800"/>
            <a:ext cx="8153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 точки зору права нема різниці чи працює особа за трудовим договором на державному підприємстві, в установі, у колективному господарстві, чи у фізичної особ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-339048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6200000">
            <a:off x="567684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057400"/>
            <a:ext cx="8534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сі наймані працівники мають однаковий правовий статус, і будь-який роботодавець зобов'язаний дотримуватись усіх правил і гарантій щодо них, передбачених трудовим законодав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juba</cp:lastModifiedBy>
  <dcterms:modified xsi:type="dcterms:W3CDTF">2014-10-07T08:25:3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