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DD0-2439-4A7B-A9A0-352BA724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DAF-1441-4DC9-A076-BA475F7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AC0-9C08-452C-BEAD-ED942E4D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B76-DA5F-421D-878F-CBF5B7C2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F6FF-9F75-44CB-9C64-8481C035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27FD-76FD-4C15-9732-57AFE51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BBDB-FA53-4A45-B513-AB92DC1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3217-8FCE-4403-B0B2-906743A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C19B-EF8D-475E-90B2-437262AD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582-38F3-4FC2-A573-05B3C396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86A-835F-4A05-B02A-898F170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791-9E5E-4696-8E6A-7E42EE8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9D3-BBE5-4E8E-87BA-42E6DA5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2AD-DF1A-4626-BBEF-1333F9A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9D27-7958-4179-B638-ED80195C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4CB-FF10-4A02-9F98-E96846A6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B7F-FF86-4ACC-8CAD-5722805B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9AE-77AC-405A-B4C1-E77E25F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FE4-D972-4953-8043-BF94467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B95-C480-48E8-81BB-DD022DE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41B-0F1B-40BF-B454-7924066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B85-588F-4E6C-AE46-8E06EF2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4E0-5698-4149-9C96-8E6F494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193-2E27-4C01-AFF9-FE3B5F9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2901-9931-40BF-A312-3ACCCD0F78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C5E3-3C93-4746-95F8-89B8025CCE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ocumentsukrindex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2801-12" TargetMode="External"/><Relationship Id="rId3" Type="http://schemas.openxmlformats.org/officeDocument/2006/relationships/hyperlink" Target="http://zakon.nau.ua/doc/?code=2801-12" TargetMode="External"/><Relationship Id="rId4" Type="http://schemas.openxmlformats.org/officeDocument/2006/relationships/hyperlink" Target="http://zakon.nau.ua/doc/?code=2801-12" TargetMode="External"/><Relationship Id="rId5" Type="http://schemas.openxmlformats.org/officeDocument/2006/relationships/hyperlink" Target="http://zakon.nau.ua/doc/?code=2801-12" TargetMode="External"/><Relationship Id="rId6" Type="http://schemas.openxmlformats.org/officeDocument/2006/relationships/hyperlink" Target="http://zakon.nau.ua/doc/?code=2801-12" TargetMode="External"/><Relationship Id="rId7" Type="http://schemas.openxmlformats.org/officeDocument/2006/relationships/hyperlink" Target="http://zakon.nau.ua/doc/?code=2801-12" TargetMode="External"/><Relationship Id="rId8" Type="http://schemas.openxmlformats.org/officeDocument/2006/relationships/hyperlink" Target="http://zakon.nau.ua/doc/?code=2801-12" TargetMode="External"/><Relationship Id="rId9" Type="http://schemas.openxmlformats.org/officeDocument/2006/relationships/hyperlink" Target="http://zakon.nau.ua/doc/?code=2801-12" TargetMode="External"/><Relationship Id="rId10" Type="http://schemas.openxmlformats.org/officeDocument/2006/relationships/hyperlink" Target="http://zakon.nau.ua/doc/?code=2801-12" TargetMode="External"/><Relationship Id="rId11" Type="http://schemas.openxmlformats.org/officeDocument/2006/relationships/hyperlink" Target="http://zakon.nau.ua/doc/?code=2801-12" TargetMode="External"/><Relationship Id="rId12" Type="http://schemas.openxmlformats.org/officeDocument/2006/relationships/hyperlink" Target="http://zakon.nau.ua/doc/?code=2801-12" TargetMode="External"/><Relationship Id="rId13" Type="http://schemas.openxmlformats.org/officeDocument/2006/relationships/hyperlink" Target="http://zakon.nau.ua/doc/?code=123/96-&#1042;&#1056;" TargetMode="External"/><Relationship Id="rId14" Type="http://schemas.openxmlformats.org/officeDocument/2006/relationships/hyperlink" Target="http://zakon.nau.ua/doc/?code=123/96-&#1042;&#1056;" TargetMode="External"/><Relationship Id="rId15" Type="http://schemas.openxmlformats.org/officeDocument/2006/relationships/hyperlink" Target="http://zakon.nau.ua/doc/?code=123/96-&#1042;&#1056;" TargetMode="External"/><Relationship Id="rId16" Type="http://schemas.openxmlformats.org/officeDocument/2006/relationships/hyperlink" Target="http://zakon.nau.ua/doc/?code=123/96-&#1042;&#1056;" TargetMode="External"/><Relationship Id="rId17" Type="http://schemas.openxmlformats.org/officeDocument/2006/relationships/hyperlink" Target="http://zakon.nau.ua/doc/?code=123/96-&#1042;&#1056;" TargetMode="External"/><Relationship Id="rId18" Type="http://schemas.openxmlformats.org/officeDocument/2006/relationships/hyperlink" Target="http://zakon.nau.ua/doc/?code=123/96-&#1042;&#1056;" TargetMode="External"/><Relationship Id="rId19" Type="http://schemas.openxmlformats.org/officeDocument/2006/relationships/hyperlink" Target="http://zakon.nau.ua/doc/?code=123/96-&#1042;&#1056;" TargetMode="External"/><Relationship Id="rId20" Type="http://schemas.openxmlformats.org/officeDocument/2006/relationships/hyperlink" Target="http://zakon.nau.ua/doc/?code=887-12" TargetMode="External"/><Relationship Id="rId21" Type="http://schemas.openxmlformats.org/officeDocument/2006/relationships/hyperlink" Target="http://zakon.nau.ua/doc/?code=887-12" TargetMode="External"/><Relationship Id="rId22" Type="http://schemas.openxmlformats.org/officeDocument/2006/relationships/hyperlink" Target="http://zakon.nau.ua/doc/?code=887-12" TargetMode="External"/><Relationship Id="rId23" Type="http://schemas.openxmlformats.org/officeDocument/2006/relationships/hyperlink" Target="http://zakon.nau.ua/doc/?code=887-12" TargetMode="External"/><Relationship Id="rId24" Type="http://schemas.openxmlformats.org/officeDocument/2006/relationships/hyperlink" Target="http://zakon.nau.ua/doc/?code=887-12" TargetMode="External"/><Relationship Id="rId25" Type="http://schemas.openxmlformats.org/officeDocument/2006/relationships/hyperlink" Target="http://zakon.nau.ua/doc/?code=887-12" TargetMode="External"/><Relationship Id="rId26" Type="http://schemas.openxmlformats.org/officeDocument/2006/relationships/hyperlink" Target="http://zakon.nau.ua/doc/?code=887-12" TargetMode="External"/><Relationship Id="rId27" Type="http://schemas.openxmlformats.org/officeDocument/2006/relationships/hyperlink" Target="http://zakon.nau.ua/doc/?code=1775-14" TargetMode="External"/><Relationship Id="rId28" Type="http://schemas.openxmlformats.org/officeDocument/2006/relationships/hyperlink" Target="http://zakon.nau.ua/doc/?code=1775-14" TargetMode="External"/><Relationship Id="rId29" Type="http://schemas.openxmlformats.org/officeDocument/2006/relationships/hyperlink" Target="http://zakon.nau.ua/doc/?code=1775-14" TargetMode="External"/><Relationship Id="rId30" Type="http://schemas.openxmlformats.org/officeDocument/2006/relationships/hyperlink" Target="http://zakon.nau.ua/doc/?code=1775-14" TargetMode="External"/><Relationship Id="rId31" Type="http://schemas.openxmlformats.org/officeDocument/2006/relationships/hyperlink" Target="http://zakon.nau.ua/doc/?code=1775-14" TargetMode="External"/><Relationship Id="rId32" Type="http://schemas.openxmlformats.org/officeDocument/2006/relationships/hyperlink" Target="http://zakon.nau.ua/doc/?code=1775-14" TargetMode="External"/><Relationship Id="rId33" Type="http://schemas.openxmlformats.org/officeDocument/2006/relationships/hyperlink" Target="http://zakon.nau.ua/doc/?code=1775-14" TargetMode="External"/><Relationship Id="rId34" Type="http://schemas.openxmlformats.org/officeDocument/2006/relationships/hyperlink" Target="http://zakon.nau.ua/doc/?code=1775-14" TargetMode="External"/><Relationship Id="rId35" Type="http://schemas.openxmlformats.org/officeDocument/2006/relationships/hyperlink" Target="http://zakon.nau.ua/doc/?code=1775-14" TargetMode="External"/><Relationship Id="rId36" Type="http://schemas.openxmlformats.org/officeDocument/2006/relationships/hyperlink" Target="http://zakon.nau.ua/doc/?code=1775-14" TargetMode="External"/><Relationship Id="rId37" Type="http://schemas.openxmlformats.org/officeDocument/2006/relationships/hyperlink" Target="http://zakon.nau.ua/doc/?code=1775-14" TargetMode="External"/><Relationship Id="rId38" Type="http://schemas.openxmlformats.org/officeDocument/2006/relationships/hyperlink" Target="http://zakon.nau.ua/doc/?code=1775-14" TargetMode="External"/><Relationship Id="rId39" Type="http://schemas.openxmlformats.org/officeDocument/2006/relationships/hyperlink" Target="http://zakon.nau.ua/doc/?code=1775-14" TargetMode="External"/><Relationship Id="rId40" Type="http://schemas.openxmlformats.org/officeDocument/2006/relationships/hyperlink" Target="http://zakon.nau.ua/doc/?code=z0214-02" TargetMode="External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1023-12" TargetMode="External"/><Relationship Id="rId3" Type="http://schemas.openxmlformats.org/officeDocument/2006/relationships/hyperlink" Target="http://zakon.nau.ua/doc/?code=1023-12" TargetMode="External"/><Relationship Id="rId4" Type="http://schemas.openxmlformats.org/officeDocument/2006/relationships/hyperlink" Target="http://zakon.nau.ua/doc/?code=1023-12" TargetMode="External"/><Relationship Id="rId5" Type="http://schemas.openxmlformats.org/officeDocument/2006/relationships/hyperlink" Target="http://zakon.nau.ua/doc/?code=1023-12" TargetMode="External"/><Relationship Id="rId6" Type="http://schemas.openxmlformats.org/officeDocument/2006/relationships/hyperlink" Target="http://zakon.nau.ua/doc/?code=1023-12" TargetMode="External"/><Relationship Id="rId7" Type="http://schemas.openxmlformats.org/officeDocument/2006/relationships/hyperlink" Target="http://zakon.nau.ua/doc/?code=1023-12" TargetMode="External"/><Relationship Id="rId8" Type="http://schemas.openxmlformats.org/officeDocument/2006/relationships/hyperlink" Target="http://zakon.nau.ua/doc/?code=1023-12" TargetMode="External"/><Relationship Id="rId9" Type="http://schemas.openxmlformats.org/officeDocument/2006/relationships/hyperlink" Target="http://zakon.nau.ua/doc/?code=887-12" TargetMode="External"/><Relationship Id="rId10" Type="http://schemas.openxmlformats.org/officeDocument/2006/relationships/hyperlink" Target="http://zakon.nau.ua/doc/?code=887-12" TargetMode="External"/><Relationship Id="rId11" Type="http://schemas.openxmlformats.org/officeDocument/2006/relationships/hyperlink" Target="http://zakon.nau.ua/doc/?code=887-12" TargetMode="External"/><Relationship Id="rId12" Type="http://schemas.openxmlformats.org/officeDocument/2006/relationships/hyperlink" Target="http://zakon.nau.ua/doc/?code=887-12" TargetMode="External"/><Relationship Id="rId13" Type="http://schemas.openxmlformats.org/officeDocument/2006/relationships/hyperlink" Target="http://zakon.nau.ua/doc/?code=887-12" TargetMode="External"/><Relationship Id="rId14" Type="http://schemas.openxmlformats.org/officeDocument/2006/relationships/hyperlink" Target="http://zakon.nau.ua/doc/?code=1775-14" TargetMode="External"/><Relationship Id="rId15" Type="http://schemas.openxmlformats.org/officeDocument/2006/relationships/hyperlink" Target="http://zakon.nau.ua/doc/?code=1775-14" TargetMode="External"/><Relationship Id="rId16" Type="http://schemas.openxmlformats.org/officeDocument/2006/relationships/hyperlink" Target="http://zakon.nau.ua/doc/?code=1775-14" TargetMode="External"/><Relationship Id="rId17" Type="http://schemas.openxmlformats.org/officeDocument/2006/relationships/hyperlink" Target="http://zakon.nau.ua/doc/?code=1775-14" TargetMode="External"/><Relationship Id="rId18" Type="http://schemas.openxmlformats.org/officeDocument/2006/relationships/hyperlink" Target="http://zakon.nau.ua/doc/?code=1775-14" TargetMode="External"/><Relationship Id="rId19" Type="http://schemas.openxmlformats.org/officeDocument/2006/relationships/hyperlink" Target="http://zakon.nau.ua/doc/?code=1775-14" TargetMode="External"/><Relationship Id="rId20" Type="http://schemas.openxmlformats.org/officeDocument/2006/relationships/hyperlink" Target="http://zakon.nau.ua/doc/?code=1775-14" TargetMode="External"/><Relationship Id="rId21" Type="http://schemas.openxmlformats.org/officeDocument/2006/relationships/hyperlink" Target="http://zakon.nau.ua/doc/?code=1775-14" TargetMode="External"/><Relationship Id="rId22" Type="http://schemas.openxmlformats.org/officeDocument/2006/relationships/hyperlink" Target="http://zakon.nau.ua/doc/?code=1775-14" TargetMode="External"/><Relationship Id="rId23" Type="http://schemas.openxmlformats.org/officeDocument/2006/relationships/hyperlink" Target="http://zakon.nau.ua/doc/?code=1775-14" TargetMode="External"/><Relationship Id="rId24" Type="http://schemas.openxmlformats.org/officeDocument/2006/relationships/hyperlink" Target="http://zakon.nau.ua/doc/?code=1775-14" TargetMode="External"/><Relationship Id="rId25" Type="http://schemas.openxmlformats.org/officeDocument/2006/relationships/hyperlink" Target="http://zakon.nau.ua/doc/?code=2801-12" TargetMode="External"/><Relationship Id="rId26" Type="http://schemas.openxmlformats.org/officeDocument/2006/relationships/hyperlink" Target="http://zakon.nau.ua/doc/?code=2801-12" TargetMode="External"/><Relationship Id="rId27" Type="http://schemas.openxmlformats.org/officeDocument/2006/relationships/hyperlink" Target="http://zakon.nau.ua/doc/?code=2801-12" TargetMode="External"/><Relationship Id="rId28" Type="http://schemas.openxmlformats.org/officeDocument/2006/relationships/hyperlink" Target="http://zakon.nau.ua/doc/?code=2801-12" TargetMode="External"/><Relationship Id="rId29" Type="http://schemas.openxmlformats.org/officeDocument/2006/relationships/hyperlink" Target="http://zakon.nau.ua/doc/?code=2801-12" TargetMode="External"/><Relationship Id="rId30" Type="http://schemas.openxmlformats.org/officeDocument/2006/relationships/hyperlink" Target="http://zakon.nau.ua/doc/?code=2801-12" TargetMode="External"/><Relationship Id="rId31" Type="http://schemas.openxmlformats.org/officeDocument/2006/relationships/hyperlink" Target="http://zakon.nau.ua/doc/?code=2801-12" TargetMode="External"/><Relationship Id="rId32" Type="http://schemas.openxmlformats.org/officeDocument/2006/relationships/hyperlink" Target="http://zakon.nau.ua/doc/?code=2801-12" TargetMode="External"/><Relationship Id="rId33" Type="http://schemas.openxmlformats.org/officeDocument/2006/relationships/hyperlink" Target="http://zakon.nau.ua/doc/?code=2801-12" TargetMode="External"/><Relationship Id="rId34" Type="http://schemas.openxmlformats.org/officeDocument/2006/relationships/hyperlink" Target="http://zakon.nau.ua/doc/?code=2801-12" TargetMode="External"/><Relationship Id="rId35" Type="http://schemas.openxmlformats.org/officeDocument/2006/relationships/hyperlink" Target="http://zakon.nau.ua/doc/?code=2801-12" TargetMode="External"/><Relationship Id="rId36" Type="http://schemas.openxmlformats.org/officeDocument/2006/relationships/hyperlink" Target="http://zakon.nau.ua/doc/?code=4004-12" TargetMode="External"/><Relationship Id="rId37" Type="http://schemas.openxmlformats.org/officeDocument/2006/relationships/hyperlink" Target="http://zakon.nau.ua/doc/?code=4004-12" TargetMode="External"/><Relationship Id="rId38" Type="http://schemas.openxmlformats.org/officeDocument/2006/relationships/hyperlink" Target="http://zakon.nau.ua/doc/?code=4004-12" TargetMode="External"/><Relationship Id="rId39" Type="http://schemas.openxmlformats.org/officeDocument/2006/relationships/hyperlink" Target="http://zakon.nau.ua/doc/?code=4004-12" TargetMode="External"/><Relationship Id="rId40" Type="http://schemas.openxmlformats.org/officeDocument/2006/relationships/hyperlink" Target="http://zakon.nau.ua/doc/?code=4004-12" TargetMode="External"/><Relationship Id="rId41" Type="http://schemas.openxmlformats.org/officeDocument/2006/relationships/hyperlink" Target="http://zakon.nau.ua/doc/?code=4004-12" TargetMode="External"/><Relationship Id="rId42" Type="http://schemas.openxmlformats.org/officeDocument/2006/relationships/hyperlink" Target="http://zakon.nau.ua/doc/?code=4004-12" TargetMode="External"/><Relationship Id="rId43" Type="http://schemas.openxmlformats.org/officeDocument/2006/relationships/hyperlink" Target="http://zakon.nau.ua/doc/?code=4004-12" TargetMode="External"/><Relationship Id="rId44" Type="http://schemas.openxmlformats.org/officeDocument/2006/relationships/hyperlink" Target="http://zakon.nau.ua/doc/?code=4004-12" TargetMode="External"/><Relationship Id="rId45" Type="http://schemas.openxmlformats.org/officeDocument/2006/relationships/hyperlink" Target="http://zakon.nau.ua/doc/?code=4004-12" TargetMode="External"/><Relationship Id="rId46" Type="http://schemas.openxmlformats.org/officeDocument/2006/relationships/hyperlink" Target="http://zakon.nau.ua/doc/?code=4004-12" TargetMode="External"/><Relationship Id="rId47" Type="http://schemas.openxmlformats.org/officeDocument/2006/relationships/hyperlink" Target="http://zakon.nau.ua/doc/?code=4004-12" TargetMode="External"/><Relationship Id="rId48" Type="http://schemas.openxmlformats.org/officeDocument/2006/relationships/hyperlink" Target="http://zakon.nau.ua/doc/?code=4004-12" TargetMode="External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ebetukr200203%22%20l%252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68840"/>
            <a:ext cx="8172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Ліцензуванн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ікувально-профілактични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аді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6028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imes New Roman"/>
              </a:rPr>
              <a:t>медико-санітарна допомог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е комплекс спеціальних заходів, спрямованих на сприяння поліпшенню здоров'я, підвищення санітарної культури, попередження захворювань та інвалідності, на ранню діагностику, допомогу особам з гострими та хронічними захворюваннями і реабілітацію хворих та інвалідів. Відповідно до статті 8 Закону України "Про ліцензування певних видів господарської діяльності", суб'єкт господарювання зобов'язаний здійснювати певний вид господарської діяльності, який підлягає ліцензуванню, відповідно до встановлених для цього виду діяльності ліцензійних ум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30960"/>
            <a:ext cx="8893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унктом 1.2 Ліцензійних умов здійснення господарської діяльності з медичної </a:t>
            </a:r>
            <a:r>
              <a:rPr b="0" lang="uk-UA" sz="28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практики2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тверджених спільним наказом Державного комітету України з питань регуляторної політики і підприємництва та Міністерства охорони здоров'я України від 16.02.2001 р. №38/63 і зареєстрованих в Міністерстві юстиції України 02.03.2001 р. за №188/5379, визначено, що </a:t>
            </a:r>
            <a:r>
              <a:rPr b="0" lang="uk-UA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- це діяльність, пов'язана з комплексом спеціальних заходів, спрямованих на сприяння поліпшенню здоров'я, підвищення санітарної культури, попередження захворювань і реабілітацію хворих та інвалідів, здійснювана особами, які мають спеціальну освіт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ими ж Ліцензійними умовами зазначено Перелік дозволених видів медичної практики за спеціальност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2536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це регламентована Основами законодавства України про охорону здоров'я, іншими актами законодавства з питань охорони здоров'я, нормативними актами Міністерства діяльність з надання громадянам лікувально-профілактичної допом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Ліцензія на здійснення медичної практ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документ державного зразка, який засвідчує право ліцензіата на провадження зазначеного в ньому виду діяльності з медичної практики протягом визначеного строку та за умови виконання ним Ліцензійних у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732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іцензійні умови провадження господарської діяльності з медичної практики (далі - Ліцензійні умови), розроблені відповідно до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здоров'я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конів України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карськ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засоб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Україн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діяльност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інших актів законодавства, визначають ліцензійні умови провадження господарської діяльності з медичної прак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ія цих Ліцензійних умов поширюється на всіх суб'єктів господарювання, що зареєстровані в установленому законодавством порядку як юридичні особи незалежно від їх організаційно-правової форми та форми власності і які проводять господарську діяльність з медичної практики, а також на фізичних осіб - суб'єктів підприємницької діяльності, які здійснюють діяльність у зазначеній галуз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 Абзац другий пункту 1.1 із змінами, внесеними згідно з Наказом Держпідприємництв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N 23/57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від 15.02.02 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0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Ліцензійні умови провадження господарської діяльності з медичної прак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 Загальноорганізаційні умов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1. При здійсненні господарської діяльності з медичної практики ліцензіат повинен дотримуватись вимог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Законів України: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хист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пра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споживачів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Україні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діяльності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здоров'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забезпече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санітар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2"/>
              </a:rPr>
              <a:t>т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4"/>
              </a:rPr>
              <a:t>епідеміч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6"/>
              </a:rPr>
              <a:t>благополучч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8"/>
              </a:rPr>
              <a:t>населення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"Про захист населення від інфекційних хвороб";"Про запобігання захворюванню на синдром набутого імунодефіциту (СНіД) та соціальний захист населення";"Про лікарські засоби";"Про обіг в Україні наркотичних засобів, психотропних речовин, їх аналогів і прекурсорів";"Про заходи протидії незаконному обігу наркотичних засобів, психотропних речовин і прекурсорів та зловживанню ними";"Про психіатричну допомогу";"Про трансплантацію органів та інших анатомічних матеріалів людині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 А К А З   УОЗ від  “ 20  ”березня 2007року №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2-О”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 підготовку матеріалів на отримання ліцензії  для провадження господарсько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з медичної практик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'єкти, господарська діяльність яких підлягає ліцензуван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ування медичної практи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ійні умови провадження господарської діяльності з медичної практи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ормативно-правові актіи, на підставі яких здійснюється господарська діяльность з медичної прак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 Т А Т У Т АМБУЛАТОРІЇ ЗПСМ С.Часлівці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 о р у ч е н н я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 узгодження документів на видачу (переоформлення) ліцензі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ява на ліцензуван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31520"/>
            <a:ext cx="864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КАРПАТСЬКА   ОБЛАСНА   ДЕРЖАВНА   АДМІНІСТРАЦІ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ПРАВЛІННЯ ОХОРОНИ ЗДОРОВ’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 А К А З   №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2-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  “ 20  ”березня 2007року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м.Уж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о підготовку матеріалів на отриман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іцензії  для провадження господарської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іяльності з медичної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9036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КАЗУ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. Начальникам відділів охорони здоров’я райдержадміністрацій, Ужгородської міської ради, головним лікарям лікувально-профілактичних закладів області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1.Підготувати пакет документів згідно вимог Ліцензійних умов провадження господарської діяльності з медичної практики для отримання в управлінні охорони здоров’я довідки про стан матеріально-технічної бази суб'єкта господарювання (далі – довідка) до 01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2. Забезпечити подачу довідки у відділ розвитку охорони здоров’я, медичного страхування, ліцензування, акредитації та метрології Департаменту економіки, фінансування та майнових відносин МОЗ України з метою отримання ліцензії для провадження господарської діяльності з медичної практики до 15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3. Інформувати управління охорони здоров’я про отримання ліцензії до 15.05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ДЛ та СЛ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амбулаторій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61128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уб'єкти, господарська діяльність яких підлягає ліцензуванню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тею 16, 17 Основ законодавства України про охорону здоров'я, статтею 2 Закону України „Про ліцензування певних видів господарської діяльності” визначено, що ліцензуванню підлягають всі суб'єкти господарювання, які мають намір здійснювати медичну практи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ійснення медичної практики без отримання ліцензії – забороняється, особи, які здійснюють медичну практику без ліцензії притягуються до адміністративної, кримінальної відповідальност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Ліцензування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ідповідно до абзацу 2 статті 16 Основ законодавства України про охорону здоров'я, пункту 26 статті 9 Закону Україн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о ліцензування певних видів господарської діяльності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медична практика, як вид господарської діяльності, підлягає ліцензуванню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ом ліцензування медичної практики є Міністерство охорони здоров'я України (пункт 6 Переліку органів ліцензування, затвердженого постановою Кабінет Міністрів України від 14 листопада 2000 р. № 1698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Ліцензійну комісію Міністерства охорони здоров'я України покладено обов'язок по розгляду документів, поданих суб'єктами господарювання до МОЗ України для здійснення господарської діяльності з медичної практики, прийняття рішень щодо видачі, переоформлення та анулювання ліцензій на здійснення господарської діяльності з медичної практики, видачі дублікатів ліцензі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640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коном України </a:t>
            </a:r>
            <a:r>
              <a:rPr b="0" lang="uk-UA" sz="2400" spc="-1" strike="noStrike">
                <a:solidFill>
                  <a:srgbClr val="00ccff"/>
                </a:solidFill>
                <a:latin typeface="Times New Roman"/>
              </a:rPr>
              <a:t>"Про ліцензування певних видів господарської</a:t>
            </a: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діяльності"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ст. 9) встановлюються види господарської діяльності, які підлягають ліцензуванню. Згідно з цим Законом, ліцензуванню підлягає господарська діяльність з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таттею 3 Закону України "Основи законодавства України про охорону здоров'я" визначено, що установи охорони здоров'я - це підприємства, установи й організації, завданням яких є забезпечення різноманітних потреб населення у сфері охорони здоров'я шляхом надання медико-санітарної допомоги, включаючи широкий спектр профілактичних і лікувальних заходів або послуг медичного характеру, а також виконання інших функцій на основі професійної діяльності медичних працівникі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3:58Z</dcterms:modified>
  <cp:revision>97</cp:revision>
  <dc:subject/>
  <dc:title>PowerPoint Presentation</dc:title>
</cp:coreProperties>
</file>