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84F-2079-48CA-8C5B-3C50929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D0D-7A99-41FE-9E26-D13BCEA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FBC-DD8D-4E8C-AD38-4FD4B868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DA9-440E-4023-A27B-2397B1D1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D50-470B-44A7-8528-E953F749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4470-1D8B-40CC-9468-4A620EB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4435-214C-4018-8B1F-4C7F9C0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07A0-A44D-495C-B418-1150FA45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CF9B-C514-4747-8433-894885A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65F-7AE7-496F-AF99-85462C83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07D-129E-4D71-8B31-886174C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FD6-5464-4027-B267-58B2BFD6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ABB1-DCE9-44C2-8613-8D29293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AEC-ADDE-4AD2-868A-DF9A06F1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49E-8707-4A63-ACD2-7851CE0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A903-54B5-4EDE-A0D2-F7CB8531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C544-BDB4-43B9-B8D8-93104777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DF0-418E-4AEE-AD23-4179CBC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D91-F27B-4F74-BFBE-47DB61E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FB6-40E9-40B2-8839-D034753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96E-894A-4F8E-9EAB-D9829B7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356-0A75-4783-9B66-CB4DCB1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CB6-C31F-460B-9C4D-DBEC33E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F69-1EF9-47D7-A0A5-ACD7DBE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7CAA-3B32-43E4-B5A2-BA1810F6CB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736-3FF9-4FBA-BF3D-297BE5D6BA8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Громадське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як інтегральна характеристика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суспільств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71600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Компоненти здоров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я: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матичне 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фізи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психі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ціаль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духов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Соматичне здоров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стан органів та систем організму людини, основу якого становить біологічна програма індивідуального розвит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о сфери</a:t>
            </a: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фізичного 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включають такі чинники, як індивідуальні особливості анатомічної будови тіла, фізіологічних функцій організму в різних умовах спокою, руху, довкілля, генетичної спадщини, рівня фізичного розвитку органів і систем організму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До сфери </a:t>
            </a:r>
            <a:r>
              <a:rPr b="0" i="1" lang="uk-UA" sz="4400" spc="-1" strike="noStrike">
                <a:solidFill>
                  <a:srgbClr val="eec85e"/>
                </a:solidFill>
                <a:latin typeface="Arial"/>
              </a:rPr>
              <a:t>психічного здоров'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відносять індивідуальні особливості психічних процесів і властивостей людини, наприклад збудженість, емоційність, чутливість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eec85e"/>
                </a:solidFill>
                <a:latin typeface="Arial"/>
              </a:rPr>
              <a:t>Духовне здоров'я</a:t>
            </a: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 залежить від духовного світу особистості, обумовлюється її стосунками з такими складовими як освіта, наука, релігія, мораль, етика. </a:t>
            </a:r>
            <a:br>
              <a:rPr sz="3100"/>
            </a:b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Свідомість людини, її ментальність, життєва самоідентифікація, ставлення до сенсу життя, оцінка реалізації власних здібностей і можливостей  - усе це обумовлює стан духовного здоров'я індивіда.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eec85e"/>
                </a:solidFill>
                <a:latin typeface="Arial"/>
              </a:rPr>
              <a:t>Соціальне здоров'я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 пов'язано з соціально-економічними чинниками, стосунками з сім’єю, з різними соціальними структурами (місце навчання/роботи, відпочинку, побуту, рівнем соціального захисту, охорони здоров'я, безпеки існування тощо). На нього суттєво впливає ризикована поведінка, соціальний стан людини, місце проживання та соціальне оточ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Виконання основного стратегічного завдання в діяльності системи охорони здоров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я населення, поліпшення якості надання медичної допомоги, розробка конкретних лікувальних і профілактичних заходів, форм і методів роботи окремих спеціалізованих служб – неможливе без знання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их характеристик, тенденцій та закономірностей стану здоро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я насел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Сьогодні існує багато підходів до визначення поняття “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”. Практично в кожному з них не враховуються ті чи інші важливі аспекти життєдіяльності людини, населення в цілому. Очевидно, що не існує універсального, придатного для всіх випадків життя, визначення 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організму, всі частини якого нормально розвинені та правильно функціонують"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стан індивіда, чий організм функціонує добре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фізичної міцності та благополуччя, при якому організм правильно виконує свої функції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гармонійна єдність біологічних і соціальних якостей, обумовлених вродженими та набутими біологічними та соціальним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чинниками (а хвороба є порушенням цієї єдності, цієї гармонії)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Теоретичний (індивідуальне теоретичне) підхід: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ВООЗ: 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“ Здоров'я -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”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Практичний (індивідуальне практичне) підхі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aeaea"/>
                </a:solidFill>
                <a:latin typeface="Verdana"/>
              </a:rPr>
              <a:t>це здатність організму повноцінно виконувати свої біологічні та соціальні функції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Хвороба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це окремий випадок здоров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я, коли рівень його знижений або є його дефек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8:25:31Z</dcterms:created>
  <dc:creator>Admin</dc:creator>
  <dc:description/>
  <dc:language>en-US</dc:language>
  <cp:lastModifiedBy>Ljuba</cp:lastModifiedBy>
  <dcterms:modified xsi:type="dcterms:W3CDTF">2014-10-07T08:23:36Z</dcterms:modified>
  <cp:revision>127</cp:revision>
  <dc:subject/>
  <dc:title>Здоров’я населення.  Чинники, що обумовлюють здоров’я населення. </dc:title>
</cp:coreProperties>
</file>