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23D-20D2-439F-89D2-D5323B26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D50-7CD8-4309-A8B9-6AE4FD46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1DA-128F-40B3-BA8E-E1A53C26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38C-8EF7-4710-B0DB-DE38EE1C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8CBE-6ADF-434D-935B-6AC36305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EF02-847E-4C00-B0AD-8237B3E6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9DE9-7D73-4318-A813-3B2723C4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B5DF-2534-4574-BE63-6555CAD0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F0A8-8D3E-4D8D-B245-93D1894E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91BF-FCF8-4A9E-994A-63888BA8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9530-CC15-412D-A4C5-FA9FF9E8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ACF-DBB7-4881-9B4A-4F67D922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8BF3-A4F1-44C2-8A53-8479270B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686D-9265-4AC2-9084-7421AC9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5CAC-6AF5-4439-88CF-3B00908D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47C5-04A4-416C-AAB2-4622A581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5720-0E54-45E0-A564-DF84B3BE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E15-68FF-42A5-9E91-FF96A0D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FE5-E891-45D2-BCE2-34FDB2E6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D0A-8E55-4A85-BD48-EA056DDE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F64-9F01-4114-B1E5-3CD1107B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0CF-D5C1-4174-8F9F-88EAE2B0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877-7905-4994-8795-25A571E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785-DF4A-474D-9E26-F37212A1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90EA-9CBF-4E43-8D0C-45EB44A81B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1B9E-DE38-402A-AF1B-FAECF0872CF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Громадське здоров</a:t>
            </a:r>
            <a:r>
              <a:rPr b="0" lang="en-US" sz="51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я як інтегральна характеристика здоров</a:t>
            </a:r>
            <a:r>
              <a:rPr b="0" lang="en-US" sz="51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я суспільств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71600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Доц. Погоріляк Р.Ю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Компоненти здоров</a:t>
            </a:r>
            <a:r>
              <a:rPr b="0" lang="ru-RU" sz="4000" spc="-1" strike="noStrike">
                <a:solidFill>
                  <a:srgbClr val="eec85e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я: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соматичне 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фізич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психіч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соціаль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духов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ec85e"/>
                </a:solidFill>
                <a:latin typeface="Arial"/>
              </a:rPr>
              <a:t>Соматичне здоров</a:t>
            </a: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eec85e"/>
                </a:solidFill>
                <a:latin typeface="Arial"/>
              </a:rPr>
              <a:t>я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стан органів та систем організму людини, основу якого становить біологічна програма індивідуального розвитк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До сфери</a:t>
            </a:r>
            <a:r>
              <a:rPr b="0" i="1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фізичного 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включають такі чинники, як індивідуальні особливості анатомічної будови тіла, фізіологічних функцій організму в різних умовах спокою, руху, довкілля, генетичної спадщини, рівня фізичного розвитку органів і систем організму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До сфери </a:t>
            </a:r>
            <a:r>
              <a:rPr b="0" i="1" lang="uk-UA" sz="4400" spc="-1" strike="noStrike">
                <a:solidFill>
                  <a:srgbClr val="eec85e"/>
                </a:solidFill>
                <a:latin typeface="Arial"/>
              </a:rPr>
              <a:t>психічного здоров'я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відносять індивідуальні особливості психічних процесів і властивостей людини, наприклад збудженість, емоційність, чутливість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100" spc="-1" strike="noStrike">
                <a:solidFill>
                  <a:srgbClr val="eec85e"/>
                </a:solidFill>
                <a:latin typeface="Arial"/>
              </a:rPr>
              <a:t>Духовне здоров'я</a:t>
            </a:r>
            <a:r>
              <a:rPr b="0" lang="uk-UA" sz="3100" spc="-1" strike="noStrike">
                <a:solidFill>
                  <a:srgbClr val="ffffcc"/>
                </a:solidFill>
                <a:latin typeface="Arial"/>
              </a:rPr>
              <a:t> залежить від духовного світу особистості, обумовлюється її стосунками з такими складовими як освіта, наука, релігія, мораль, етика. </a:t>
            </a:r>
            <a:br>
              <a:rPr sz="3100"/>
            </a:br>
            <a:r>
              <a:rPr b="0" lang="uk-UA" sz="3100" spc="-1" strike="noStrike">
                <a:solidFill>
                  <a:srgbClr val="ffffcc"/>
                </a:solidFill>
                <a:latin typeface="Arial"/>
              </a:rPr>
              <a:t>Свідомість людини, її ментальність, життєва самоідентифікація, ставлення до сенсу життя, оцінка реалізації власних здібностей і можливостей  - усе це обумовлює стан духовного здоров'я індивіда.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eec85e"/>
                </a:solidFill>
                <a:latin typeface="Arial"/>
              </a:rPr>
              <a:t>Соціальне здоров'я</a:t>
            </a: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 пов'язано з соціально-економічними чинниками, стосунками з сім’єю, з різними соціальними структурами (місце навчання/роботи, відпочинку, побуту, рівнем соціального захисту, охорони здоров'я, безпеки існування тощо). На нього суттєво впливає ризикована поведінка, соціальний стан людини, місце проживання та соціальне оточення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Виконання основного стратегічного завдання в діяльності системи охорони здоров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я населення, поліпшення якості надання медичної допомоги, розробка конкретних лікувальних і профілактичних заходів, форм і методів роботи окремих спеціалізованих служб – неможливе без знання 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основних характеристик, тенденцій та закономірностей стану здоров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я населення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Сьогодні існує багато підходів до визначення поняття “здоров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я”. Практично в кожному з них не враховуються ті чи інші важливі аспекти життєдіяльності людини, населення в цілому. Очевидно, що не існує універсального, придатного для всіх випадків життя, визначення здоров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я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це стан організму, всі частини якого нормально розвинені та правильно функціонують"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стан індивіда, чий організм функціонує добре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це стан фізичної міцності та благополуччя, при якому організм правильно виконує свої функції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гармонійна єдність біологічних і соціальних якостей, обумовлених вродженими та набутими біологічними та соціальними</a:t>
            </a: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чинниками (а хвороба є порушенням цієї єдності, цієї гармонії)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Теоретичний (індивідуальне теоретичне) підхід: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ВООЗ: 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“ Здоров'я -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”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Практичний (індивідуальне практичне) підхід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aeaea"/>
                </a:solidFill>
                <a:latin typeface="Verdana"/>
              </a:rPr>
              <a:t>це здатність організму повноцінно виконувати свої біологічні та соціальні функції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Хвороба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це окремий випадок здоров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я, коли рівень його знижений або є його дефект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8:25:31Z</dcterms:created>
  <dc:creator>Admin</dc:creator>
  <dc:description/>
  <dc:language>en-US</dc:language>
  <cp:lastModifiedBy>Ljuba</cp:lastModifiedBy>
  <dcterms:modified xsi:type="dcterms:W3CDTF">2014-10-07T08:23:36Z</dcterms:modified>
  <cp:revision>127</cp:revision>
  <dc:subject/>
  <dc:title>Здоров’я населення.  Чинники, що обумовлюють здоров’я населення. </dc:title>
</cp:coreProperties>
</file>