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8EA-E61F-4776-AF36-58549C2B2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2E9-C667-4377-A56C-B01AADFA22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858-CEB8-4BDA-9A17-E21DEACC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5B5-318E-4750-B6E0-CBC860C9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4E6-5B4F-4F9D-A26E-7D925D7A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761-836C-4ECC-8990-85DB6CF1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370D-9B3C-4922-96BA-553BB3E6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838F-782F-4CEF-B9C9-4BA1F9A1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ED8B-3C24-420E-9D01-C3E78E82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924-1DD4-4F8B-8FAB-38C19109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123-5CB4-4B91-B1FC-304B200D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DD7-E1F2-4CE9-8F8B-A2EA931A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9B00-652E-4094-99C1-2007DF8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FF5-0FDF-48E4-ACA2-5A8CA23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615E-215A-44C1-ABB4-1FA4826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471C-5238-4402-9C65-BC4F47EF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566-4AFA-4DF0-B178-B5D5902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59F8-2323-49F2-B724-4177BAAF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693A-48C6-4D8E-B83B-12AA769D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FB3-20A0-48C8-8AA8-4C6C8E7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DC4-F234-4C79-B151-AE9B16A9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4AD-560F-41F5-B3DF-8473DD82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427-E198-4105-ADA4-D35BDC3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DC9-0FD3-449E-BB18-6BF50A3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109-3B91-47CB-BE63-7881D70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042-C974-4FE3-85BA-B289AD9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1C0-5603-4F33-A82A-48E605CB8F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EC9-EA85-4443-A953-24416BE1CF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Етичний кодекс лікаря України: </a:t>
            </a:r>
            <a:br>
              <a:rPr sz="4800"/>
            </a:b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крок до цивілізованої медицин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19280" y="710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-10044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Розділ 6. Новітні медичні технолог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1 Дії лікаря при застосуванні новітніх медичних технологій (трансплантація людських органів і тканин, втручання в геном людини, у репродуктивну функцію тощо) визначаються етико-правовими і законодавчо-нормативними актами України, рекомендаціями та вимогами Всесвітньої організації охорони здоров’я, Біоетичного комітету ЮНЕСКО та Комісії з питань біоет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81080" y="-168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і для кого не секрет, що галузь охорони здор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 в Україні далека від доскональності й потребує докорінних змін у системах управління, фінансування, освіти тощо. Довіра до медичного працівника – головний чинник успішного лікування – майже зруйнована. Разом з тим донині у вітчизняній медицині не існувало документа, який би декларував морально-етичні принципи діяльності лікаря. Нарешті восени 2009 р. під час роботи Х з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їзду Всеукраїнського лікарського товариства (ВУЛТ) було прийнято Етичний кодекс лікаря України – це стало історичною подією для всієї медичної спільно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11280" y="1341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орально-етичні принципи, якими керувалися нащадки Асклепія під час виконання професійних об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зків, існували ще 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ревні часи. Вони передавалися від покоління до покоління в усній формі, а за часів Гіппократа були викладені у вигляді славнозвісної клятв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чезне значення моралі приділяв у своїх роботах Арістотель. Він уперше використав термін “етика”, під яким розумів філософію моральної поведінки людей. У староіндійській книзі “Аюрведа” (“Книга життя”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-VI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ст. до н.е.) відображено прототип лікаря: “Він повинен мати чисте, співчутливе серце, правдивий характер, спокійний темперамент, відрізнятися великою розсудливістю і порядністю, постійним прагненням до добра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датний представник середньовічної медицини, Арабський філософ і лікар Авіценна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X-X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н.е.) вніс свій вклад у розвиток медичної етики. У роботі “Канон лікарської науки” він зазначав, що лікар повинен мати очі, як у сокола, ніжні дівочі руки, бути мудрим, як змія, і мати безстрашне серце ле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1267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VII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за ініціативою голандського лікаря Ніколаса Тульпа палаюча свічка стала емблемою середньовічних медиків, вона відображала девіз тогочасних лікарів: “Згораю сам, аби світити інш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557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початк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. ставлення до клятви Гіппократа та решти попередніх зведень етичних норм дещо змінилося, що пояснюється численними здобутками та відкриттями у галузі медици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уково-технічний прогрес не стоїть на місці: активно розробляються інноваційні лікарські засоби, впроваджуються новітні біотехнології, практикуються генна інженерія і трансплантація органів, проводяться експерименти з клонування, звичним стає лікування безпліддя шляхом екстракорпорального заплідне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країні становлення та впровадження у практику принципів медичної етики п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ане з радянським минулим. Випускники медичних ВНЗ СРСР складали присягу лікаря Радянського Союзу. Після проголошення незалежності України вона втратила актуальніст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59:39Z</dcterms:created>
  <dc:creator>Customer</dc:creator>
  <dc:description/>
  <dc:language>en-US</dc:language>
  <cp:lastModifiedBy>Ljuba</cp:lastModifiedBy>
  <dcterms:modified xsi:type="dcterms:W3CDTF">2014-10-07T08:21:25Z</dcterms:modified>
  <cp:revision>41</cp:revision>
  <dc:subject/>
  <dc:title>Як утримати спеціаліста в лікувально профілактичному закладі</dc:title>
</cp:coreProperties>
</file>