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41C4-0591-43A7-9EC1-8099FE33CC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F5A1-27DD-448C-A395-EB76867A3E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C642-406C-46FB-B197-870819B8C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C4EA-0D9A-406D-8654-3B0044D8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DAD6-FA8D-42F1-828A-9351A735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61D6-B1CA-4A0C-A858-ECF80B4A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CB89-EBA0-4CDD-B473-798618170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3D57-30BE-4394-BE2D-B4829087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7998-71C6-4AF2-B85F-8779EB3D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9DCD-4171-4028-9199-B7F15D95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A8F9-B7A7-4F48-AA39-F911EC3B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8583-C8A3-4DD9-A50D-6F1E7A66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DAF9-66FF-499F-9C7E-F9AF56D6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7682-3993-48D7-AAB7-47C9A849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E7F2-F3CF-4243-BAB1-C9D94AE7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4BE5-D3C4-4E0F-A56A-DB48148E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27F2-8BC1-4DFA-BB04-1FE0CEDB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E8EF-E20D-409F-B09F-447DC3CA0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6771-CB7C-4124-90E4-385BF20EF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5D6A-35B9-4483-92F0-61E8423E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B0E3-BC01-4716-940C-C411BAC4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8847-5DE6-4E57-8019-17790DD4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B1D8-DA69-4584-898A-34EE38CF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D5E3-8ABE-4FEE-ADF6-3864C6D8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6CC5-CDDA-4E3B-A36F-AEA028EF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E114-3CF9-4B86-BD98-25DE173A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A822-7942-46DD-ABF4-ACC0D03693D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343D-A163-4A41-B529-65F898DE44D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227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ccecff"/>
                </a:solidFill>
                <a:latin typeface="Arial"/>
              </a:rPr>
              <a:t>Етичний кодекс лікаря України: </a:t>
            </a:r>
            <a:br>
              <a:rPr sz="4800"/>
            </a:br>
            <a:r>
              <a:rPr b="0" lang="uk-UA" sz="4800" spc="-1" strike="noStrike">
                <a:solidFill>
                  <a:srgbClr val="ccecff"/>
                </a:solidFill>
                <a:latin typeface="Arial"/>
              </a:rPr>
              <a:t>крок до цивілізованої медицини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619280" y="710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68360" y="-100440"/>
            <a:ext cx="82296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Розділ 6. Новітні медичні технології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1 Дії лікаря при застосуванні новітніх медичних технологій (трансплантація людських органів і тканин, втручання в геном людини, у репродуктивну функцію тощо) визначаються етико-правовими і законодавчо-нормативними актами України, рекомендаціями та вимогами Всесвітньої організації охорони здоров’я, Біоетичного комітету ЮНЕСКО та Комісії з питань біоетик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181080" y="-16844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Ні для кого не секрет, що галузь охорони здоров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`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я в Україні далека від доскональності й потребує докорінних змін у системах управління, фінансування, освіти тощо. Довіра до медичного працівника – головний чинник успішного лікування – майже зруйнована. Разом з тим донині у вітчизняній медицині не існувало документа, який би декларував морально-етичні принципи діяльності лікаря. Нарешті восени 2009 р. під час роботи Х з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`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їзду Всеукраїнського лікарського товариства (ВУЛТ) було прийнято Етичний кодекс лікаря України – це стало історичною подією для всієї медичної спільно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611280" y="1341000"/>
            <a:ext cx="82296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Морально-етичні принципи, якими керувалися нащадки Асклепія під час виконання професійних обов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`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язків, існували ще в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древні часи. Вони передавалися від покоління до покоління в усній формі, а за часів Гіппократа були викладені у вигляді славнозвісної клятв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еличезне значення моралі приділяв у своїх роботах Арістотель. Він уперше використав термін “етика”, під яким розумів філософію моральної поведінки людей. У староіндійській книзі “Аюрведа” (“Книга життя”,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-VI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 ст. до н.е.) відображено прототип лікаря: “Він повинен мати чисте, співчутливе серце, правдивий характер, спокійний темперамент, відрізнятися великою розсудливістю і порядністю, постійним прагненням до добра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95280" y="54936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датний представник середньовічної медицини, Арабський філософ і лікар Авіценна (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X-X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ст. н.е.) вніс свій вклад у розвиток медичної етики. У роботі “Канон лікарської науки” він зазначав, що лікар повинен мати очі, як у сокола, ніжні дівочі руки, бути мудрим, як змія, і мати безстрашне серце лев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9640" y="1267920"/>
            <a:ext cx="82296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XVII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ст. за ініціативою голандського лікаря Ніколаса Тульпа палаюча свічка стала емблемою середньовічних медиків, вона відображала девіз тогочасних лікарів: “Згораю сам, аби світити інши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539640" y="1557000"/>
            <a:ext cx="82296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початку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XX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. ставлення до клятви Гіппократа та решти попередніх зведень етичних норм дещо змінилося, що пояснюється численними здобутками та відкриттями у галузі медицин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уково-технічний прогрес не стоїть на місці: активно розробляються інноваційні лікарські засоби, впроваджуються новітні біотехнології, практикуються генна інженерія і трансплантація органів, проводяться експерименти з клонування, звичним стає лікування безпліддя шляхом екстракорпорального заплідненн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68360" y="54936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Україні становлення та впровадження у практику принципів медичної етики пов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`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зане з радянським минулим. Випускники медичних ВНЗ СРСР складали присягу лікаря Радянського Союзу. Після проголошення незалежності України вона втратила актуальність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12:59:39Z</dcterms:created>
  <dc:creator>Customer</dc:creator>
  <dc:description/>
  <dc:language>en-US</dc:language>
  <cp:lastModifiedBy>Ljuba</cp:lastModifiedBy>
  <dcterms:modified xsi:type="dcterms:W3CDTF">2014-10-07T08:21:25Z</dcterms:modified>
  <cp:revision>41</cp:revision>
  <dc:subject/>
  <dc:title>Як утримати спеціаліста в лікувально профілактичному закладі</dc:title>
</cp:coreProperties>
</file>