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186A-87C0-4C5C-B5A9-765B9E29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2AEC-98D1-4A5F-A8DB-E03274BD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DAF6-93A4-48AC-A1E7-868BD143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DAFC-7327-405A-9EC7-C0325E07A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C259-B704-404D-B2CD-07C9D24C1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8C44-C7F5-4818-A808-6B87FA4F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38CA-2195-4974-A8E1-58FE659D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DEA2-0C5F-4962-986E-0BDD35F8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8C1B-EBFB-40B1-B8B1-D2BC3939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8358-4386-43E9-813E-16027190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5D60-55A6-472B-9BC7-5399F549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08F8-748B-4D17-9DB4-828FA15D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DDB3-41CC-4A79-82EA-CA80EC8E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4DD2-EFD2-4984-A9C9-A0AA5C94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0159-2817-4362-BC0D-8218CE65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BF1E-F52F-4BDE-BD28-3A88C18A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83C0-C9B5-4A2C-A1A0-FCD3DA74E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4924-6975-4389-9B28-2C2161DC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1CAF-4A4E-4437-8796-911220D2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BBBC-7D41-40E8-A2D1-C521A244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9352-A74A-4F83-80CC-8E6A856C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44D4-C398-410F-9F2B-5861B028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5F9E-0E4C-4915-B859-DF3EB6FE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68CB-3107-4CFD-B187-F5052586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C1EB-18F5-4A3A-8E6B-76A1C71C31A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5A12-AA31-4122-9D12-18BAEB5FF2E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ccecff"/>
                </a:solidFill>
                <a:latin typeface="Arial"/>
              </a:rPr>
              <a:t>Справочинство в системі охорони здоров</a:t>
            </a: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’</a:t>
            </a:r>
            <a:r>
              <a:rPr b="1" lang="uk-UA" sz="5400" spc="-1" strike="noStrike">
                <a:solidFill>
                  <a:srgbClr val="ccecff"/>
                </a:solidFill>
                <a:latin typeface="Arial"/>
              </a:rPr>
              <a:t>я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ц. Погоріляк Р.Ю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ccecff"/>
                </a:solidFill>
                <a:latin typeface="Arial"/>
              </a:rPr>
              <a:t>Автобіографія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це документ, у якому особа, що складає його, подає опис свого життя та діяльності в хронологічній послідовності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Автобіографія має бути вичерпною й лаконічною, може писатися від руки або з використанням технічних засобів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Залежно від призначення автобіографія може бути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uk-UA" sz="2800" spc="-1" strike="noStrike">
                <a:solidFill>
                  <a:srgbClr val="ffc000"/>
                </a:solidFill>
                <a:latin typeface="Verdana"/>
              </a:rPr>
              <a:t>автобіографією-розповіддю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(укладається в довільній формі)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uk-UA" sz="2800" spc="-1" strike="noStrike">
                <a:solidFill>
                  <a:srgbClr val="ffc000"/>
                </a:solidFill>
                <a:latin typeface="Verdana"/>
              </a:rPr>
              <a:t>автобіографією-документом</a:t>
            </a:r>
            <a:r>
              <a:rPr b="1" lang="uk-UA" sz="2800" spc="-1" strike="noStrike">
                <a:solidFill>
                  <a:srgbClr val="ffc000"/>
                </a:solidFill>
                <a:latin typeface="Verdana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(точно    викладаються основні факти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3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cc66"/>
                </a:solidFill>
                <a:latin typeface="Arial"/>
              </a:rPr>
              <a:t>Діловодство (справочинство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- це сукупність управлінських дій з утворення, реєстрації, руху, організації контролю виконання документів, формуванню справ, підготовки документів до зберіганн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Діловодство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ходить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ід старовинного «виробництво справ» - процес прийняття рішень на підставі документі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Головним завданням діловодства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є забезпечення швидкої і ефективної роботи підприємства, установи чи організації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Задачі діловодства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езпечення ефективного процесу управління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ворення документів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берігання та забезпечення доступу до документів.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Складові частини діловодства</a:t>
            </a:r>
            <a:r>
              <a:rPr b="1" lang="uk-UA" sz="3600" spc="-1" strike="noStrike">
                <a:solidFill>
                  <a:srgbClr val="ffcc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стема документації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стема документування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рганізація роботи з документ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Система документації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е сукупність взаємопов'язаних документів, що застосовуються у певній сфері діяльності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пр.,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система управлінських документів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яка має багато підсистем – функціональні, міжгалузеві та галузеві систем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 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функціональних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систем належить планова, матеріально-технічна, звітно-статистичн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 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галузевих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систем належать документи, які стосуються певної галузі в країні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 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міжгалузевих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– документи, що стосуються двох чи більше галузей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Система документування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е сукупність процесів і прийомів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створення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всієї документації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в установах, в ході здійснення ними своїх функцій. Документування охоплює всі операції по складанню, погодженню, затвердженню, оформленню і виготовленню документів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истема документування передбачає наявність відповідних вимог і нормативів створення документів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Організація роботи з документами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 створення умов, що забезпечують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рух, пошук і збереження документів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в діловодстві. Сюди входить прийом, реєстрація, розподіл, контроль виконання, формування справ, довідково-пошукова робота, передархівна обробка, збереження і використання документі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cc66"/>
                </a:solidFill>
                <a:latin typeface="Arial"/>
              </a:rPr>
              <a:t>Види діловодства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ffff"/>
                </a:solidFill>
                <a:uFillTx/>
                <a:latin typeface="Verdana"/>
              </a:rPr>
              <a:t>а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дміністративне (загальне) діловодство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- це операції по документуванню розпорядчої і виконавчої діяльності організації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ffff"/>
                </a:solidFill>
                <a:uFillTx/>
                <a:latin typeface="Verdana"/>
              </a:rPr>
              <a:t>с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пеціальне діловодство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- це  робота з документами, специфічними для кожної із функцій управління, а також для таких областей діяльності як транспорт, зв’язок, статистика, лікарська справ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ред спеціального діловодства розрізняють: бухгалтерське, нотаріальне, військове, діловодство по особовому складу установи та ін.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juba</cp:lastModifiedBy>
  <dcterms:modified xsi:type="dcterms:W3CDTF">2014-10-07T08:20:28Z</dcterms:modified>
  <cp:revision>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