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826-3BC3-4A28-991D-5939B7C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0FD-C297-4373-915C-6526241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285-8F5D-4D62-99F0-99A57269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957-0FB0-456C-89D1-3B5FA76B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9914-9BB0-4DC2-99DC-E191A2DE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D285-D31E-4114-888D-18308185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FCF-E2FC-4F88-B83A-0BEE2949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80AF-E75A-41CE-BCC2-73188BA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AAFB-F7CE-4B1A-A662-71A3D02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3BD-3F67-40D6-B74C-91A3D433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2F0E-9BA6-466F-AEE9-8A51959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0F3-1684-41C7-982B-DB1EC4B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948A-BAE9-432A-BE6C-7C0ACB5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55B-F950-4979-84FE-DFA6858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7406-D49C-492D-A33D-C38558BC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BD9-B818-4E74-A9D4-AF40336C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543F-00DA-4076-9DA2-11F74136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A48-CA20-48B7-B3D9-37128E4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FF1-8834-4ABB-90CA-142C315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E45-6412-47F1-B58E-159A3D2D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632-5BBE-428D-A13F-17F939B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5ED-A9C9-43BC-8A3F-554DCF7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48C-7B86-435E-B2EC-FCDCEDC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013-8953-4A7B-9778-A324807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1600-F717-4290-99BB-7DEF8A9445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760-D128-4332-AC3F-56B71B0034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Справочинство в системі охорони здоров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Автобіографія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документ, у якому особа, що складає його, подає опис свого життя та діяльності в хронологічній послідов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втобіографія має бути вичерпною й лаконічною, може писатися від руки або з використанням технічних засобі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лежно від призначення автобіографія може бу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розповіддю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укладається в довільній формі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документом</a:t>
            </a:r>
            <a:r>
              <a:rPr b="1" lang="uk-UA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точно    викладаються основні факти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Діловодство (справочинство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- це сукупність управлінських дій з утворення, реєстрації, руху, організації контролю виконання документів, формуванню справ, підготовки документів до зберіга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Діловодств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ходить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 старовинного «виробництво справ» - процес прийняття рішень на підставі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оловним завданням діловодств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є забезпечення швидкої і ефективної роботи підприємства, установи чи організац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Задачі діловодства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езпечення ефективного процесу управління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орення документ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берігання та забезпечення доступу до документів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кладові частини діловодства</a:t>
            </a: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ації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уванн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ізація роботи з документ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ації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взаємопов'язаних документів, що застосовуються у певній сфері діяль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.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истема управлінських документі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яка має багато підсистем – функціональні, міжгалузеві та галузеві систе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функціональн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ить планова, матеріально-технічна, звітно-статистичн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ать документи, які стосуються певної галузі в країні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іж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документи, що стосуються двох чи більше галуз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ув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процесів і прийомів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творенн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сієї документації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установах, в ході здійснення ними своїх функцій. Документування охоплює всі операції по складанню, погодженню, затвердженню, оформленню і виготовленню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 документування передбачає наявність відповідних вимог і нормативів створення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рганізація роботи з документ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 створення умов, що забезпечують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ух, пошук і збереження документі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діловодстві. Сюди входить прийом, реєстрація, розподіл, контроль виконання, формування справ, довідково-пошукова робота, передархівна обробка, збереження і використання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Види діловодств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а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дміністративне (загальне)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операції по документуванню розпорядчої і виконавчої діяльності організації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с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ціальне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 робота з документами, специфічними для кожної із функцій управління, а також для таких областей діяльності як транспорт, зв’язок, статистика, лікарська спра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ед спеціального діловодства розрізняють: бухгалтерське, нотаріальне, військове, діловодство по особовому складу установи та ін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0:2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