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E558C-8F62-4727-B60D-D3C170C7B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1ADE7-641C-41D0-A39F-5157A7487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D89A9-2648-41C6-B684-13F1F7C3A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C5C00-67C5-4324-BFC1-97A7F0CAF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FD7C1-EA92-465C-A8D6-B5A2C087A8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8E5F4-2D94-418F-880E-388FF5FCA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3CE33-2E57-4D1E-811C-8CC1B8846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F8EFF-D964-40A8-A96E-29CC22FCC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8750A-BA61-4690-91EA-FD3AA6B85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C4929-23A9-4816-9EC9-2DC2135F1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55097-9934-4BA2-AC44-F93ADB15C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2B6A2-5B6C-43E5-8819-741E92AE5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D6BD8-ED19-4AAA-9308-06E0D4023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1AE72-74D6-4457-966C-76F391A6D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91DCE-DC70-4C6A-9B73-C196B70E8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6323E-7AE8-434A-8E6B-814A8259F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22E2B-BE34-43D7-8BA5-9CE6D2843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BCFC1F-5FA6-49F8-B9B0-691D61C7B1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6BF91D-4965-4424-A885-106FFA9DB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BD0B27-4F64-4DD0-8348-12EB9259AD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0DFC2D-510D-4CAC-878B-9F7A039607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2F6414-D302-4817-AFD5-9A578B6B61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CA4F9-3B52-4804-BB09-E2164C61D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A5F319-8849-486B-BD74-53DDCAA64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91CE3F-030F-4C50-AAD7-7A5F70604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5A8316-14D8-4EEF-B301-08B5B94E9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B2883-0C0D-46A0-89F0-7640AA6A7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0C36A5-E4BF-416B-8B4C-BE826E629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530BB5-6A10-4C6B-99A2-A2BD269D79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021752-E749-49AE-B2D9-0584EAEFF9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7AEC61-199A-4B8D-9D8D-34DF009688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8FB1C8-DDD0-4BCF-A124-9E3CFD04FD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0297DD-D5BC-4F71-B6DC-89AFFCBAC7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7CBA8-A2CC-481C-B920-7037C0E9D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1693F1-F2C2-400C-8BB9-8352770695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5871AE-B139-46AC-8FEF-FDE0C34A40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36315B-28A4-4719-8E43-B78392A334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4AD305-3627-4757-9371-D7B9069EC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6945DA-F8C4-4DEF-BF8E-A76D14C971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83EB3B-5444-43E8-8085-7FAB53EF8F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5E4483-0B2C-4ABE-BE5A-E70D977D0D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6803EC-FEC2-45CC-A178-5C87C8BADA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959BAD-29C3-4D8B-AB77-12A25E1D85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29EF7F-0FAD-4287-9CC0-ED16DE489E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F19BC-FF24-4338-A59C-C157472E4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F18812-DD82-46E6-A76B-57F9E87A42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D844DA-D165-405C-A474-DCEBAF8401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2EEDD7-3816-4DEE-B363-8D977C7E6B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392A5D-BD33-4FEE-80DE-0E19D1729A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97AA3E-05DA-42AC-80FC-5F30C4E161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EC6444-99A1-48B1-8599-CA07162C15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C9CE55-FE82-4E11-9580-4B55DE10A6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536CB6-2B79-431C-ADE9-203F95A364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89515F-1DFA-4344-B885-490E0FC22C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A855AF-67BD-4860-9691-E4BE81C053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B9A77-308B-45A7-99B5-83FC3BCCB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1B1BE8-4A5D-46B5-97FE-66D7F815DA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96DA98-ABB9-44B6-80A5-6C65A67FCC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06E373-AB1C-4DE4-8116-B99F431E94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1A4E55-773E-4FFB-BA21-5000691465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50FEB8-E8C6-4D14-8B0A-C28C348DC6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525A22-EF14-4400-8AE9-1E654691CA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29E802-E9F1-4A62-8CA5-F6C1650A0F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FB8AFC-7B2C-4A31-A620-611064EB82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7C2662-AE0A-44EC-A3A8-5F8C3F4BA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54845F-EAF6-46C9-A313-69EE04361A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39DF3-D045-4481-8B42-8F2AB9F63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421B12-ED22-4924-A356-CA1B1436F3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D9FF83-6A38-4BD1-8559-8214DC7818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4DD4A7-ACC9-4549-9B47-B4DA845841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A43EC-76B0-4CE7-BBBA-43CF4420C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594FB-CD16-4021-8073-51C5DBEE9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E526-5092-4632-AD8E-B3CF4651279E}"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720E-ED05-4704-ABCC-8A2569650CDA}"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0698-A1C9-4D63-B5CD-F81B65B8E9CA}"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024F-ADD3-45F8-BEDD-BDD62D03C8E0}"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F5FA-8CFE-4ED2-96A0-E6D2AC4CAD5E}"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D16A-8855-4EC2-859E-D295B5593F2C}"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652320" y="311040"/>
            <a:ext cx="7948800" cy="4687920"/>
          </a:xfrm>
          <a:prstGeom prst="rect">
            <a:avLst/>
          </a:prstGeom>
          <a:ln w="0">
            <a:noFill/>
          </a:ln>
        </p:spPr>
      </p:pic>
      <p:sp>
        <p:nvSpPr>
          <p:cNvPr id="255" name="PlaceHolder 1"/>
          <p:cNvSpPr>
            <a:spLocks noGrp="1"/>
          </p:cNvSpPr>
          <p:nvPr>
            <p:ph type="subTitle"/>
          </p:nvPr>
        </p:nvSpPr>
        <p:spPr>
          <a:xfrm>
            <a:off x="4572000" y="4785840"/>
            <a:ext cx="3929040" cy="1143000"/>
          </a:xfrm>
          <a:prstGeom prst="rect">
            <a:avLst/>
          </a:prstGeom>
          <a:noFill/>
          <a:ln w="0">
            <a:noFill/>
          </a:ln>
        </p:spPr>
        <p:txBody>
          <a:bodyPr rIns="45720" tIns="0" bIns="0" anchor="b">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Доц. Качала Л.О.</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560"/>
            <a:ext cx="8229600" cy="7185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100" spc="-1" strike="noStrike">
              <a:solidFill>
                <a:srgbClr val="ffffff"/>
              </a:solidFill>
              <a:latin typeface="Franklin Gothic Book"/>
            </a:endParaRPr>
          </a:p>
        </p:txBody>
      </p:sp>
      <p:sp>
        <p:nvSpPr>
          <p:cNvPr id="273" name=""/>
          <p:cNvSpPr txBox="1"/>
          <p:nvPr/>
        </p:nvSpPr>
        <p:spPr>
          <a:xfrm>
            <a:off x="457200" y="642600"/>
            <a:ext cx="8229600" cy="5483160"/>
          </a:xfrm>
          <a:prstGeom prst="rect">
            <a:avLst/>
          </a:prstGeom>
          <a:noFill/>
          <a:ln w="0">
            <a:noFill/>
          </a:ln>
        </p:spPr>
        <p:txBody>
          <a:bodyPr anchor="t">
            <a:normAutofit/>
          </a:bodyPr>
          <a:p>
            <a:pPr marL="419040" indent="-382680"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Слід зауважити, що існує суттєва різниця між поняттями “ керівництво ” та </a:t>
            </a:r>
            <a:endParaRPr b="0" lang="en-US" sz="3000" spc="-1" strike="noStrike">
              <a:solidFill>
                <a:srgbClr val="ffffff"/>
              </a:solidFill>
              <a:latin typeface="Arial"/>
            </a:endParaRPr>
          </a:p>
          <a:p>
            <a:pPr marL="419040" indent="-382680"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 </a:t>
            </a:r>
            <a:r>
              <a:rPr b="0" lang="uk-UA" sz="3000" spc="-1" strike="noStrike">
                <a:solidFill>
                  <a:srgbClr val="ffffff"/>
                </a:solidFill>
                <a:latin typeface="Arial"/>
              </a:rPr>
              <a:t>лідерство ”, які не можна плутати.</a:t>
            </a:r>
            <a:endParaRPr b="0" lang="en-US" sz="3000" spc="-1" strike="noStrike">
              <a:solidFill>
                <a:srgbClr val="ffffff"/>
              </a:solidFill>
              <a:latin typeface="Arial"/>
            </a:endParaRPr>
          </a:p>
          <a:p>
            <a:pPr marL="419040" indent="-382680"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 </a:t>
            </a:r>
            <a:r>
              <a:rPr b="0" lang="uk-UA" sz="3000" spc="-1" strike="noStrike">
                <a:solidFill>
                  <a:srgbClr val="ffffff"/>
                </a:solidFill>
                <a:latin typeface="Arial"/>
              </a:rPr>
              <a:t>Отже, </a:t>
            </a:r>
            <a:r>
              <a:rPr b="1" lang="uk-UA" sz="3000" spc="-1" strike="noStrike">
                <a:solidFill>
                  <a:srgbClr val="ffffff"/>
                </a:solidFill>
                <a:latin typeface="Arial"/>
              </a:rPr>
              <a:t>керівник – це людина, яка обіймає посаду, якій притаманні численні ролі,</a:t>
            </a:r>
            <a:endParaRPr b="0" lang="en-US" sz="3000" spc="-1" strike="noStrike">
              <a:solidFill>
                <a:srgbClr val="ffffff"/>
              </a:solidFill>
              <a:latin typeface="Arial"/>
            </a:endParaRPr>
          </a:p>
          <a:p>
            <a:pPr marL="419040" indent="-382680"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ff"/>
                </a:solidFill>
                <a:latin typeface="Arial"/>
              </a:rPr>
              <a:t> </a:t>
            </a:r>
            <a:r>
              <a:rPr b="1" lang="uk-UA" sz="3000" spc="-1" strike="noStrike">
                <a:solidFill>
                  <a:srgbClr val="ffffff"/>
                </a:solidFill>
                <a:latin typeface="Arial"/>
              </a:rPr>
              <a:t>а лідерство – це одна із тих ролей.</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57600"/>
            <a:ext cx="7467480" cy="73404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fffff"/>
              </a:solidFill>
              <a:latin typeface="Franklin Gothic Book"/>
            </a:endParaRPr>
          </a:p>
        </p:txBody>
      </p:sp>
      <p:sp>
        <p:nvSpPr>
          <p:cNvPr id="275" name="PlaceHolder 2"/>
          <p:cNvSpPr>
            <a:spLocks noGrp="1"/>
          </p:cNvSpPr>
          <p:nvPr>
            <p:ph/>
          </p:nvPr>
        </p:nvSpPr>
        <p:spPr>
          <a:xfrm>
            <a:off x="457200" y="620280"/>
            <a:ext cx="8362800" cy="5505480"/>
          </a:xfrm>
          <a:prstGeom prst="rect">
            <a:avLst/>
          </a:prstGeom>
          <a:noFill/>
          <a:ln w="0">
            <a:noFill/>
          </a:ln>
        </p:spPr>
        <p:txBody>
          <a:bodyPr anchor="t">
            <a:normAutofit/>
          </a:bodyPr>
          <a:p>
            <a:pPr marL="419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000" spc="-1" strike="noStrike">
                <a:solidFill>
                  <a:srgbClr val="ffffff"/>
                </a:solidFill>
                <a:latin typeface="Arial"/>
              </a:rPr>
              <a:t>Висновок із сказаного такий</a:t>
            </a:r>
            <a:r>
              <a:rPr b="1" lang="uk-UA" sz="3000" spc="-1" strike="noStrike">
                <a:solidFill>
                  <a:srgbClr val="ffffff"/>
                </a:solidFill>
                <a:latin typeface="Arial"/>
              </a:rPr>
              <a:t> – результативна праця призведе до задоволення потреб, а не навпаки. Тобто, ця ієрархічна модель мотивації побудована на взаємодії п’яти змінних, на які може впливати керівник, щоб отримати через зусилля працівника позитивний ефект діяльності організації.</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ffffff"/>
                </a:solidFill>
                <a:latin typeface="Franklin Gothic Book"/>
              </a:rPr>
              <a:t>ПИТАННЯ:</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a:bodyPr>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Характеристика лідерства.</a:t>
            </a:r>
            <a:endParaRPr b="0" lang="en-US" sz="3000" spc="-1" strike="noStrike">
              <a:solidFill>
                <a:srgbClr val="ffffff"/>
              </a:solidFill>
              <a:latin typeface="Arial"/>
            </a:endParaRPr>
          </a:p>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оняття “лідерство”, “вплив” та “влада”, їх взаємозв</a:t>
            </a:r>
            <a:r>
              <a:rPr b="0" lang="en-US" sz="3000" spc="-1" strike="noStrike">
                <a:solidFill>
                  <a:srgbClr val="ffffff"/>
                </a:solidFill>
                <a:latin typeface="Arial"/>
              </a:rPr>
              <a:t>’</a:t>
            </a:r>
            <a:r>
              <a:rPr b="0" lang="uk-UA" sz="3000" spc="-1" strike="noStrike">
                <a:solidFill>
                  <a:srgbClr val="ffffff"/>
                </a:solidFill>
                <a:latin typeface="Arial"/>
              </a:rPr>
              <a:t>язок.</a:t>
            </a:r>
            <a:endParaRPr b="0" lang="en-US" sz="3000" spc="-1" strike="noStrike">
              <a:solidFill>
                <a:srgbClr val="ffffff"/>
              </a:solidFill>
              <a:latin typeface="Arial"/>
            </a:endParaRPr>
          </a:p>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Джерела влади.</a:t>
            </a:r>
            <a:endParaRPr b="0" lang="en-US" sz="3000" spc="-1" strike="noStrike">
              <a:solidFill>
                <a:srgbClr val="ffffff"/>
              </a:solidFill>
              <a:latin typeface="Arial"/>
            </a:endParaRPr>
          </a:p>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Основні форми влади.</a:t>
            </a:r>
            <a:endParaRPr b="0" lang="en-US" sz="3000" spc="-1" strike="noStrike">
              <a:solidFill>
                <a:srgbClr val="ffffff"/>
              </a:solidFill>
              <a:latin typeface="Arial"/>
            </a:endParaRPr>
          </a:p>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Триєдність ролі керівника.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259"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Суттєвою проблемою реалізації державної політики з охорони громадського здоров</a:t>
            </a:r>
            <a:r>
              <a:rPr b="0" lang="en-US" sz="3000" spc="-1" strike="noStrike">
                <a:solidFill>
                  <a:srgbClr val="ffffff"/>
                </a:solidFill>
                <a:latin typeface="Arial"/>
              </a:rPr>
              <a:t>`</a:t>
            </a:r>
            <a:r>
              <a:rPr b="0" lang="uk-UA" sz="3000" spc="-1" strike="noStrike">
                <a:solidFill>
                  <a:srgbClr val="ffffff"/>
                </a:solidFill>
                <a:latin typeface="Arial"/>
              </a:rPr>
              <a:t>я в Україні  залишається невідповідність сучасним суспільним потребам компетенції, знань, умінь, навичок керівників у сфері охорони здоров</a:t>
            </a:r>
            <a:r>
              <a:rPr b="0" lang="en-US" sz="3000" spc="-1" strike="noStrike">
                <a:solidFill>
                  <a:srgbClr val="ffffff"/>
                </a:solidFill>
                <a:latin typeface="Arial"/>
              </a:rPr>
              <a:t>`</a:t>
            </a:r>
            <a:r>
              <a:rPr b="0" lang="uk-UA" sz="3000" spc="-1" strike="noStrike">
                <a:solidFill>
                  <a:srgbClr val="ffffff"/>
                </a:solidFill>
                <a:latin typeface="Arial"/>
              </a:rPr>
              <a:t>я.</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261" name="PlaceHolder 2"/>
          <p:cNvSpPr>
            <a:spLocks noGrp="1"/>
          </p:cNvSpPr>
          <p:nvPr>
            <p:ph/>
          </p:nvPr>
        </p:nvSpPr>
        <p:spPr>
          <a:xfrm>
            <a:off x="468000" y="1052640"/>
            <a:ext cx="7467480" cy="4525920"/>
          </a:xfrm>
          <a:prstGeom prst="rect">
            <a:avLst/>
          </a:prstGeom>
          <a:noFill/>
          <a:ln w="0">
            <a:noFill/>
          </a:ln>
        </p:spPr>
        <p:txBody>
          <a:bodyPr anchor="t">
            <a:normAutofit/>
          </a:bodyPr>
          <a:p>
            <a:pPr marL="419040" indent="-38268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Arial"/>
              </a:rPr>
              <a:t>Роль керівника у сфері охорони здоров</a:t>
            </a:r>
            <a:r>
              <a:rPr b="0" lang="en-US" sz="2600" spc="-1" strike="noStrike">
                <a:solidFill>
                  <a:srgbClr val="ffffff"/>
                </a:solidFill>
                <a:latin typeface="Arial"/>
              </a:rPr>
              <a:t>`</a:t>
            </a:r>
            <a:r>
              <a:rPr b="0" lang="uk-UA" sz="2600" spc="-1" strike="noStrike">
                <a:solidFill>
                  <a:srgbClr val="ffffff"/>
                </a:solidFill>
                <a:latin typeface="Arial"/>
              </a:rPr>
              <a:t>я є чи не найскладнішою серед адміністративних посад. Виконання цієї ролі ставатиме ще складнішим по мірі того, як керівники будуть працювати за умов автономізації закладів охорони здоров</a:t>
            </a:r>
            <a:r>
              <a:rPr b="0" lang="en-US" sz="2600" spc="-1" strike="noStrike">
                <a:solidFill>
                  <a:srgbClr val="ffffff"/>
                </a:solidFill>
                <a:latin typeface="Arial"/>
              </a:rPr>
              <a:t>`</a:t>
            </a:r>
            <a:r>
              <a:rPr b="0" lang="uk-UA" sz="2600" spc="-1" strike="noStrike">
                <a:solidFill>
                  <a:srgbClr val="ffffff"/>
                </a:solidFill>
                <a:latin typeface="Arial"/>
              </a:rPr>
              <a:t>я, обмежених ресурсів, з об</a:t>
            </a:r>
            <a:r>
              <a:rPr b="0" lang="en-US" sz="2600" spc="-1" strike="noStrike">
                <a:solidFill>
                  <a:srgbClr val="ffffff"/>
                </a:solidFill>
                <a:latin typeface="Arial"/>
              </a:rPr>
              <a:t>`</a:t>
            </a:r>
            <a:r>
              <a:rPr b="0" lang="uk-UA" sz="2600" spc="-1" strike="noStrike">
                <a:solidFill>
                  <a:srgbClr val="ffffff"/>
                </a:solidFill>
                <a:latin typeface="Arial"/>
              </a:rPr>
              <a:t>єднаними мережами надання інтегрованих соціальних послуг та при зростанні значення технологій збереження здоров</a:t>
            </a:r>
            <a:r>
              <a:rPr b="0" lang="en-US" sz="2600" spc="-1" strike="noStrike">
                <a:solidFill>
                  <a:srgbClr val="ffffff"/>
                </a:solidFill>
                <a:latin typeface="Arial"/>
              </a:rPr>
              <a:t>`</a:t>
            </a:r>
            <a:r>
              <a:rPr b="0" lang="ru-RU" sz="2600" spc="-1" strike="noStrike">
                <a:solidFill>
                  <a:srgbClr val="ffffff"/>
                </a:solidFill>
                <a:latin typeface="Arial"/>
              </a:rPr>
              <a:t>я</a:t>
            </a:r>
            <a:r>
              <a:rPr b="0" lang="uk-UA" sz="2600" spc="-1" strike="noStrike">
                <a:solidFill>
                  <a:srgbClr val="ffffff"/>
                </a:solidFill>
                <a:latin typeface="Arial"/>
              </a:rPr>
              <a:t>, у центрі яких – споживач послуг.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26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Arial"/>
              </a:rPr>
              <a:t>Адекватне виконання цієї ролі вимагає нових навичок та компетентності вмілого проведення політики організації та політичної далекоглядності, впевненості, забезпечення та контролю за якістю послуг, уваги до питань підвищення рентабельності, використання досягнень науки і техніки, інновацій та вміння вирішувати поточні  стратегічні проблеми.</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265"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Arial"/>
              </a:rPr>
              <a:t>Керівники повинні підтвердити свою готовність завжди бути лідерами, що є основною характеристикою управлінця та потребує вдосконалення вмінь, які сприяють впровадженню змін і забезпеченню гнучкості, здатності діяти у невизначеному і нестабільному оточенні та дійсного визначення того, що в організаціях охорони здоров</a:t>
            </a:r>
            <a:r>
              <a:rPr b="0" lang="en-US" sz="2600" spc="-1" strike="noStrike">
                <a:solidFill>
                  <a:srgbClr val="ffffff"/>
                </a:solidFill>
                <a:latin typeface="Arial"/>
              </a:rPr>
              <a:t>`</a:t>
            </a:r>
            <a:r>
              <a:rPr b="0" lang="uk-UA" sz="2600" spc="-1" strike="noStrike">
                <a:solidFill>
                  <a:srgbClr val="ffffff"/>
                </a:solidFill>
                <a:latin typeface="Arial"/>
              </a:rPr>
              <a:t>я постійними є лише зміни.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2280"/>
            <a:ext cx="8229600" cy="7185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100" spc="-1" strike="noStrike">
              <a:solidFill>
                <a:srgbClr val="ffffff"/>
              </a:solidFill>
              <a:latin typeface="Franklin Gothic Book"/>
            </a:endParaRPr>
          </a:p>
        </p:txBody>
      </p:sp>
      <p:sp>
        <p:nvSpPr>
          <p:cNvPr id="267" name=""/>
          <p:cNvSpPr txBox="1"/>
          <p:nvPr/>
        </p:nvSpPr>
        <p:spPr>
          <a:xfrm>
            <a:off x="457200" y="1071720"/>
            <a:ext cx="8229600" cy="5054400"/>
          </a:xfrm>
          <a:prstGeom prst="rect">
            <a:avLst/>
          </a:prstGeom>
          <a:noFill/>
          <a:ln w="0">
            <a:noFill/>
          </a:ln>
        </p:spPr>
        <p:txBody>
          <a:bodyPr anchor="t">
            <a:normAutofit/>
          </a:bodyPr>
          <a:p>
            <a:pPr marL="4190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Найфундаментальнішим у теорії управління та організації є поняття </a:t>
            </a:r>
            <a:r>
              <a:rPr b="0" lang="ru-RU" sz="3600" spc="-1" strike="noStrike">
                <a:solidFill>
                  <a:srgbClr val="ffffff"/>
                </a:solidFill>
                <a:latin typeface="Arial"/>
              </a:rPr>
              <a:t>“</a:t>
            </a:r>
            <a:r>
              <a:rPr b="0" lang="uk-UA" sz="3600" spc="-1" strike="noStrike">
                <a:solidFill>
                  <a:srgbClr val="ffffff"/>
                </a:solidFill>
                <a:latin typeface="Arial"/>
              </a:rPr>
              <a:t>лідерство</a:t>
            </a:r>
            <a:r>
              <a:rPr b="0" lang="ru-RU" sz="3600" spc="-1" strike="noStrike">
                <a:solidFill>
                  <a:srgbClr val="ffffff"/>
                </a:solidFill>
                <a:latin typeface="Arial"/>
              </a:rPr>
              <a:t>”</a:t>
            </a:r>
            <a:r>
              <a:rPr b="0" lang="uk-UA" sz="3600" spc="-1" strike="noStrike">
                <a:solidFill>
                  <a:srgbClr val="ffffff"/>
                </a:solidFill>
                <a:latin typeface="Arial"/>
              </a:rPr>
              <a:t>.</a:t>
            </a:r>
            <a:endParaRPr b="0" lang="en-US" sz="3600" spc="-1" strike="noStrike">
              <a:solidFill>
                <a:srgbClr val="ffffff"/>
              </a:solidFill>
              <a:latin typeface="Arial"/>
            </a:endParaRPr>
          </a:p>
          <a:p>
            <a:pPr marL="4190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 </a:t>
            </a:r>
            <a:r>
              <a:rPr b="0" lang="uk-UA" sz="3600" spc="-1" strike="noStrike">
                <a:solidFill>
                  <a:srgbClr val="ffffff"/>
                </a:solidFill>
                <a:latin typeface="Arial"/>
              </a:rPr>
              <a:t>Це одна з найважливіших справ керівника, яка забезпечує виконання всіх інших функцій та приводить до досягнення її мети.</a:t>
            </a:r>
            <a:endParaRPr b="0" lang="en-US" sz="3600" spc="-1" strike="noStrike">
              <a:solidFill>
                <a:srgbClr val="ffffff"/>
              </a:solidFill>
              <a:latin typeface="Arial"/>
            </a:endParaRPr>
          </a:p>
          <a:p>
            <a:pPr marL="419040" indent="-382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0"/>
            <a:ext cx="8229600" cy="9288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ffffff"/>
                </a:solidFill>
                <a:latin typeface="Franklin Gothic Book"/>
              </a:rPr>
              <a:t>Характеристики лідерства:</a:t>
            </a:r>
            <a:endParaRPr b="0" lang="en-US" sz="4600" spc="-1" strike="noStrike">
              <a:solidFill>
                <a:srgbClr val="ffffff"/>
              </a:solidFill>
              <a:latin typeface="Franklin Gothic Book"/>
            </a:endParaRPr>
          </a:p>
        </p:txBody>
      </p:sp>
      <p:sp>
        <p:nvSpPr>
          <p:cNvPr id="269" name=""/>
          <p:cNvSpPr txBox="1"/>
          <p:nvPr/>
        </p:nvSpPr>
        <p:spPr>
          <a:xfrm>
            <a:off x="457200" y="1000080"/>
            <a:ext cx="8229600" cy="5572080"/>
          </a:xfrm>
          <a:prstGeom prst="rect">
            <a:avLst/>
          </a:prstGeom>
          <a:noFill/>
          <a:ln w="0">
            <a:noFill/>
          </a:ln>
        </p:spPr>
        <p:txBody>
          <a:bodyPr anchor="t">
            <a:normAutofit/>
          </a:bodyPr>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uk-UA" sz="2800" spc="-1" strike="noStrike">
                <a:solidFill>
                  <a:srgbClr val="ffffff"/>
                </a:solidFill>
                <a:latin typeface="Arial"/>
              </a:rPr>
              <a:t>.</a:t>
            </a:r>
            <a:r>
              <a:rPr b="1" lang="uk-UA" sz="2800" spc="-1" strike="noStrike">
                <a:solidFill>
                  <a:srgbClr val="ffffff"/>
                </a:solidFill>
                <a:latin typeface="Arial"/>
              </a:rPr>
              <a:t>	</a:t>
            </a:r>
            <a:r>
              <a:rPr b="1" lang="uk-UA" sz="2800" spc="-1" strike="noStrike">
                <a:solidFill>
                  <a:srgbClr val="ffffff"/>
                </a:solidFill>
                <a:latin typeface="Arial"/>
              </a:rPr>
              <a:t>Лідерство – це процес, через який людина намагається навмисне впливати на іншу особу або групу людей заради досягнення певних цілей.</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2.</a:t>
            </a:r>
            <a:r>
              <a:rPr b="0" lang="uk-UA" sz="2800" spc="-1" strike="noStrike">
                <a:solidFill>
                  <a:srgbClr val="ffffff"/>
                </a:solidFill>
                <a:latin typeface="Arial"/>
              </a:rPr>
              <a:t>	</a:t>
            </a:r>
            <a:r>
              <a:rPr b="0" lang="uk-UA" sz="2800" spc="-1" strike="noStrike">
                <a:solidFill>
                  <a:srgbClr val="ffffff"/>
                </a:solidFill>
                <a:latin typeface="Arial"/>
              </a:rPr>
              <a:t>Лідерство зосереджене в особі, тільки особистості ведуть за собою.</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3.</a:t>
            </a:r>
            <a:r>
              <a:rPr b="0" lang="uk-UA" sz="2800" spc="-1" strike="noStrike">
                <a:solidFill>
                  <a:srgbClr val="ffffff"/>
                </a:solidFill>
                <a:latin typeface="Arial"/>
              </a:rPr>
              <a:t>	</a:t>
            </a:r>
            <a:r>
              <a:rPr b="0" lang="uk-UA" sz="2800" spc="-1" strike="noStrike">
                <a:solidFill>
                  <a:srgbClr val="ffffff"/>
                </a:solidFill>
                <a:latin typeface="Arial"/>
              </a:rPr>
              <a:t>Лідерство спрямоване на інших осіб чи їх групи і не може існувати без зв’</a:t>
            </a:r>
            <a:r>
              <a:rPr b="0" lang="ru-RU" sz="2800" spc="-1" strike="noStrike">
                <a:solidFill>
                  <a:srgbClr val="ffffff"/>
                </a:solidFill>
                <a:latin typeface="Arial"/>
              </a:rPr>
              <a:t>язку між</a:t>
            </a:r>
            <a:r>
              <a:rPr b="0" lang="uk-UA" sz="2800" spc="-1" strike="noStrike">
                <a:solidFill>
                  <a:srgbClr val="ffffff"/>
                </a:solidFill>
                <a:latin typeface="Arial"/>
              </a:rPr>
              <a:t> лідером і послідовниками, отже, </a:t>
            </a:r>
            <a:r>
              <a:rPr b="1" lang="uk-UA" sz="2800" spc="-1" strike="noStrike">
                <a:solidFill>
                  <a:srgbClr val="ffffff"/>
                </a:solidFill>
                <a:latin typeface="Arial"/>
              </a:rPr>
              <a:t>лідерство – це вплив.</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4.</a:t>
            </a:r>
            <a:r>
              <a:rPr b="0" lang="uk-UA" sz="2800" spc="-1" strike="noStrike">
                <a:solidFill>
                  <a:srgbClr val="ffffff"/>
                </a:solidFill>
                <a:latin typeface="Arial"/>
              </a:rPr>
              <a:t>	</a:t>
            </a:r>
            <a:r>
              <a:rPr b="0" lang="uk-UA" sz="2800" spc="-1" strike="noStrike">
                <a:solidFill>
                  <a:srgbClr val="ffffff"/>
                </a:solidFill>
                <a:latin typeface="Arial"/>
              </a:rPr>
              <a:t>Лідерство – це вплив на почуття: емоції, вчинки та дії.</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5.</a:t>
            </a:r>
            <a:r>
              <a:rPr b="1" lang="uk-UA" sz="2800" spc="-1" strike="noStrike">
                <a:solidFill>
                  <a:srgbClr val="ffffff"/>
                </a:solidFill>
                <a:latin typeface="Arial"/>
              </a:rPr>
              <a:t>	</a:t>
            </a:r>
            <a:r>
              <a:rPr b="1" lang="uk-UA" sz="2800" spc="-1" strike="noStrike">
                <a:solidFill>
                  <a:srgbClr val="ffffff"/>
                </a:solidFill>
                <a:latin typeface="Arial"/>
              </a:rPr>
              <a:t>Наміри лідерства – це досягнення мети</a:t>
            </a:r>
            <a:r>
              <a:rPr b="0" lang="uk-UA" sz="2800" spc="-1" strike="noStrike">
                <a:solidFill>
                  <a:srgbClr val="ffffff"/>
                </a:solidFill>
                <a:latin typeface="Arial"/>
              </a:rPr>
              <a:t>.</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6.</a:t>
            </a:r>
            <a:r>
              <a:rPr b="1" lang="uk-UA" sz="2800" spc="-1" strike="noStrike">
                <a:solidFill>
                  <a:srgbClr val="ffffff"/>
                </a:solidFill>
                <a:latin typeface="Arial"/>
              </a:rPr>
              <a:t>	</a:t>
            </a:r>
            <a:r>
              <a:rPr b="1" lang="uk-UA" sz="2800" spc="-1" strike="noStrike">
                <a:solidFill>
                  <a:srgbClr val="ffffff"/>
                </a:solidFill>
                <a:latin typeface="Arial"/>
              </a:rPr>
              <a:t>Лідерство – це свідома, а не випадкова дія</a:t>
            </a:r>
            <a:r>
              <a:rPr b="0" lang="uk-UA" sz="2800" spc="-1" strike="noStrike">
                <a:solidFill>
                  <a:srgbClr val="ffffff"/>
                </a:solidFill>
                <a:latin typeface="Arial"/>
              </a:rPr>
              <a:t>.</a:t>
            </a:r>
            <a:endParaRPr b="0" lang="en-US" sz="2800" spc="-1" strike="noStrike">
              <a:solidFill>
                <a:srgbClr val="ffffff"/>
              </a:solidFill>
              <a:latin typeface="Arial"/>
            </a:endParaRPr>
          </a:p>
          <a:p>
            <a:pPr marL="419040" indent="-382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8080"/>
            <a:ext cx="8229600" cy="7185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100" spc="-1" strike="noStrike">
              <a:solidFill>
                <a:srgbClr val="ffffff"/>
              </a:solidFill>
              <a:latin typeface="Franklin Gothic Book"/>
            </a:endParaRPr>
          </a:p>
        </p:txBody>
      </p:sp>
      <p:sp>
        <p:nvSpPr>
          <p:cNvPr id="271" name=""/>
          <p:cNvSpPr txBox="1"/>
          <p:nvPr/>
        </p:nvSpPr>
        <p:spPr>
          <a:xfrm>
            <a:off x="457200" y="713880"/>
            <a:ext cx="8229600" cy="5411880"/>
          </a:xfrm>
          <a:prstGeom prst="rect">
            <a:avLst/>
          </a:prstGeom>
          <a:noFill/>
          <a:ln w="0">
            <a:noFill/>
          </a:ln>
        </p:spPr>
        <p:txBody>
          <a:bodyPr anchor="t">
            <a:normAutofit/>
          </a:bodyPr>
          <a:p>
            <a:pPr marL="419040" indent="-3826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Відігравати роль лідера – це спосіб досягнення керівниками того, щоб завдання було виконано. Якщо роль лідера не відіграється, то організація не досягає своєї мети й оцінка роботи керівника незадовільна.</a:t>
            </a:r>
            <a:endParaRPr b="0" lang="en-US" sz="4000" spc="-1" strike="noStrike">
              <a:solidFill>
                <a:srgbClr val="ffffff"/>
              </a:solidFill>
              <a:latin typeface="Arial"/>
            </a:endParaRPr>
          </a:p>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18:10:19Z</dcterms:created>
  <dc:creator>Ната</dc:creator>
  <dc:description/>
  <dc:language>en-US</dc:language>
  <cp:lastModifiedBy>Ljuba</cp:lastModifiedBy>
  <dcterms:modified xsi:type="dcterms:W3CDTF">2014-10-07T08:09:34Z</dcterms:modified>
  <cp:revision>15</cp:revision>
  <dc:subject/>
  <dc:title>Ужгородський національний університет Факультет післядипломної освіти Кафедра громадського здоров’я  ЛЕКЦІЯ “РЕАЛІЗАЦІЯ ІСТИННОГО ЛІДЕРСТВА ЯК НАЙВАЖЛИВІШОЇ МЕТИ КЕРІВНИКА”</dc:title>
</cp:coreProperties>
</file>