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1F6-FBE9-47B4-B854-948A7B30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1C3-25E0-40DF-BD65-79BB383D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D08-91FD-4E3C-ACAB-5BFB87B8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8BB-AE6A-42FB-80A4-535A3211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02CD-E79B-4FF1-BD77-AD34CF33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667F-7361-405F-B927-24F48231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9EE-C57D-496B-BD24-FFD3CAA7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E170-FFDB-40AC-9321-24796602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D5BC-29D8-4A4A-BBE9-067D4A7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FE69-469F-4B38-A813-8885A354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A7B8-AE8B-4A08-82BA-EB109CEF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738-44E4-4780-9B24-6C3947C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2CDC-57EF-4BA3-9618-6A9EEEBA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690D-3557-4D47-811E-F6E7DAC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A836-B558-4140-BBF7-7A5C3B3C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EBAA-F798-4582-896C-15D8061D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17C6-1A83-40CD-B284-651C7A66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164-7DC2-4A2C-B8CD-83FE8AC5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4EA-053D-4E70-8A3D-D0DF636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D0E-730E-4411-B052-39A02539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361-37B2-4A3F-80BA-E3115985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011-7990-40A5-A47E-67A4ED7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1AC-A2ED-435F-9DB1-47469640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5AE-0204-4EFD-B945-732E830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B5CB-787D-4960-87FE-CB0A3E3A1B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AD25-D41F-42ED-9147-D26D2B82C624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20000"/>
                </a:solidFill>
                <a:latin typeface="Times New Roman"/>
              </a:rPr>
              <a:t>ФІНАНСОВИЙ МЕНЕДЖМЕН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 Форми та обсяги фінансової діяльності медичного закладу залежать від його організаційно-правової форми діяльності, форми власності на майно та рівня і напряму спеціалізації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  Операції, пов'язані з фінансовою діяльністю, створюють специфічні види ризиків, що об'єднуються поняття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нансовий ризи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.  Фінансова діяльність забезпечує стабільність розвитку медичного закла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.  Фінансовий стан на кожному етапі розвитку медичного закладу є основним показником успішності його господарської діяльност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Завдання фінансового менеджмент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кономічне обґрунтування прийнятих рішень для забезпечення народногосподарської ефективності лікувально-профілактич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Визначення витрат, пов'язаних з наданням медичних послуг у поліклініці та стаціонарі і розрахунок економічної ефективності профілактичних та лікувальних заходів в охороні здоров'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 Розробка ефективної системи оплати праці медичних працівників з урахуванням обсягу виконаної роботи та її кінцевих результат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4.  Забезпечення формування достатнього об'єму фінансових ресурсів відповідно до плану розвитку системи охорони здоров'я та підвищення якості медичної допомоги населенню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5.  Забезпечення найефективнішого використання фінансових ресурсів з позицій народногосподарської ефективності з урахуванням медичних, соціальних та економічних аспектів по основним напрямам діяльності та структурним підрозділам медичного закладу згідно з визначеними пріоритетами надання медичної допомоги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  Оптимізація грошового обігу та підтримання постійної платоспроможності і фінансової стабільності медичного закл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  Мінімізація фінансового ризику як по окремим фінансовим операціям, так і по медичному закладу в ціл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8.  Забезпечення прибутковості госпрозрахункової діяльності як при наданні платних медичних послуг, так й інших видах підприємниц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 своїй повсякденній роботі керівники медичних установ значну частину свого робочого часу присвячують фінансовим питанням. З цієї лекції можна дізнатися, як ефективно організувати фінансово-економічну службу у медичному закладі, а також — як правильно розрахувати вартість медичної послу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. Організація фінансово-економічної служби медичного закла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. Ціноутворення в умовах ринкової економі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а система медичних закладі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е сукупність фінансових коштів та система внутрішніх і зовнішніх економічних відносин, пов'язаних з формуванням, розподілом та використанням грошей та інших активів у процесі господарської діяльност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Фінанси медичного закладу виконують такі </a:t>
            </a:r>
            <a:r>
              <a:rPr b="1" lang="uk-UA" sz="4000" spc="-1" strike="noStrike">
                <a:solidFill>
                  <a:srgbClr val="420000"/>
                </a:solidFill>
                <a:latin typeface="Times New Roman"/>
              </a:rPr>
              <a:t>основні функції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есурсозабезпечую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систематичному формуванні фінансових ресурсів у необхідному обсязі з різних альтернативних джерел фінансування для забезпечення поточної господарської діяльності медичного закладу і реалізації стратегічних цілей розвитку медичної допом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Розподільч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я функція полягає в розподілі загальної суми фінансових ресурсів у розрізі окремих цільових фондів, що забезпечують фінансування окремих напрямів медичної допомоги та окремих програм розвитку охорони здоров'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продовженн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.  Контрольн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ункція контролю полягає в забезпеченні виконання фінансових планів, цільового та ефективного використання фінансових ресурсів для виконання прийнятих рішен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20000"/>
                </a:solidFill>
                <a:latin typeface="Times New Roman"/>
              </a:rPr>
              <a:t>У процесі своєї діяльності медичний заклад вступає як у зовнішні, так і внутрішні фінансові відносини.</a:t>
            </a:r>
            <a:r>
              <a:rPr b="0" lang="uk-UA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овн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з органом вищого рівня управління (обласними та міськими управліннями охорони здоров'я), з бюджетами всіх рівнів та позабюджетними фондами, податковою адміністрацією, інфраструктурою товарного та фінансового ринків (постачальниками ліків, медичного обладнання, банками, страховими компаніями), іншими лікувальними устано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нутрішні фінансові відносин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зв'язки між окремими структурними підрозділами, персоналом, власниками (засновниками) лікувально-профілактичної установи тощ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інансовий менеджмен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це процес управління формуванням, розподілом та використанням фінансових ресурсів, оптимізація обігу грошових коштів для досягнення цілей, що стоять перед медичним закла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новне завдання фінансового менеджмент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— ефективне управління фінансами та фінансовими відносин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Фінансова діяльність медичного закладу </a:t>
            </a:r>
            <a:r>
              <a:rPr b="0" lang="uk-UA" sz="3200" spc="-1" strike="noStrike">
                <a:solidFill>
                  <a:srgbClr val="420000"/>
                </a:solidFill>
                <a:latin typeface="Times New Roman"/>
              </a:rPr>
              <a:t>має такі </a:t>
            </a: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характеристик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Фінансова діяльність є головною формою ресурсного забезпечення економічного розвитку та поточної діяльності медичного закладу. Майже всі завдання з розширення та вдосконалення медичної допомоги населенню потребують фінансових ресурсі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2. Фінансова діяльність медичного закладу має підпорядкований характер відносно мети та завдань, що стоять перед медичним закладо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3. Операції, пов'язані з фінансовою діяльністю, здійснюються регулярно і мають систематичний характер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7:48:36Z</dcterms:created>
  <dc:creator>Customer</dc:creator>
  <dc:description/>
  <dc:language>en-US</dc:language>
  <cp:lastModifiedBy>Ljuba</cp:lastModifiedBy>
  <dcterms:modified xsi:type="dcterms:W3CDTF">2014-10-07T08:33:53Z</dcterms:modified>
  <cp:revision>14</cp:revision>
  <dc:subject/>
  <dc:title>ФІНАНСОВИЙ МЕНЕДЖМЕНТ</dc:title>
</cp:coreProperties>
</file>