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1B8-C19E-4B45-BD67-974663D0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85C-CD48-43C5-BAB5-0A7D43B2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94C-D2A2-4334-9C98-263D0519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631-EF4C-42C9-B9AF-8CA6452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3E63-F34E-4C97-ACEF-77BB64EA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0DF-698C-4BA4-9B18-8BFA9366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F495-A39A-450D-84E3-D603C87D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A2D7-B4B9-4BDC-9B04-1D3732F8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3A35-CB67-4C2F-82C0-F38273D9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3815-7DD0-45B4-9343-2C9214D8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FEC-C6A4-4F37-98DC-B3B73029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CBA-F897-4247-9DD9-6841DF5E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EE5F-6206-4E59-BF96-F8082B5C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2E1D-DCD0-4317-9868-2B85E4D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19C3-0F07-426F-A4E3-A2F83724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3FEB-16AD-45B8-AA43-C82BF736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6860-953E-477E-8F42-E136C140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3A8-47B8-412B-9A71-4911464A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E2A-6253-4E2A-A346-21355BAE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E39-4C0D-471A-9274-3246F47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0E4-017A-407D-AA06-740D979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5D0-5D23-4EA8-9305-284ED54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929-393D-44BE-8BC6-6C6CE66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CCF-BF43-4EBC-BA2A-DF4C3FEC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B41-8332-4AFA-8A3F-20C63AE467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C956-10E6-48F0-93AA-761B73A4F335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20000"/>
                </a:solidFill>
                <a:latin typeface="Times New Roman"/>
              </a:rPr>
              <a:t>ФІНАНСОВИЙ МЕНЕДЖМЕН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 Форми та обсяги фінансової діяльності медичного закладу залежать від його організаційно-правової форми діяльності, форми власності на майно та рівня і напряму спеціалізації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  Операції, пов'язані з фінансовою діяльністю, створюють специфічні види ризиків, що об'єднуються поняття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нансовий ризи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.  Фінансова діяльність забезпечує стабільність розвитку медичного закла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.  Фінансовий стан на кожному етапі розвитку медичного закладу є основним показником успішності його господарської діяль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Завдання фінансового менеджмент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кономічне обґрунтування прийнятих рішень для забезпечення народногосподарської ефективності лікувально-профілактич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Визначення витрат, пов'язаних з наданням медичних послуг у поліклініці та стаціонарі і розрахунок економічної ефективності профілактичних та лікуваль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 Розробка ефективної системи оплати праці медичних працівників з урахуванням обсягу виконаної роботи та її кінцевих результат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4.  Забезпечення формування достатнього об'єму фінансових ресурсів відповідно до плану розвитку системи охорони здоров'я та підвищення якості медичної допомоги населенню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5.  Забезпечення найефективнішого використання фінансових ресурсів з позицій народногосподарської ефективності з урахуванням медичних, соціальних та економічних аспектів по основним напрямам діяльності та структурним підрозділам медичного закладу згідно з визначеними пріоритетами надання медичної допомоги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  Оптимізація грошового обігу та підтримання постійної платоспроможності і фінансової стабільності медичного закл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  Мінімізація фінансового ризику як по окремим фінансовим операціям, так і по медичному закладу в ціл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8.  Забезпечення прибутковості госпрозрахункової діяльності як при наданні платних медичних послуг, так й інших видах підприємниц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 своїй повсякденній роботі керівники медичних установ значну частину свого робочого часу присвячують фінансовим питанням. З цієї лекції можна дізнатися, як ефективно організувати фінансово-економічну службу у медичному закладі, а також — як правильно розрахувати вартість медичної послу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. Організація фінансово-економічної служби медичного закла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. Ціноутворення в умовах ринкової економі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а система медичних закладі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е сукупність фінансових коштів та система внутрішніх і зовнішніх економічних відносин, пов'язаних з формуванням, розподілом та використанням грошей та інших активів у процесі господарської діяльност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Фінанси медичного закладу виконують такі </a:t>
            </a:r>
            <a:r>
              <a:rPr b="1" lang="uk-UA" sz="4000" spc="-1" strike="noStrike">
                <a:solidFill>
                  <a:srgbClr val="420000"/>
                </a:solidFill>
                <a:latin typeface="Times New Roman"/>
              </a:rPr>
              <a:t>основні функції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есурсозабезпечую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систематичному формуванні фінансових ресурсів у необхідному обсязі з різних альтернативних джерел фінансування для забезпечення поточної господарської діяльності медичного закладу і реалізації стратегічних цілей розвитку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Розподіль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розподілі загальної суми фінансових ресурсів у розрізі окремих цільових фондів, що забезпечують фінансування окремих напрямів медичної допомоги та окремих програм розвитку охорони здоров'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.  Контрольн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ункція контролю полягає в забезпеченні виконання фінансових планів, цільового та ефективного використання фінансових ресурсів для виконання прийнятих рішен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20000"/>
                </a:solidFill>
                <a:latin typeface="Times New Roman"/>
              </a:rPr>
              <a:t>У процесі своєї діяльності медичний заклад вступає як у зовнішні, так і внутрішні фінансові відносини.</a:t>
            </a: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овн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з органом вищого рівня управління (обласними та міськими управліннями охорони здоров'я), з бюджетами всіх рівнів та позабюджетними фондами, податковою адміністрацією, інфраструктурою товарного та фінансового ринків (постачальниками ліків, медичного обладнання, банками, страховими компаніями), іншими лікувальними устано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нутр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між окремими структурними підрозділами, персоналом, власниками (засновниками) лікувально-профілактичної установи тощ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ий менеджмен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це процес управління формуванням, розподілом та використанням фінансових ресурсів, оптимізація обігу грошових коштів для досягнення цілей, що стоять перед медичним закла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новне завдання фінансового менеджмент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ефективне управління фінансами та фінансовими відносин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Фінансова діяльність медичного закладу </a:t>
            </a:r>
            <a:r>
              <a:rPr b="0" lang="uk-UA" sz="3200" spc="-1" strike="noStrike">
                <a:solidFill>
                  <a:srgbClr val="420000"/>
                </a:solidFill>
                <a:latin typeface="Times New Roman"/>
              </a:rPr>
              <a:t>має такі </a:t>
            </a: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характеристик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Фінансова діяльність є головною формою ресурсного забезпечення економічного розвитку та поточної діяльності медичного закладу. Майже всі завдання з розширення та вдосконалення медичної допомоги населенню потребують фінансових ресурс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2. Фінансова діяльність медичного закладу має підпорядкований характер відносно мети та завдань, що стоять перед медичним закладо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Операції, пов'язані з фінансовою діяльністю, здійснюються регулярно і мають систематичний характер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7:48:36Z</dcterms:created>
  <dc:creator>Customer</dc:creator>
  <dc:description/>
  <dc:language>en-US</dc:language>
  <cp:lastModifiedBy>Ljuba</cp:lastModifiedBy>
  <dcterms:modified xsi:type="dcterms:W3CDTF">2014-10-07T08:33:53Z</dcterms:modified>
  <cp:revision>14</cp:revision>
  <dc:subject/>
  <dc:title>ФІНАНСОВИЙ МЕНЕДЖМЕНТ</dc:title>
</cp:coreProperties>
</file>