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9EB-3372-4F67-89CD-6E9BF57B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B57-F9CE-47BE-88DB-6ABDB2C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724-7289-47BD-AF20-6BEE38C2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183-53DC-4BD6-B36A-20167B01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F1E1-958D-4081-B9C4-F914B964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4DF-661F-4629-B203-641245B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E2E3-653F-4D7A-9187-27804811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797E-EAE6-4A47-BFF1-2AF5050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F0E2-E9D2-4C11-A9B2-71053F60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297-60F5-4F06-A40B-B7EEA5BE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8A3D-43E0-427E-92A2-0A8F4E7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0C6-3E16-4DA3-A798-59FD1A9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B6EF-1BD9-4538-905D-859A967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0972-A1A2-4025-8CEF-EC8D75C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6318-C739-469A-A0D2-853EA64E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3F7E-F9C8-436C-812F-466FAE38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3A26-F21A-437B-B3CA-CC0DD6AF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481-BF58-4221-B33A-1B4D521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D70-7286-4B96-9F97-2FCBD874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EFE-3AF4-4FDE-8270-CD96B78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135-DB43-498E-ADE2-C0BACC75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A43-BE82-4FBC-A846-3DC01009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CC2-EC07-4D7E-AC23-2CAE983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EF5-8B75-4382-9D56-97F4FFD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5446-10EF-4269-AE3C-F013765BA2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DBB7-6565-413A-ABCD-BFCD70ACCE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Times New Roman"/>
              </a:rPr>
              <a:t>Фізичний розвиток 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—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комплекс морфологічних і функціональних параметрів організму, що визначають масу, форму тіла, структурно-механічні якості і фізичні си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є одним із найважливіших ознак, що характеризують рівень здоров'я населення. Однак показники фізичного розвитку не є обов'язковими для офіційного статистичного аналізу і не відображаються у звітності, що не дозволяє безупинно стежити за рівнем і динамікою фізичного розвитку окремих груп населення по всій країні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 рівень фізичного розвитку впливає комплекс соціально-біологічних, медико-соціальних, організаційних, природно-кліматичних факторів. Існують розходження у фізичному розвитку населення, що проживає в різних економіко-географічних зонах, серед різних національностей. Під впливом довготривалої дії несприятливих факторів рівень фізичного розвитку знижуєть­ся. Поліпшення умов, нормалізація способу життя сприяють підвищенню рівня фізичного розвит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Times New Roman"/>
              </a:rPr>
              <a:t>Основними ознаками фізичного розвитку є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метри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зміні розмірів тіла, скелета людини. Вони ж, в свою чергу, поділяються н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оматометричні — розміри тіл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остеометричні — розміри кістяк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раніометричні — розміри череп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скопі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описі тіла в цілому й окремих його частин. До антропоскопічних ознак відносятьс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виток жирового шару, мускулатур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а грудної клітини, спини, живота, ніг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гментаці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олосяний покри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торинні статеві ознаки тощ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Фізіометричні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— такі ознаки, що визначають фізіологічний стан, функціональні можливості організму. Зазвичай вони виміряються за допомогою спеціальних приладів. Зокрема, до таких ознак відносятьс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життєва ємність легень (вимірюється за допомогою спірометра)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м'язова сила кистей рук (вимірюється за допомогою динамометра) тощ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Оцінка фізичного розвитку має важливе значення для багатьох напрямів медицини. Показники фізичного розвитку використовуються для виявлення антропометричних маркерів (ознак) ризику ряду захворювань і патологічних станів. Антропометричні показники використовуються для контролю фізичного розвитку дітей і оцінки ефективності проведених оздоровчих заходів. Вони необхідні для визначення режиму життя і фізичного навантаження дитини. У статистиці антропометричні показники є найважливішими критеріями для визначення таких понять, як «живонароджуваність», «мертвонароджуваність», «недоношеність», «маса тіла при народженні»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Фізичний розвиток має важливе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медико-соціальне значення.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івень фізичного розвитку населення багато в чому говорить про соціальне благополуччя в суспільстві. Порушення фізичного розвитку можуть свідчити про несприятливі умови і спосіб життя дитини і повинні слугувати одним із критеріїв для визначення рівня соціального ризику родини, визначення соціального неблагополуччя родин, що вимагає заходів медико-соціального вплив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