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020-C1A8-4387-8535-C123E1A1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0EC-6F0B-4AC2-A069-9216BE97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F50-59D0-4880-94B7-64B2A57A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84C-6A6E-4278-BBD4-968E747B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7ED3-846E-485C-A2A9-DEABD02D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5278-2F9A-4286-BC7C-F068D76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0B8D-BC38-477B-89C9-BD6182DB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E262-451D-4172-A6E1-BDE35444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6077-C812-4EDC-AAFF-B344C1FF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57B-B3AB-45CC-B0C0-8ADA7E1E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757-C5AE-47B5-8D1A-4CFA81C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5B3-BFB1-4DA7-9FEC-60D69EC6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57C2-6D64-4E74-930F-5D778AB5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4FA2-B613-47D3-87ED-FD98987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27A1-9634-4673-AA49-8F7FBFDE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595A-B92B-4E7E-98F5-BBABAE30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DE18-F5C3-458F-BC21-57CD3E9D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3C1-7F7B-4337-9390-56590AA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92F-B48D-45D4-9773-6D0B521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6B9-4854-4B52-8786-F78F54B3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4AA-2410-41F6-8B90-DE64BD8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188-2911-43C5-A2CB-489066C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E26-DBB2-42D5-96B8-BA15F69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EE6-AAD9-484F-BF90-CD823D5C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5CDC-47BC-466C-BC47-E5C3AACF89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994F-E0B5-47E6-824C-70011813D5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Times New Roman"/>
              </a:rPr>
              <a:t>Фізичний розвиток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—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комплекс морфологічних і функціональних параметрів організму, що визначають масу, форму тіла, структурно-механічні якості і фізичні си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є одним із найважливіших ознак, що характеризують рівень здоров'я населення. Однак показники фізичного розвитку не є обов'язковими для офіційного статистичного аналізу і не відображаються у звітності, що не дозволяє безупинно стежити за рівнем і динамікою фізичного розвитку окремих груп населення по всій країні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Фізичний розвит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рівень фізичного розвитку впливає комплекс соціально-біологічних, медико-соціальних, організаційних, природно-кліматичних факторів. Існують розходження у фізичному розвитку населення, що проживає в різних економіко-географічних зонах, серед різних національностей. Під впливом довготривалої дії несприятливих факторів рівень фізичного розвитку знижуєть­ся. Поліпшення умов, нормалізація способу життя сприяють підвищенню рівня фізичного розвит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imes New Roman"/>
              </a:rPr>
              <a:t>Основними ознаками фізичного розвитку є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метри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зміні розмірів тіла, скелета людини. Вони ж, в свою чергу, поділяються н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соматометричні — розміри тіл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стеометричні — розміри кістяка і його частин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раніометричні — розміри череп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Антропоскопічні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— такі ознаки, що засновані на описі тіла в цілому й окремих його частин. До антропоскопічних ознак відносятьс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виток жирового шару, мускулатур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а грудної клітини, спини, живота, ніг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гментаці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олосяний покри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торинні статеві ознаки тощ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Фізіометричні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— такі ознаки, що визначають фізіологічний стан, функціональні можливості організму. Зазвичай вони виміряються за допомогою спеціальних приладів. Зокрема, до таких ознак відносять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життєва ємність легень (вимірюється за допомогою спірометра) 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'язова сила кистей рук (вимірюється за допомогою динамометра) тощ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Оцінка фізичного розвитку має важливе значення для багатьох напрямів медицини. Показники фізичного розвитку використовуються для виявлення антропометричних маркерів (ознак) ризику ряду захворювань і патологічних станів. Антропометричні показники використовуються для контролю фізичного розвитку дітей і оцінки ефективності проведених оздоровчих заходів. Вони необхідні для визначення режиму життя і фізичного навантаження дитини. У статистиці антропометричні показники є найважливішими критеріями для визначення таких понять, як «живонароджуваність», «мертвонароджуваність», «недоношеність», «маса тіла при народженні»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продовже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Фізичний розвиток має важливе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медико-соціальне значення.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івень фізичного розвитку населення багато в чому говорить про соціальне благополуччя в суспільстві. Порушення фізичного розвитку можуть свідчити про несприятливі умови і спосіб життя дитини і повинні слугувати одним із критеріїв для визначення рівня соціального ризику родини, визначення соціального неблагополуччя родин, що вимагає заходів медико-соціального вплив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