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1CEC-48B6-469E-AC9E-704B2DDE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A4C-026E-4528-A86C-51300EEA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29CF-82D0-4AF6-9864-528449E6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59B9-8BBB-4A1D-8A2D-50289041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35E6-2310-4CC9-B383-3CFC5560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C782-BDDF-478C-92BB-32AEAC10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58F-5F9B-4992-91BE-11D78667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0578-B188-46F4-B26D-456486AA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5CE8-B4E1-438B-BA78-10EA0592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D60-889B-418E-A79F-6DF6B73B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00A-E4DD-4ECD-A6C6-C5B9FB68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D660-0454-4408-A626-30C032E9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FE4A-8E90-4C69-8B5F-FA07D63303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Лекція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снови організації праці персоналу медичних організац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уть і завдання організації праці. Наукова організація пра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міст і принципи наукової організації прац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правлінська праця. Особливості і специфі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айбільш поширеними формами розподілу праці в медичних організаціях є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ункціональний розподіл прац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фесійно-кваліфікаційний розподіл праці (терапія, хірургія, неврологія, ортопедія-травматологія, ЛОР, очні і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едметний розподіл праці (лікар-ординатор, палатна медична сестра, маніпуляційна, патронажна, операційна медична сестра і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бір найбільш раціональних форм розподілу праці в медичних органі­заціях - важливе завдання. Правильне його рішення забезпечує ґрунтовне планування чисельності медичних працівників у кожній функціональній, професійній і кваліфікаційній груп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Кооперація прац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поділ праці обов'язково поєднується з його коопераціє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д кооперацією ми розуміємо об'єднання окремих виконавців у відділення (терапевтичне, хірургічне, неврологічне та ін.), лабораторії (клінічна, біохімічна, урологічна, мікробіологічна, імунологічна та ін.), кабінети (функціональної діагностики, ендоскопічний, рентгенологічний, фізіоте­рапевтичний, ультразвуковий та ін.), служби (амбулаторно-поліклінічна, стаціонарна, реанімаційна, швидка і невідкладна та ін.), окремі групи (приймальна, операційний блок, стерилізаційна, реабілітаційна та ін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рганізація пра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це організаційна система, яка має на меті досягти найкращих результатів використання живої праці у процесі надання медичної допомоги населен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праці - це процес, який забезпечує поєднання робочої сили зі знаряддями виробництва для досягнення певної виробничої цілі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hner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199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ле якою б не була технічна база медичних організацій, процес надання медичної допомоги не може здійснюватися без ціленаправленої діяльності медичного працівника, який використовує технічні засо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йна праця медичних працівників є обов'язковою умовою функціонування медичних організацій, а організація праці виступає складовою частиною процесу надання медичної допомоги населен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праці медичних працівників базується на пізнанні і використанні економічних законів, законів фізіології і психології праці, даних досліджень соціальної науки, а також математики і кібернетики, спирається на знання юридичної на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що практичне впровадження конкретних заходів з організації праці базується на досягненнях сучасної науки і передового досвіду, то йдеться про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укову організацію праці (НО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укова організація праці не дає можливості використання суб'єктивних емпіричних оцінок, а реалізує всю сукупність досягнень сучасної науки і практики на найбільш раціональну і ефективну прац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ОП вирішує три взаємопов'язаних завдання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кономіч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сихофізіологіч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оціаль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Економічне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завдання НОП медичних організацій полягає у створенні умов для цілеспрямованого використання медичної техніки, комп'ютерів, інструментів, матеріалів і медикаментів, чим забезпечується економія живої прац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Психофізіологічне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завдання НОП медичних організацій пов'язано зі створенням найбільш сприятливих умов праці, які забезпечують збереження фізичного здоров'я і безпеку медичних працівників, підтримують високий рівень їх працездатн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Соціальне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вдання направлене на підвищення ступеня задоволеності медиків своєю працею і створенні умов, які забезпечують зростання їх професійного рі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аким чином, можна вважати, що НОП являє собою постійний творчий процес, який забезпечує приведення у відповідність організації праці рівня розвитку медичної і комп'ютерної техніки, нових медичних технолог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Arial"/>
              </a:rPr>
              <a:t>Зміст і принципи наукової організації прац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рганізація праці як система включає сукупність елементів, які знаходяться в певному взаємозв'язку і створюють єдине ціле. Елементи організації праці розкривають її змі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сновні напрямки НОП медичних організацій включають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обку раціональних форм диференціації і кооперацію прац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кращення організації робочих місц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аціоналізацію прийомів і методів прац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кращення умов прац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досконалення нормування праці медичних працівникі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виток заходів матеріального і морального стимулювання праці медичних працівникі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кріплення трудової дисциплі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сновні принципи організації праці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мплексност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ност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егламентації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пеціалізації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більн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жний з цих принципів має певне самостійне значення. Разом з цим, вони доповнюють один одного, розкриваючи відповідну сторону наукового підходу до організації праці. Тому найбільша дієвість принципів НОП медичних організацій проявляється при їх комплексному використанн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ля забезпечення функціонування медичної організації перш за все необхідна певна розстановка медичних працівників і наділення кожного із них конкретними трудовими функціями. Це завдання вирішується шляхом вибору відповідних форм розділення прац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 розділенням праці ми розуміємо обособлення різних видів праці і закріплення їх за учасниками виробничого проце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ним принципом розподілу праці є поєднання спеціалізації окремих виконавців з підвищенням їх виробничо-технічного рі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змістом праці і призначенням робіт, що виконуються, колектив медичної організації поділяється на лікарів основних і допоміжних підрозділів (лабораторій, кабінетів променевих методів діагностики і лікування, ендоскопічних, фізіотерапевтичних, ультразвукових кабінетів та ін.), лікарів інтернів, середній і молодший медичний персонал, персонал управління і обслуговув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33:1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