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137-FE8B-4C8B-9EA3-8388FB8B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1F7-BD97-4D05-ADFE-42A78130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2C0-D76A-4DDB-973A-BF18A681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441-98F0-47AF-947D-3EE485CB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CE9-5FE2-40C1-8BC4-6A6C2B6E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A8F-FA94-4A0D-B277-53BB9BC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8CE-34CA-4A95-A126-69DB265A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863-5E1F-4705-A775-2DFFC401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2C3-C531-4807-8C08-343D6243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410-B338-4149-AA86-FA305D6F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6A6-E191-4374-9673-9F01DBE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D8A-6403-4A42-83C7-A7F25E1E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D98-5498-4F58-B590-18523435D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кція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и організації праці персоналу медичних організац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ть і завдання організації праці. Наукова організація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міст і принципи наукової організації прац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правлінська праця. Особливості і специфі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йбільш поширеними формами розподілу праці в медичних організаціях 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ункціональний розподіл прац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о-кваліфікаційний розподіл праці (терапія, хірургія, неврологія, ортопедія-травматологія, ЛОР, очні і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едметний розподіл праці (лікар-ординатор, палатна медична сестра, маніпуляційна, патронажна, операційна медична сестра і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бір найбільш раціональних форм розподілу праці в медичних органі­заціях - важливе завдання. Правильне його рішення забезпечує ґрунтовне планування чисельності медичних працівників у кожній функціональній, професійній і кваліфікаційній груп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операція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поділ праці обов'язково поєднується з його кооперац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 кооперацією ми розуміємо об'єднання окремих виконавців у відділення (терапевтичне, хірургічне, неврологічне та ін.), лабораторії (клінічна, біохімічна, урологічна, мікробіологічна, імунологічна та ін.), кабінети (функціональної діагностики, ендоскопічний, рентгенологічний, фізіоте­рапевтичний, ультразвуковий та ін.), служби (амбулаторно-поліклінічна, стаціонарна, реанімаційна, швидка і невідкладна та ін.), окремі групи (приймальна, операційний блок, стерилізаційна, реабілітаційна та ін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рганізація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це організаційна система, яка має на меті досягти найкращих результатів використання живої праці у процесі надання медичної допомоги населе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праці - це процес, який забезпечує поєднання робочої сили зі знаряддями виробництва для досягнення певної виробничої цілі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hner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199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ле якою б не була технічна база медичних організацій, процес надання медичної допомоги не може здійснюватися без ціленаправленої діяльності медичного працівника, який використовує технічні зас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йна праця медичних працівників є обов'язковою умовою функціонування медичних організацій, а організація праці виступає складовою частиною процесу надання медичної допомоги населе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праці медичних працівників базується на пізнанні і використанні економічних законів, законів фізіології і психології праці, даних досліджень соціальної науки, а також математики і кібернетики, спирається на знання юридичної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практичне впровадження конкретних заходів з організації праці базується на досягненнях сучасної науки і передового досвіду, то йдеться пр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укову організацію праці (НО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а організація праці не дає можливості використання суб'єктивних емпіричних оцінок, а реалізує всю сукупність досягнень сучасної науки і практики на найбільш раціональну і ефективну прац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ОП вирішує три взаємопов'язаних завда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ономіч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сихофізіологіч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ціаль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Економічн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вдання НОП медичних організацій полягає у створенні умов для цілеспрямованого використання медичної техніки, комп'ютерів, інструментів, матеріалів і медикаментів, чим забезпечується економія живої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сихофізіологічн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вдання НОП медичних організацій пов'язано зі створенням найбільш сприятливих умов праці, які забезпечують збереження фізичного здоров'я і безпеку медичних працівників, підтримують високий рівень їх працездат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оціальн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вдання направлене на підвищення ступеня задоволеності медиків своєю працею і створенні умов, які забезпечують зростання їх професій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аким чином, можна вважати, що НОП являє собою постійний творчий процес, який забезпечує приведення у відповідність організації праці рівня розвитку медичної і комп'ютерної техніки, нових медичних технолог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Зміст і принципи наукової організації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ація праці як система включає сукупність елементів, які знаходяться в певному взаємозв'язку і створюють єдине ціле. Елементи організації праці розкривають її змі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і напрямки НОП медичних організацій включають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у раціональних форм диференціації і кооперацію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кращення організації робочих місц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аціоналізацію прийомів і методів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кращення умов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досконалення нормування праці медичних працівни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виток заходів матеріального і морального стимулювання праці медичних працівни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кріплення трудової дисциплі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і принципи організації праці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плекс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гламент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еціаліз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біль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жний з цих принципів має певне самостійне значення. Разом з цим, вони доповнюють один одного, розкриваючи відповідну сторону наукового підходу до організації праці. Тому найбільша дієвість принципів НОП медичних організацій проявляється при їх комплексному використан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забезпечення функціонування медичної організації перш за все необхідна певна розстановка медичних працівників і наділення кожного із них конкретними трудовими функціями. Це завдання вирішується шляхом вибору відповідних форм розділення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 розділенням праці ми розуміємо обособлення різних видів праці і закріплення їх за учасниками виробничого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им принципом розподілу праці є поєднання спеціалізації окремих виконавців з підвищенням їх виробничо-техніч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змістом праці і призначенням робіт, що виконуються, колектив медичної організації поділяється на лікарів основних і допоміжних підрозділів (лабораторій, кабінетів променевих методів діагностики і лікування, ендоскопічних, фізіотерапевтичних, ультразвукових кабінетів та ін.), лікарів інтернів, середній і молодший медичний персонал, персонал управління і обслугову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3:1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