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659-3BD8-459C-990F-F2C7CEE7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A10F-8CFD-4D28-9EFF-F4D8D6D0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51C2-3FD8-483B-8AE6-7A7292D6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0F2-D681-415E-A2FE-BECAF9CE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C56-8695-4DAD-9507-F9EC2817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6F4-5573-4C6C-BF24-1345C7FC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3C15-7B4E-44C5-8ABF-70D5F7BA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F712-26F1-4952-9C45-86392219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87F-9591-4D5F-9BEC-4A59949A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CFE6-6159-4819-990D-F4CEA458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05C4-1055-449A-8EE2-E6726DDD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0FD8-21F0-4A11-8C07-93E9820A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AB8E-0426-41C4-9CAF-079B2CEB57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Лекція №2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Технологія управління персонало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9999"/>
                </a:solidFill>
                <a:latin typeface="Arial"/>
              </a:rPr>
              <a:t>3асоби управлінн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прям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опосередкован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квазі-засоб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Стилі керівництва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вторитет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дміністративно-бюрократич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налітич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езперерв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легуюч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мократич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иктаторськ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иректив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истанцій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нтуїтив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легіаль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манд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нсерватив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нтакт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оператив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лібераль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ейтраль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оваторськ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блемно-організуюч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артисипатив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итуацій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цільов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 усіх можливих стилів управління на перший план виступають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авторитарний, ліберальний та демократичний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умовах ринкової економіки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якість медичного персоналу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є головним чинником успіху медичних закладів. Тому, керівник закладу повинен володіти сучасними методиками пошуку та оцінки персоналу, що є важливою складовою управлінської діяльності з метою ефективного використання всіх інших ресурсів організації та забезпечення якісних результатів медичної організ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Arial"/>
              </a:rPr>
              <a:t>Найом на робо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це ряд дій, направлених на приваблення кандидатів які мають якості, що дають можливість медичній організації досягти поставленої мети, цілей і завд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ли медичній організації необхідно прийняти нових працівників, постає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два пита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 шукати потенційних працівник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оповістити майбутніх працівників про наявність їх вільних робочих міс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Існують два можливих джерела найму: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99"/>
                </a:solidFill>
                <a:latin typeface="Arial"/>
              </a:rPr>
              <a:t>внутрішній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із працівників організ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99"/>
                </a:solidFill>
                <a:latin typeface="Arial"/>
              </a:rPr>
              <a:t>зовнішній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- замовлення випускників медичного університету, медичних академій, медичних училищ, медичних коледжів, а також зі сторони за оголошенн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Пит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хнологія управління персоналом медичної організ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йом, відбір і прийом персоналу в медичні організ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ілова оцінка персон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правління поведінкою медичної організації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тивація і стимулювання трудової діяльності медичного персон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Arial"/>
              </a:rPr>
              <a:t>Концепція управління персоналом включає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робку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методології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управління персонал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ормування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систем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управління персонал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робку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технології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управління персон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9999"/>
                </a:solidFill>
                <a:latin typeface="Arial"/>
              </a:rPr>
              <a:t>1. Методологія управління персона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ключає розгляд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 суті персоналу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, як об'єкта управління, процесу формування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поведінки індивідів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гідно з метою і завданням організації, методами та принципами управління персон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9999"/>
                </a:solidFill>
                <a:latin typeface="Arial"/>
              </a:rPr>
              <a:t>2. Система управління персона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ключає формування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мети, функцій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організаційної структур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управління персоналом, встановлення вертикальних та горизонтальних функціональних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 взаємозв'язків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ерівників і спеціалістів у процесі обґрунтування, розробки, прийняття та реалізації управлінських ріш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9999"/>
                </a:solidFill>
                <a:latin typeface="Arial"/>
              </a:rPr>
              <a:t>3. Технологія управління персона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ключає: організацію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найму, відбір, прийом персоналу, його ділову оцінку, профорієнтацію та адаптацію, навчання, мотивацію і організацію праці, управління конфліктами і стресами, забезпечення соціального розвитку організації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ощ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9999"/>
                </a:solidFill>
                <a:latin typeface="Arial"/>
              </a:rPr>
              <a:t>Система</a:t>
            </a: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 управління персоналом  має такі складові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нципи управ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соби управ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илі управ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и управл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9999"/>
                </a:solidFill>
                <a:latin typeface="Arial"/>
              </a:rPr>
              <a:t>Принципи управління персоналом</a:t>
            </a:r>
            <a:r>
              <a:rPr b="0" lang="uk-UA" sz="3200" spc="-1" strike="noStrike">
                <a:solidFill>
                  <a:srgbClr val="009999"/>
                </a:solidFill>
                <a:latin typeface="Arial"/>
              </a:rPr>
              <a:t> 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правила, основні положення та норми, котрі повинні використовувати керівники та спеціалісти у процесі управління персон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сі принципи будування системи управління персоналом реалізуються у взаємодії та через засоби управл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3 групи </a:t>
            </a:r>
            <a:r>
              <a:rPr b="1" i="1" lang="uk-UA" sz="3600" spc="-1" strike="noStrike">
                <a:solidFill>
                  <a:srgbClr val="009999"/>
                </a:solidFill>
                <a:latin typeface="Arial"/>
              </a:rPr>
              <a:t>методів управлін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дміністративн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кономічн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оціально-психологічн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32:47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