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A3A-3DEF-4109-A121-A47F5E3D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ADD-160C-401A-8236-FABA3D55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D50-E22A-4B49-9D01-54297795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9D2-5E47-407F-B858-EAE71C6C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3C0-0F52-4DA3-8252-AE4C7FC2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016-3F10-4B9B-BE9A-F73771D1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641-BE48-4608-80A8-0FA975BC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826-EAE2-45E6-A0B9-2C69A08D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5E4-4A9D-4AB8-A062-F1E41B2F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A28-ED85-4740-B945-52C4791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A63-D43F-4A8B-8A37-4B974ED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8F8-58F5-427F-A40D-E1B01AF8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CEB9-89E5-4829-A753-3D7C45885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кція №2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ехнологія управління персонал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3асоби управлі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ям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посередкован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квазі-засоб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Стилі керівництва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вторитет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дміністративно-бюрократич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налітич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езперер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легуюч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мократич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ктаторськ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рек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истанцій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туї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легіаль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манд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нсерв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нтакт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опер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лібераль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йтраль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оваторськ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блемно-організуюч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артисипатив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итуацій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цільо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усіх можливих стилів управління на перший план виступають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вторитарний, ліберальний та демократични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умовах ринкової економіки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якість медичного персоналу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є головним чинником успіху медичних закладів. Тому, керівник закладу повинен володіти сучасними методиками пошуку та оцінки персоналу, що є важливою складовою управлінської діяльності з метою ефективного використання всіх інших ресурсів організації та забезпечення якісних результатів медичної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Найом на роб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це ряд дій, направлених на приваблення кандидатів які мають якості, що дають можливість медичній організації досягти поставленої мети, цілей і завд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медичній організації необхідно прийняти нових працівників, постає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ва пита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 шукати потенційних працівник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оповістити майбутніх працівників про наявність їх вільних робочих міс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снують два можливих джерела найму: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внутрішній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із працівників організ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зовнішні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- замовлення випускників медичного університету, медичних академій, медичних училищ, медичних коледжів, а також зі сторони за оголошенн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Пит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хнологія управління персоналом медичної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ом, відбір і прийом персоналу в медичні органі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лова оцінка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правління поведінкою медичної організаці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тивація і стимулювання трудової діяльності медичного персон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Концепція управління персоналом включа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у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методолог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ування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систем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у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технолог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1. Методологія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 розгляд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суті персоналу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як об'єкта управління, процесу формування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поведінки індивіді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метою і завданням організації, методами та принципами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2. Система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 формування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мети, функці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організаційної структур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управління персоналом, встановлення вертикальних та горизонтальних функціональних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взаємозв'язкі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ерівників і спеціалістів у процесі обґрунтування, розробки, прийняття та реалізації управлінських ріш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3. Технологія управління персона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ючає: організацію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найму, відбір, прийом персоналу, його ділову оцінку, профорієнтацію та адаптацію, навчання, мотивацію і організацію праці, управління конфліктами і стресами, забезпечення соціального розвитку організації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Система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управління персоналом  має такі складов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нципи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оби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илі управ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и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9999"/>
                </a:solidFill>
                <a:latin typeface="Arial"/>
              </a:rPr>
              <a:t>Принципи управління персоналом</a:t>
            </a:r>
            <a:r>
              <a:rPr b="0" lang="uk-UA" sz="3200" spc="-1" strike="noStrike">
                <a:solidFill>
                  <a:srgbClr val="009999"/>
                </a:solidFill>
                <a:latin typeface="Arial"/>
              </a:rPr>
              <a:t> 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равила, основні положення та норми, котрі повинні використовувати керівники та спеціалісти у процесі управління персо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сі принципи будування системи управління персоналом реалізуються у взаємодії та через засоби управл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3 групи </a:t>
            </a:r>
            <a:r>
              <a:rPr b="1" i="1" lang="uk-UA" sz="3600" spc="-1" strike="noStrike">
                <a:solidFill>
                  <a:srgbClr val="009999"/>
                </a:solidFill>
                <a:latin typeface="Arial"/>
              </a:rPr>
              <a:t>методів управлі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дміністратив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номіч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оціально-психологічн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uba</cp:lastModifiedBy>
  <dcterms:modified xsi:type="dcterms:W3CDTF">2014-10-07T08:32:4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