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299-E133-4937-81E3-2826708E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E0F-8807-4513-804F-9BA98219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882-AFE6-4FEE-A7EC-8A3B7221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186-AEC2-4B27-8627-D0CF3465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D48-F312-46F7-898C-51D4396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FB0-B44C-4CB1-A689-1704578B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A34-1685-4ADB-9BB5-9EA8732F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A7E-59F0-48D8-BB55-BF10E59A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F6D-238D-4202-A564-5255F319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E88-EA35-472D-A053-B012628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D97-AAD3-4C8F-AB1B-5AC45CC0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4A7-A2E4-4A78-9923-41C039B3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938B-981A-456D-B9B1-EFE55363A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УПРАВЛІННЯ ПЕРСОНАЛОМ МЕДИЧНИХ ЗАКЛАД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ц. Погоріляк Р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равління кадрами охорони здоров'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органічною складовою частиною управління системою охорони здоров'я в цілому, підпорядкованою тим самим цілям і спрямованою на їх досягнення завдяки конкретній діяльності медичного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равління ка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це безперервний динамічний процес управління людськими ресурсами, метою якого є оптимальна розстановка і використання сил на основі більш довершеного планування, підбору, удосконалення, розподілу кадрів, мотивації і регулярного об'єктивного контролю та оцінки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а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гає в безперервному пошуку шляхів, що сприяють підвищенню ефективності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я мета досягається внаслідок впровадження прогресивних форм організації праці і раціональнішого використання наявних трудових ресурс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 усякий управлінський процес, управління персоналом має циклічний хара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ну основу цієї діяльності складаю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 і об'єктивна інформація про склад і динаміку кадр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 робі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дбір, розстановка перс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ія персон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ювання цілей безперервного навчання і його організаці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ування і організація розвитку кар'є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 оцінка ефективності виконуваних робочих функц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часна концепція управління персона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дрова полі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оловні принципи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оди, засоби та стилі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нцептуальні засади управління кадрами в 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будь-якої сфери людської діяльності неможливий без управління, тобто систематичного процесу використання ресурсів для досягнення певної мети. Основним ресурсом кожної організації є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юди (кадри, персонал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кільки саме вони приводять в дію решту всіх ресурсів. Отже, мистецтво управління полягає в умінні організувати певну діяльність, оптимально використовуючи людський чин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истемі охорони здоров'я виключно важлива роль відведена безпосередньо медичному працівникові, тому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управління розвитком кадрі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знається пріоритетним завданням менеджменту в галузі охорони здоров'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ійні методи управління персоналом в галузі ОЗ вже не забезпечують бажаних результатів, а навпаки, часто призводять до застою, а то й до дезорганізації в управлінських структу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з, коли засобів, що виділяються з державного бюджету на розвиток охорони здоров'я, явно недостатньо, найбільш перспективною є мобілізація прихованих можливостей системи на основі кращого використання кадрових ресурс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іжнародний досвід, зокрема досвід ВООЗ, свідчить про те, що серед організаційних змін, метою яких є підвищення ефективності системи охорони здоров'я, найбільшого успіху досягають дії, що проводяться в галузі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правління кадр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правління кадрами включає 3 взаємоп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ні компон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у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ідготов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ористання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мови ефективного управління ка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шою умово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пішного управління кадрами є взаємозалежне функціонування названих компонентів: планування розвитку кадрів - як кількісне, так і якісне - не матиме сенсу, якщо система підготовки і удосконалення медичних працівників не буде здатна забезпечити обидва цих аспекти. Разом з тим, підготовлені медичні кадри повинні знайти собі практичне застосування, відповідні до їх професійної кваліфік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ою неодмінною умово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фективного управління кадрами є реалізація концепції інтегрованого розвитку медичних кадрів і самої системи охорони здоров'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85800"/>
            <a:ext cx="84582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достатньо організоване управління кадра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рони здоров'я виявляється в неадекватному використанні персоналу, в низькій його продуктивності, незбалансованості структури персоналу з потребами системи та і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іння кадрами стає найбільш ефективним, якщо визначальним принципом є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кономічна ефективність управлінських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ономічна модель конкуруючих ринків в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є системою функціонування трьох взаємопов'язаних рин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инку служб охорони здоров'я, що визначає кількість різних видів медичних послуг, які споживаються населенням, та ціни на н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инку кадрів охорони здоров'я, що встановлює кількість категорій працюючого персоналу, і рівень його заробітної пл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ринку медичної освіти, що пропонує кількість випускників кожного виду персоналу і вартість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іни в попиті і пропозиції на ринках знаходяться під впливом політики охорони здоров'я і економіки суспільства в цілому, змін соціальних і демографічних чинників. Зміни політики охорони здоров'я, що торкається інтересів одного ринку, неминуче призводить до змін на інших ринках - і не тільки в межах сектора охорони здоров'я. Тому при розробці політики розвитку кадрів охорони здоров'я необхідно заздалегідь оцінити всі прямі і непрямі наслідки для системи від реалізації цієї полі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2:27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