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19C-5CCD-43A7-81F8-FBF42F6E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320-E2E2-43FA-8FD0-52BD95E9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6D6-B934-4E9A-BA31-4C393D94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4C7-7E9F-4537-918F-5147542D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BE8-7AC8-4505-88E4-7A520CC6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05D-ED4B-4DBC-BC1D-91C41137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087-C289-4B02-ACBE-75AB406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261-03FC-4215-8087-10C1B1EF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5D0-7D8F-490E-9F6D-15EF577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B71-08F8-43B5-979A-0731FBC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F0E-4493-4492-AC57-EDFCD38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87F-4884-4AF6-AB41-C60EDECA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708D-12A4-4643-84B0-74E877963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УПРАВЛІННЯ ПЕРСОНАЛОМ МЕДИЧНИХ ЗАКЛАД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ц. Погоріляк Р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равління кадрами охорони здоров'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органічною складовою частиною управління системою охорони здоров'я в цілому, підпорядкованою тим самим цілям і спрямованою на їх досягнення завдяки конкретній діяльності медичного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равління ка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це безперервний динамічний процес управління людськими ресурсами, метою якого є оптимальна розстановка і використання сил на основі більш довершеного планування, підбору, удосконалення, розподілу кадрів, мотивації і регулярного об'єктивного контролю та оцінки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а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гає в безперервному пошуку шляхів, що сприяють підвищенню ефективності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я мета досягається внаслідок впровадження прогресивних форм організації праці і раціональнішого використання наявних трудових ресурс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 усякий управлінський процес, управління персоналом має циклічни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ну основу цієї діяльності складаю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 і об'єктивна інформація про склад і динаміку кадр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 робі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дбір, розстановка перс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ія перс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ювання цілей безперервного навчання і його організаці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ування і організація розвитку кар'є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 оцінка ефективності виконуваних робочих функц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часна концепція управління персона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дрова полі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овні принципи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оди, засоби та стилі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нцептуальні засади управління кадрами в 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будь-якої сфери людської діяльності неможливий без управління, тобто систематичного процесу використання ресурсів для досягнення певної мети. Основним ресурсом кожної організації є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юди (кадри, персонал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кільки саме вони приводять в дію решту всіх ресурсів. Отже, мистецтво управління полягає в умінні організувати певну діяльність, оптимально використовуючи людський чин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і охорони здоров'я виключно важлива роль відведена безпосередньо медичному працівникові, тому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управління розвитком кадрі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знається пріоритетним завданням менеджменту в галузі охорони здоров'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ійні методи управління персоналом в галузі ОЗ вже не забезпечують бажаних результатів, а навпаки, часто призводять до застою, а то й до дезорганізації в управлінських структу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з, коли засобів, що виділяються з державного бюджету на розвиток охорони здоров'я, явно недостатньо, найбільш перспективною є мобілізація прихованих можливостей системи на основі кращого використання кадрових ресурс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іжнародний досвід, зокрема досвід ВООЗ, свідчить про те, що серед організаційних змін, метою яких є підвищення ефективності системи охорони здоров'я, найбільшого успіху досягають дії, що проводяться в галузі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правління кадр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правління кадрами включає 3 взаємоп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ні компон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у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ідготов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ористання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мови ефективного управління ка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шою умово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пішного управління кадрами є взаємозалежне функціонування названих компонентів: планування розвитку кадрів - як кількісне, так і якісне - не матиме сенсу, якщо система підготовки і удосконалення медичних працівників не буде здатна забезпечити обидва цих аспекти. Разом з тим, підготовлені медичні кадри повинні знайти собі практичне застосування, відповідні до їх професійної кваліфік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ою неодмінною умово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ективного управління кадрами є реалізація концепції інтегрованого розвитку медичних кадрів і самої системи охорони здоров'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8580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достатньо організоване управління кадра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рони здоров'я виявляється в неадекватному використанні персоналу, в низькій його продуктивності, незбалансованості структури персоналу з потребами системи та і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іння кадрами стає найбільш ефективним, якщо визначальним принципом є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кономічна ефективність управлінських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ономічна модель конкуруючих ринків в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є системою функціонування трьох взаємопов'язаних рин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инку служб охорони здоров'я, що визначає кількість різних видів медичних послуг, які споживаються населенням, та ціни на 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инку кадрів охорони здоров'я, що встановлює кількість категорій працюючого персоналу, і рівень його заробітної пл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ринку медичної освіти, що пропонує кількість випускників кожного виду персоналу і вартість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іни в попиті і пропозиції на ринках знаходяться під впливом політики охорони здоров'я і економіки суспільства в цілому, змін соціальних і демографічних чинників. Зміни політики охорони здоров'я, що торкається інтересів одного ринку, неминуче призводить до змін на інших ринках - і не тільки в межах сектора охорони здоров'я. Тому при розробці політики розвитку кадрів охорони здоров'я необхідно заздалегідь оцінити всі прямі і непрямі наслідки для системи від реалізації цієї полі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2:2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