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3E68-CA80-4A37-A60C-30483A08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1F04-FEC0-4BA2-B7E2-F1FA16F6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872D-F694-4A65-A98B-0E5DEE38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C539-0A67-4AC9-AFA5-ACF99080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22F0-51F7-417F-84BB-67A837F9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86DF-2287-4E28-ACF0-FF52B9AC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44E0-1126-4FA9-85AF-CFF749CA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6730-6BFA-4B51-8CCA-ECE77C84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976B-4CB0-41C4-BBFB-08ABF3B9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E5E7-746E-4F17-937E-35E57DFF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91B1-7FDF-417B-8EBA-A13C3287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A73-43FB-4436-9801-446F65D4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FCD7-F6E6-4E56-9D09-0AF9484F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C478-3FA2-4011-93E5-93735EEF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2FD9-3658-4400-A4B4-D0872FD1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3B76-AE20-4B73-A81C-D9EF535B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5FEE-4A36-41AF-B88F-031E8DB4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6C70-E253-464A-8158-2A993DE2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22B-1487-446D-B7C0-4E666BF2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90D0-9C83-4997-874E-A3E7BE2B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FE3A-D217-4E28-8A05-F4C72B83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1F3D-291D-44E5-8A96-82B67576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9059-31FF-4C9A-8B8E-2B89A9BF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F17-1038-4076-A93F-1E8E4736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A774-E79D-4BF6-B18E-CCF3CB165AF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CE35-53F3-4947-838E-3BA8AA82AD6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2053800"/>
            <a:ext cx="76788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О-ПСИХОЛОГІЧНІ ПРОБЛЕМИ ГРУПОВОЇ ДІЯЛЬНОСТІ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962520" y="4419360"/>
            <a:ext cx="449568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.м.н., доцен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ачала Л.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і формування організації лежать два соціальні феномени: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94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ергія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'єднання зусиль учасників організації дає можливість досягти більш високих результатів, ніж ті, які можна отримати шляхом простого підсумовування зусиль ізольованих індивідів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илітація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легшення зусиль за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мо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ільної діяльності).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оціальні ролі у групі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іціато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то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кач додаткової інформації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ловлювач думок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ювач дум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еграто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єнтато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ято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1920" y="500400"/>
            <a:ext cx="8882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Функціональні ролі в групі: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бадьорюючий і заохочуючий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онізатор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ртівник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нец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ідовник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1920" y="426960"/>
            <a:ext cx="8882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Деструктивні соціальні ролі у групі: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7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тор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ор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літка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кач визнання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1920" y="378000"/>
            <a:ext cx="88822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 фактори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, що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уть перешкоджати ефективності групового ухвалення рішення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та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вести до дисфункціональності в груповій роботі: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280" y="3048120"/>
            <a:ext cx="8871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ове мислення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 домінування одних членів групи над іншими в процесі дискусії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1920" y="426960"/>
            <a:ext cx="8882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знаки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ового мислення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. Джаніс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м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82)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71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люзія невразливості, яку поділяють майже всі члени групи, часто призводить до надмірного оптимізму або невиправданого ризику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альне презирство до раціональних думок і висловлювань, що містять недовіру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застережна прихильність до групової морал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типне сприйняття порад як прояву злостивості, слабкості чи дурост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1920" y="561600"/>
            <a:ext cx="8882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знаки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ового мислення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. Джаніс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м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82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к на членів групи, що не підкоряються більшост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ійка ілюзія єдності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цензура в ім'я непорушності групового консенсусу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мовільна поява захисників групи, що оберігають її від інформації, яка могла б похитнути групове самовдоволення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426960"/>
            <a:ext cx="8882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ист  від феномену групового мислення: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тримка критики керівництва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тримка інноваційних ідей і права на помилку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щення закріплення поділу або переваг у груп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шення зовнішніх експертів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чення «адвоката диявола» у груповій дискусії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1920" y="454680"/>
            <a:ext cx="8882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ова динаміка характеризується двома фазами: 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ою розбіжності думок і розбіжності позицій членів груп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ою поступового зближення позицій і думок членів групи з конкретного питанн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1920" y="348480"/>
            <a:ext cx="88822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и нерівноправної участ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у груповій робот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7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дивідуальні відмінності членів групи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акції на події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і схильності кожного, що виявляються в домінуванні й самовираженні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міння чи небажання прислухуватися до думки інших членів груп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ня віра в себе і свою ідею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евіра окремих членів групи в тому, що їх уважно вислухають і зрозуміють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нування інших соціально-психологічних бар'єрів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1920" y="134640"/>
            <a:ext cx="88822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ористання закономірностей групової динаміки в процесі ухвалення рішення призводить до: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тримки розбіжностей між слуханням для розуміння і безпідставною згодою з позицією інших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явлення більш повного набору альтернативних ідей; об'єктивної оцінки ідей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говорення й ухвалення оптимального рішенн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итку потенціалу кожного члена груп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іцнення клімату взаємної довіри й поваги в групі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итку взаємного розуміння між членами груп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2710800"/>
            <a:ext cx="880596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—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і чи більше особи,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щ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заємодіють одна з</a:t>
            </a: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ю, знають одна про одну та мають спільну мету</a:t>
            </a: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437040"/>
            <a:ext cx="88552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66"/>
                </a:solidFill>
                <a:latin typeface="Times New Roman"/>
              </a:rPr>
              <a:t>Індивідуальні характеристики членів групи визначають: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844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ефективність виконання завданн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собливості міжособистісної взаємодії і відносин між членами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груп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оціально-психологічні характеристики групи як одиниці суспільства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280" y="2179440"/>
            <a:ext cx="885528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Завдання лідерства в управлінській діяльності полягає в діагностиці соціально-психологічних характеристик членів групи і створенні умов, за яких будуть розвиватися й посилюватися позитивні якості та власти-вості індивідів і мінімізуватися прояви їхніх негативних рис.</a:t>
            </a: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-115200"/>
            <a:ext cx="885528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До індивідуальних схильностей, прояв яких деструктивно впливає на розвиток групи,  відносять:</a:t>
            </a: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844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агнення до домінуванн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маніпулюванн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ідчуженість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огматизм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агресивність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421560"/>
            <a:ext cx="8855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Типи маніпуляторів за Е. Шостромом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4032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диктато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легкодуха людин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обчислювач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прилипайл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16360" y="1904760"/>
            <a:ext cx="4307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хуліга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гарний хлопец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судд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захисни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315720"/>
            <a:ext cx="88552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Для маніпуляторів характерні чотири ігрових стереотипи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8920" y="1905120"/>
            <a:ext cx="8844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активний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пасивний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той, що змагається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байдуж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1920" y="426960"/>
            <a:ext cx="8882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66"/>
                </a:solidFill>
                <a:latin typeface="Times New Roman"/>
              </a:rPr>
              <a:t>Маніпуляція і майєвтика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52280" y="1905120"/>
          <a:ext cx="8871120" cy="4886280"/>
        </p:xfrm>
        <a:graphic>
          <a:graphicData uri="http://schemas.openxmlformats.org/drawingml/2006/table">
            <a:tbl>
              <a:tblPr/>
              <a:tblGrid>
                <a:gridCol w="4435560"/>
                <a:gridCol w="44355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ніпуляці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йєв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шук однобічних ви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хований вп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ора на стереотипні ре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ії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орення ілюзії незалеж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ті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и певну мету, що уне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ливлює врахування інтересів іншої сторони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ємовигідне співробіт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цт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ний, відкритий вп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виток творчого підход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пільна відповідальність і взаємозалежніс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цікавленість усіх у ре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льтаті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348120"/>
            <a:ext cx="8882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іляють два види агресивної поведінки: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ію </a:t>
            </a:r>
            <a:r>
              <a:rPr b="0" lang="uk-UA" sz="3200" spc="-1" strike="noStrike">
                <a:solidFill>
                  <a:srgbClr val="9a0000"/>
                </a:solidFill>
                <a:latin typeface="Times New Roman"/>
                <a:ea typeface="Times New Roman"/>
              </a:rPr>
              <a:t>як засіб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дійснення своєї мети й задоволення потреб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ію </a:t>
            </a:r>
            <a:r>
              <a:rPr b="0" lang="uk-UA" sz="3200" spc="-1" strike="noStrike">
                <a:solidFill>
                  <a:srgbClr val="9a0000"/>
                </a:solidFill>
                <a:latin typeface="Times New Roman"/>
                <a:ea typeface="Times New Roman"/>
              </a:rPr>
              <a:t>як мет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одіяння шкоди іншій людині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1920" y="187920"/>
            <a:ext cx="8882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и зняття агресивності: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пасивний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активний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логічний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2710800"/>
            <a:ext cx="880596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ивний —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гає в тому, щоб виговоритися, поскаржитися кому-небудь на свої проблеми або поплакат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1920" y="104400"/>
            <a:ext cx="8882280" cy="14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й —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ається на фізичну активність людини, що дає йому змогу спалити надлишок адреналіну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ільнитися від напруги. У зв'язку із цим ефективними є: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тя всіма видами спорту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постереження за змаганнями та активне уболівання за “своїх”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лювання, риболовля (інші види активного відпочинку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танці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будь-які дії, п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зані з руйнуванням цілого: биття посуду, крій та шиття, робота сокирою, копання грядок та ін.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лі діяльності групи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2280" y="2361960"/>
            <a:ext cx="8871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перативні цілі —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лі, досягти яких можна за умови спільної роботи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агальні цілі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– цілі, яких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а досягти, лише змагаючись один з одним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1920" y="74520"/>
            <a:ext cx="88822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ічний —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льше прийнятний для раціональних людей. Він полягає в пошуку суті явища, що стало предметом роздратування. Цей спосіб дуже ефективний для людини, орієнтованої на логіку, оскільки: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2280" y="2819160"/>
            <a:ext cx="8871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тична діяльність заспокоює і відбирає багато енергії, спалюючи надлишок адреналіну в крові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є суб'єкту можливість поринути у звичні справи, що сприяє поліпшенню настрою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ає йому змогу з'ясувати причину та знайти вихід із пробле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1920" y="226080"/>
            <a:ext cx="8882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66"/>
                </a:solidFill>
                <a:latin typeface="Times New Roman"/>
              </a:rPr>
              <a:t>Типи підлеглих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підлеглі, орієнтовані на мету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підлеглі, орієнтовані на завдання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1920" y="286920"/>
            <a:ext cx="8882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Підлеглий, орієнтований на мету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71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ає перевагу авторитарному керівнику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є потребу в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ротному зв'язку та оцінці діяльності, що залежить від результату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иймає гроші як заохочення за гарну роботу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че працює, коли є стимул працювати більше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ще виконує роботу, яка може бути удосконалена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такому випадку — це творчий т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обистості, що одержує задоволення від вирішення проблеми);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1920" y="286920"/>
            <a:ext cx="8882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Підлеглий, орієнтований на мету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ирає цілі із середнім ступенем ризику, несе відповідальність за результат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ямовує енергію на досягнення цілей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являє ініціативу й не любить дріб'язкової опік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ює своє прагнення досягти мети залежно від реальності успіху або невдач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1920" y="286920"/>
            <a:ext cx="8882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Підлеглий, орієнтований на завдання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71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дає перевагу демократичному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ерівников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є зворотного зв'язку, оцінки. Відчуває потребу у схваленні його особистих дій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ші, які можна заробити додатково, сприймає як «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раведливі 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дає перевагу рутинній і «стабільній» роботі, що не вимагає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іпшення. Не виявляє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т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ості й одержує задоволення від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ення завдання;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1920" y="286920"/>
            <a:ext cx="8882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Підлеглий, орієнтований на завдання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9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ирає цілі з високим або низьким ризиком. Має потребу 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правданні, уникає оцінюван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я якості його праці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фокусує індивідуальну енергію на мет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ітко виконує директив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ною мірою виявляє прагнення до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точ-ного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у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фортно почуває себе в стабільній обстановці, за усталених правил і процедур.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1920" y="-78120"/>
            <a:ext cx="8882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Особливості управління залежно від типу підлеглих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280" y="1143000"/>
          <a:ext cx="8871120" cy="5821200"/>
        </p:xfrm>
        <a:graphic>
          <a:graphicData uri="http://schemas.openxmlformats.org/drawingml/2006/table">
            <a:tbl>
              <a:tblPr/>
              <a:tblGrid>
                <a:gridCol w="4435560"/>
                <a:gridCol w="4435560"/>
              </a:tblGrid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ливості управлі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леглими, орієнтованими на ме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леглими, орієнтованими на завда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монструвати свій статус і владу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авати право вільного графіка роботи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ановлювати зворотний зв'язок та оцінювати діяльність підлеглого за результатами роботи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икати демонстрування статусу й влади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ити нормований робочий день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увати схвалення індивідуальних зусиль у процесі роботи над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ням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1920" y="-78120"/>
            <a:ext cx="8882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Особливості управління залежно від типу підлеглих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52280" y="1143000"/>
          <a:ext cx="8871120" cy="5821200"/>
        </p:xfrm>
        <a:graphic>
          <a:graphicData uri="http://schemas.openxmlformats.org/drawingml/2006/table">
            <a:tbl>
              <a:tblPr/>
              <a:tblGrid>
                <a:gridCol w="4435560"/>
                <a:gridCol w="4435560"/>
              </a:tblGrid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ливості управлі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леглими, орієнтованими на ме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леглими, орієнтованими на завда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ити матеріальне стимулювання та виробити критерій оцінювання ефективності досягнення мети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учати завдання, що потребують творчого підходу та самостійності;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улювати чіткі кри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ії стимулювання, розро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ти систему матеріаль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го та нематеріального заохочення за успішне виконання завдання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учати рутинну роботу, шо не вимагає інноваційних підходів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1920" y="-78120"/>
            <a:ext cx="8882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Особливості управління залежно від типу підлеглих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52280" y="1143000"/>
          <a:ext cx="8871120" cy="5821200"/>
        </p:xfrm>
        <a:graphic>
          <a:graphicData uri="http://schemas.openxmlformats.org/drawingml/2006/table">
            <a:tbl>
              <a:tblPr/>
              <a:tblGrid>
                <a:gridCol w="4435560"/>
                <a:gridCol w="4435560"/>
              </a:tblGrid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ливості управлі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леглими, орієнтованими на ме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леглими, орієнтованими на завда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вати право на помилку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ити можливість обговорення деталей виконання завдання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1796400"/>
            <a:ext cx="81630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гуртованістю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 називають близькі стосунки між її членами, їх готовність підтримувати один одного.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191772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альний склад групи — це п'ять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осіб!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3783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66"/>
                </a:solidFill>
                <a:latin typeface="Times New Roman"/>
              </a:rPr>
              <a:t>Особливості групи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94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співпрацюють у групах, перебуваючи в стосунках повної взаємозалежност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и однієї групи підпорядковують свою поведінку загальноприйнятим у групі нормам і домагаються спільної ме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 мають неоднакові функції. Усі вони є спеціалізованим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дивіди є членами одночасно багатьох груп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нуют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ійні,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т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часові й випадкові груп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181800"/>
            <a:ext cx="8729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66"/>
                </a:solidFill>
                <a:latin typeface="Times New Roman"/>
              </a:rPr>
              <a:t>Особливості групи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71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кі групи є вільними, інші мають обов'язковий характер (родина, нація)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очі групи можуть бути формальними і неформальним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ти за нормами групи завжди важко, особливо ззовн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і групи чинять тиск на своїх членів, щоб змусити їх дотримуватися групових норм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здатна приймати більш ризиковані рішення, ніж окрем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її член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560" y="302400"/>
            <a:ext cx="8729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66"/>
                </a:solidFill>
                <a:latin typeface="Times New Roman"/>
              </a:rPr>
              <a:t>Особливості групи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7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 в цілому породжують менше ідей, ніж окрем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г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пи; однак група продукує кращі ідеї,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з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щою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обкою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бічною оцінкою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оді виникають конфлікти між групами й усередині груп (ми і вони). Конфлікти можуть бути особисті, міжособистісні, міжгрупові, соціальні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2132640"/>
            <a:ext cx="872964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анізаці</a:t>
            </a:r>
            <a:r>
              <a:rPr b="0" i="1" lang="uk-UA" sz="44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– це</a:t>
            </a:r>
            <a:r>
              <a:rPr b="0" i="1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ічн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'єднання групи індивідів (двох і більше), діяльність яких свідомо координує суб'єкт управління, щоб упорядкувати спільну діяльність та успішно досягнути спільної мети.</a:t>
            </a: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9:29:22Z</dcterms:created>
  <dc:creator>User</dc:creator>
  <dc:description/>
  <dc:language>en-US</dc:language>
  <cp:lastModifiedBy>Ljuba</cp:lastModifiedBy>
  <dcterms:modified xsi:type="dcterms:W3CDTF">2014-10-07T08:31:30Z</dcterms:modified>
  <cp:revision>26</cp:revision>
  <dc:subject/>
  <dc:title>СОЦІАЛЬНО-ПСИХОЛОГІЧНІ ПРОБЛЕМИ ГРУПОВОЇ ДІЯЛЬНОСТІ </dc:title>
</cp:coreProperties>
</file>