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71E-CC45-4E2D-AB30-52B98526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84F-27EE-48F4-9DC4-D181C601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DFD-8BC9-4929-84FE-BA6BC47B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4B2-E0BC-4B62-B0AA-7DC6B64B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611A-539D-408E-8A00-8B3D1459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DF18-01A4-47EE-A44B-2C298696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BC94-4FD0-4AD5-9724-A9A32B34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BF21-699A-4DEF-8CF6-258842E9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2AAF-731F-46B3-91A0-DF795FD7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6D1E-D8FE-4B14-92BC-4A7BDCB8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1C9C-1ACC-49FB-91DD-DC5F938C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761-89FD-4C40-99F6-7DE0F49A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D79D-5C8B-40C1-8B8C-3C54D595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8619-C635-4056-B916-2B3D6410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97C6-107B-452E-BFB5-56DAFC11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658C-1EEE-43DF-A140-D0475403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9352-F0F2-46C8-8F13-280D4B89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596-F969-426A-9B73-56219189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E9D-FB0D-46DE-B394-A1D5AB2B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4CD-3B3D-4879-AE72-1319910E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23F2-8A01-429A-BFFC-250CAEEB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5DA-20FB-48D7-8828-A5DC6BEE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369-2510-410D-B1D9-4983DFC4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75F-F48A-4C6B-9514-CC9C1A2D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CE07-35E9-4D79-BC3B-FF0F10C593F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09FE-9E92-44BC-86A3-0F357A3132F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2053800"/>
            <a:ext cx="76788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О-ПСИХОЛОГІЧНІ ПРОБЛЕМИ ГРУПОВОЇ ДІЯЛЬНОСТІ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62520" y="4419360"/>
            <a:ext cx="449568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.м.н., доце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ачала Л.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і формування організації лежать два соціальні феномени: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9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ргі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'єднання зусиль учасників організації дає можливість досягти більш високих результатів, ніж ті, які можна отримати шляхом простого підсумовування зусиль ізольованих індивідів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илітаці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егшення зусиль за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мо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ільної діяльності)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оціальні ролі у групі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іціа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ач додаткової інформації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ловлювач думок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ювач дум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грато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єнтато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я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50040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Функціональні ролі в групі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бадьорюючий і заохочуючи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онізат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тівни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нец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ідовни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еструктивні соціальні ролі у групі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7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т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літка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ач визнання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1920" y="378000"/>
            <a:ext cx="88822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 фактор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, що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уть перешкоджати ефективності групового ухвалення рішення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а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вести до дисфункціональності в груповій роботі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3048120"/>
            <a:ext cx="8871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е мислення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 домінування одних членів групи над іншими в процесі дискусії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знак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ого мисле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. Джані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2)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71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люзія невразливості, яку поділяють майже всі члени групи, часто призводить до надмірного оптимізму або невиправданого ризик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альне презирство до раціональних думок і висловлювань, що містять недовір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застережна прихильність до групової морал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не сприйняття порад як прояву злостивості, слабкості чи дурос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561600"/>
            <a:ext cx="8882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знак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ого мисле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. Джані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2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к на членів групи, що не підкоряються більшос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ійка ілюзія єдності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цензура в ім'я непорушності групового консенсус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овільна поява захисників групи, що оберігають її від інформації, яка могла б похитнути групове самовдоволенн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ист  від феномену групового мислення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ка критики керівництва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ка інноваційних ідей і права на помилк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щення закріплення поділу або переваг у груп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шення зовнішніх експертів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чення «адвоката диявола» у груповій дискусії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1920" y="45468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а динаміка характеризується двома фазами: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ою розбіжності думок і розбіжності позицій членів груп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ою поступового зближення позицій і думок членів групи з конкретного питанн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348480"/>
            <a:ext cx="88822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нерівноправної участ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у груповій робот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7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ивідуальні відмінності членів групи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акції на події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і схильності кожного, що виявляються в домінуванні й самовираженн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міння чи небажання прислухуватися до думки інших членів груп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ня віра в себе і свою ідею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евіра окремих членів групи в тому, що їх уважно вислухають і зрозуміють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вання інших соціально-психологічних бар'єрі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134640"/>
            <a:ext cx="88822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ористання закономірностей групової динаміки в процесі ухвалення рішення призводить до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ки розбіжностей між слуханням для розуміння і безпідставною згодою з позицією інши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ення більш повного набору альтернативних ідей; об'єктивної оцінки ідей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говорення й ухвалення оптимального рішенн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тку потенціалу кожного члена груп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цнення клімату взаємної довіри й поваги в групі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тку взаємного розуміння між членами груп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2710800"/>
            <a:ext cx="88059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—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чи більше особи,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щ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заємодіють одна з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ю, знають одна про одну та мають спільну мету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437040"/>
            <a:ext cx="8855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Times New Roman"/>
              </a:rPr>
              <a:t>Індивідуальні характеристики членів групи визначають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844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ефективність виконання завданн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обливості міжособистісної взаємодії і відносин між членами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руп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оціально-психологічні характеристики групи як одиниці суспільства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179440"/>
            <a:ext cx="885528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вдання лідерства в управлінській діяльності полягає в діагностиці соціально-психологічних характеристик членів групи і створенні умов, за яких будуть розвиватися й посилюватися позитивні якості та власти-вості індивідів і мінімізуватися прояви їхніх негативних рис.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-115200"/>
            <a:ext cx="885528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До індивідуальних схильностей, прояв яких деструктивно впливає на розвиток групи,  відносять: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844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агнення до домінуванн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аніпулюванн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дчуженіст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огматизм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гресивність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421560"/>
            <a:ext cx="8855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Типи маніпуляторів за Е. Шостромом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403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иктато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легкодуха люди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обчислювач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прилипайл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6360" y="1904760"/>
            <a:ext cx="4307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хуліга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гарний хлопец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удд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хисни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315720"/>
            <a:ext cx="88552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Для маніпуляторів характерні чотири ігрових стереотипи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844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активни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асивни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той, що змагається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байдуж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42696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Times New Roman"/>
              </a:rPr>
              <a:t>Маніпуляція і майєвтика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52280" y="1905120"/>
          <a:ext cx="8871120" cy="488628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ніпуляці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єв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ук однобічних ви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хований вп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ра на стереотипні р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ії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ілюзії незалеж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ті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и певну мету, що ун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ливлює врахування інтересів іншої сторон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ємовигідне співробіт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цт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ний, відкритий вп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виток творчого підход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пільна відповідальність і взаємозалежніс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ікавленість усіх у р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льтаті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348120"/>
            <a:ext cx="8882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іляють два види агресивної поведінки: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ію </a:t>
            </a:r>
            <a:r>
              <a:rPr b="0" lang="uk-UA" sz="3200" spc="-1" strike="noStrike">
                <a:solidFill>
                  <a:srgbClr val="9a0000"/>
                </a:solidFill>
                <a:latin typeface="Times New Roman"/>
                <a:ea typeface="Times New Roman"/>
              </a:rPr>
              <a:t>як засіб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дійснення своєї мети й задоволення потреб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ію </a:t>
            </a:r>
            <a:r>
              <a:rPr b="0" lang="uk-UA" sz="3200" spc="-1" strike="noStrike">
                <a:solidFill>
                  <a:srgbClr val="9a0000"/>
                </a:solidFill>
                <a:latin typeface="Times New Roman"/>
                <a:ea typeface="Times New Roman"/>
              </a:rPr>
              <a:t>як мет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діяння шкоди іншій людині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187920"/>
            <a:ext cx="8882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и зняття агресивності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пасивний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активний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логічний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2710800"/>
            <a:ext cx="88059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ий —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гає в тому, щоб виговоритися, поскаржитися кому-небудь на свої проблеми або поплака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104400"/>
            <a:ext cx="8882280" cy="14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й —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ється на фізичну активність людини, що дає йому змогу спалити надлишок адреналіну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ільнитися від напруги. У зв'язку із цим ефективними є: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тя всіма видами спорту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постереження за змаганнями та активне уболівання за “своїх”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лювання, риболовля (інші види активного відпочинку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анц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удь-які дії, п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зані з руйнуванням цілого: биття посуду, крій та шиття, робота сокирою, копання грядок та ін.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 діяльності групи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8871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перативні цілі —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, досягти яких можна за умови спільної роботи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агальні цілі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– цілі, яких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а досягти, лише змагаючись один з одним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1920" y="74520"/>
            <a:ext cx="8882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ічний —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ьше прийнятний для раціональних людей. Він полягає в пошуку суті явища, що стало предметом роздратування. Цей спосіб дуже ефективний для людини, орієнтованої на логіку, оскільки: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2819160"/>
            <a:ext cx="8871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тична діяльність заспокоює і відбирає багато енергії, спалюючи надлишок адреналіну в крові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є суб'єкту можливість поринути у звичні справи, що сприяє поліпшенню настрою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є йому змогу з'ясувати причину та знайти вихід із пробле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226080"/>
            <a:ext cx="8882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Типи підлеглих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ідлеглі, орієнтовані на мету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ідлеглі, орієнтовані на завданн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мету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71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є перевагу авторитарному керівник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потребу в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ротному зв'язку та оцінці діяльності, що залежить від результат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ймає гроші як заохочення за гарну роботу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че працює, коли є стимул працювати більше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ще виконує роботу, яка може бути удосконалена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такому випадку — це творчий 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бистості, що одержує задоволення від вирішення проблеми);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мету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7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ирає цілі із середнім ступенем ризику, несе відповідальність за результат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ямовує енергію на досягнення цілей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яє ініціативу й не любить дріб'язкової опік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ює своє прагнення досягти мети залежно від реальності успіху або невдач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завдання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7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ає перевагу демократичному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ерівников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є зворотного зв'язку, оцінки. Відчуває потребу у схваленні його особистих дій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ші, які можна заробити додатково, сприймає як «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раведливі 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ає перевагу рутинній і «стабільній» роботі, що не вимагає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іпшення. Не виявляє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т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сті й одержує задоволення від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ня завдання;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1920" y="286920"/>
            <a:ext cx="8882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ідлеглий, орієнтований на завдання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9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ирає цілі з високим або низьким ризиком. Має потребу 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равданні, уникає оцінюван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 якості його прац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фокусує індивідуальну енергію на ме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ітко виконує директив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ною мірою виявляє прагнення до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точ-ного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у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фортно почуває себе в стабільній обстановці, за усталених правил і процедур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-7812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собливості управління залежно від типу підлегли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280" y="1143000"/>
          <a:ext cx="8871120" cy="582120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ливості управлі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монструвати свій статус і владу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авати право вільного графіка робот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ановлювати зворотний зв'язок та оцінювати діяльність підлеглого за результатами роботи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кати демонстрування статусу й влади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ити нормований робочий день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увати схвалення індивідуальних зусиль у процесі роботи над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ям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1920" y="-7812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собливості управління залежно від типу підлегли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2280" y="1143000"/>
          <a:ext cx="8871120" cy="582120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ливості управлі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ити матеріальне стимулювання та виробити критерій оцінювання ефективності досягнення мети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учати завдання, що потребують творчого підходу та самостійності;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улювати чіткі кр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ії стимулювання, розро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и систему матеріаль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го та нематеріального заохочення за успішне виконання завдання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учати рутинну роботу, шо не вимагає інноваційних підходів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1920" y="-78120"/>
            <a:ext cx="8882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собливості управління залежно від типу підлеглих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52280" y="1143000"/>
          <a:ext cx="8871120" cy="5821200"/>
        </p:xfrm>
        <a:graphic>
          <a:graphicData uri="http://schemas.openxmlformats.org/drawingml/2006/table">
            <a:tbl>
              <a:tblPr/>
              <a:tblGrid>
                <a:gridCol w="4435560"/>
                <a:gridCol w="443556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ливості управлі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леглими, орієнтованими на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вати право на помилку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a00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ити можливість обговорення деталей виконання завдання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1796400"/>
            <a:ext cx="81630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уртованістю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 називають близькі стосунки між її членами, їх готовність підтримувати один одного.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91772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альний склад групи — це п'ять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осіб!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3783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Особливості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9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півпрацюють у групах, перебуваючи в стосунках повної взаємозалежност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и однієї групи підпорядковують свою поведінку загальноприйнятим у групі нормам і домагаються спільної ме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 мають неоднакові функції. Усі вони є спеціалізованим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ивіди є членами одночасно багатьох груп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ю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ійні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т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часові й випадкові груп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181800"/>
            <a:ext cx="8729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Особливості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71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кі групи є вільними, інші мають обов'язковий характер (родина, нація)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чі групи можуть бути формальними і неформальним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ти за нормами групи завжди важко, особливо ззовні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і групи чинять тиск на своїх членів, щоб змусити їх дотримуватися групових норм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здатна приймати більш ризиковані рішення, ніж окрем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ї члени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302400"/>
            <a:ext cx="8729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Times New Roman"/>
              </a:rPr>
              <a:t>Особливості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7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 в цілому породжують менше ідей, ніж окрем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г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и; однак група продукує кращі ідеї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щ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обк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бічною оцінкою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оді виникають конфлікти між групами й усередині груп (ми і вони). Конфлікти можуть бути особисті, міжособистісні, міжгрупові, соціальні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2132640"/>
            <a:ext cx="872964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ізаці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– це</a:t>
            </a:r>
            <a:r>
              <a:rPr b="0" i="1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ічн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'єднання групи індивідів (двох і більше), діяльність яких свідомо координує суб'єкт управління, щоб упорядкувати спільну діяльність та успішно досягнути спільної мети.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9:29:22Z</dcterms:created>
  <dc:creator>User</dc:creator>
  <dc:description/>
  <dc:language>en-US</dc:language>
  <cp:lastModifiedBy>Ljuba</cp:lastModifiedBy>
  <dcterms:modified xsi:type="dcterms:W3CDTF">2014-10-07T08:31:30Z</dcterms:modified>
  <cp:revision>26</cp:revision>
  <dc:subject/>
  <dc:title>СОЦІАЛЬНО-ПСИХОЛОГІЧНІ ПРОБЛЕМИ ГРУПОВОЇ ДІЯЛЬНОСТІ </dc:title>
</cp:coreProperties>
</file>