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658-541D-44F1-B74B-2DEDD0D8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2EF-1C93-4606-B34E-95725A8E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21A-5F3D-4BA1-87C8-7528B3EC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CDA-7E64-4271-B090-3E48F6C4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144-85DB-4283-B466-257621B8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83C-D640-4B7F-84C7-637AABE4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5D5-AF79-4175-B625-071AF284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29B-EEDD-4ED4-AF77-3F6F02D4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13C8-5A58-4CEF-AC4A-5A11CF8E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A24-3981-4BAE-9998-5790B5C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FD2-F661-4EA0-A20C-3D1B470F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97E-6F0E-4B3E-AE24-F9317411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21E4-6185-4C4F-8F4B-292374B9CF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cecff"/>
                </a:solidFill>
                <a:latin typeface="Times New Roman"/>
              </a:rPr>
              <a:t>Система роботи з персоналом</a:t>
            </a:r>
            <a:br>
              <a:rPr sz="6000"/>
            </a:br>
            <a:r>
              <a:rPr b="0" lang="uk-UA" sz="6000" spc="-1" strike="noStrike">
                <a:solidFill>
                  <a:srgbClr val="ccecff"/>
                </a:solidFill>
                <a:latin typeface="Times New Roman"/>
              </a:rPr>
              <a:t>та основи кадрового планування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182920"/>
            <a:ext cx="640080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оц. Погоріляк Р.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Кадровий дефіци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снує диспропорція в забезпеченні фахівцями спеціалізованої медичної допомоги (89%) і первинної медико-санітарної допомоги (ПМСД) — 11%. У Європі ця пропорція становить 60% до 40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Отже, у сфері охорони здоров'я відповідно до зведеного штатного розкладу не вистачає майже 20% лікарів — фізичних осіб, і </a:t>
            </a: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майже кожна десята штатна лікарська посада є сьогодні вакантн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cecff"/>
                </a:solidFill>
                <a:latin typeface="Arial"/>
              </a:rPr>
              <a:t>продовженн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значені тенденції щодо скорочення кількості лікарів найгостріше спостерігаються за так званими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дефіцитними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 спеціальностями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, зокрема лікарів ПМСД, та за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географічною ознакою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— у сільській місцевост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Тобто на фоні зростаючого кадрового дефіциту у загальній структурі лікарів існує приховане скорочення </a:t>
            </a: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питомої ваги фахівців лікувального профіл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cecff"/>
                </a:solidFill>
                <a:latin typeface="Times New Roman"/>
              </a:rPr>
              <a:t>План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адрові ресурси охорони здоров'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адрова полі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Планування персонал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Формування кадрового резер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7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кщо запитати у керівника медичної установи, що є найскладнішим у роботі організатора охорони здоров'я, він, не розмірковуючи, відповість — це управління персоналом. Дійсно, людський фактор у медицині є найважливішим. Від компетентності кадрів, їх організованої роботи, нарешті, атмосфери на робочому місці залежить здоров'я пацієнт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8720" y="277920"/>
            <a:ext cx="766296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Кадрові ресурси охорони здоров'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Медичні кадри є однією з найважливіших складових ресурсів охорони здоров'я будь-якої країни, які забезпечують ефективність діяльності медичної сфери в цілому, що робить трудовий потенціал пріоритетом у функціонуванні охорони здоров'я як системи, де кадрова стратегія будується з урахуванням національних потреб, оптимальних заходів управління персоналом, світового досві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cecff"/>
                </a:solidFill>
                <a:latin typeface="Arial"/>
              </a:rPr>
              <a:t>продовженн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 даними Всесвітньої організації охорони здоров'я (ВООЗ) аналіз основних тенденцій розвитку трудових ресурсів за останні роки свідчить, що багатьма урядами здійснюються конкретні дії щодо формування системи ефективного менеджменту кадр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600" y="355320"/>
            <a:ext cx="792972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Times New Roman"/>
              </a:rPr>
              <a:t>продовженн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учасна </a:t>
            </a:r>
            <a:r>
              <a:rPr b="1" lang="uk-UA" sz="2800" spc="-1" strike="noStrike">
                <a:solidFill>
                  <a:srgbClr val="cc0000"/>
                </a:solidFill>
                <a:latin typeface="Times New Roman"/>
              </a:rPr>
              <a:t>кадрова стратегія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охорони здоров'я в розвинутих країнах світу базується на відповідальності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ержавних органів влад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успільства (зокрема професійних медичних асоціацій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Уряди цих країн намагаються регулювати трудові ресурси, визначати та задовольняти реальні потреби в кадрах охорони здоров'я, а також здійснювати підтримку та контроль заходів у сфері їх підготовки і результативного використан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00"/>
                </a:solidFill>
                <a:latin typeface="Times New Roman"/>
              </a:rPr>
              <a:t>Розвиток трудових</a:t>
            </a:r>
            <a:r>
              <a:rPr b="1" lang="uk-UA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cc0000"/>
                </a:solidFill>
                <a:latin typeface="Times New Roman"/>
              </a:rPr>
              <a:t>ресурсів </a:t>
            </a:r>
            <a:r>
              <a:rPr b="0" lang="uk-UA" sz="4000" spc="-1" strike="noStrike">
                <a:solidFill>
                  <a:srgbClr val="ccecff"/>
                </a:solidFill>
                <a:latin typeface="Times New Roman"/>
              </a:rPr>
              <a:t>базується на таких </a:t>
            </a:r>
            <a:r>
              <a:rPr b="1" lang="uk-UA" sz="4000" spc="-1" strike="noStrike">
                <a:solidFill>
                  <a:srgbClr val="cc0000"/>
                </a:solidFill>
                <a:latin typeface="Times New Roman"/>
              </a:rPr>
              <a:t>принципах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доволення потреби у кваліфікованих і досвідчених кадрах з урахуванням досягнень медичної нау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ропорційний розподіл за територіє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рівень надання медичної допомог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безпечення кадрів роботою тощ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Перспектива інтегрування</a:t>
            </a:r>
            <a:r>
              <a:rPr b="1" lang="uk-UA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ccecff"/>
                </a:solidFill>
                <a:latin typeface="Times New Roman"/>
              </a:rPr>
              <a:t>України в європейські структури потребує таких дій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обґрунтування концепці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розробки моделі та методологічних основ управління трудовими ресурсами охорони здоров'я на державному рівні та її підтримки на регіональном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сприяння становленню нових форм співпраці щодо кадрового забезпечення галуз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Провідні фактори формування кадрових ресурсів охорони здоров'я в Україні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 результатами багатофакторного кореляційно-регресійного аналізу показників медичної системи виділено такі </a:t>
            </a:r>
            <a:r>
              <a:rPr b="1" lang="uk-UA" sz="2800" spc="-1" strike="noStrike">
                <a:solidFill>
                  <a:srgbClr val="cc0000"/>
                </a:solidFill>
                <a:latin typeface="Times New Roman"/>
              </a:rPr>
              <a:t>провідні фактори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що мають значний вплив на </a:t>
            </a:r>
            <a:r>
              <a:rPr b="1" lang="uk-UA" sz="2800" spc="-1" strike="noStrike">
                <a:solidFill>
                  <a:srgbClr val="cc0000"/>
                </a:solidFill>
                <a:latin typeface="Times New Roman"/>
              </a:rPr>
              <a:t>формування кадрових ресурсів охорони здоров'я в Україні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тип закла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територі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пеціальні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0:13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