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3B3-C41C-42A5-8325-CB3A4A36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A7F-22A8-4705-8F46-AC6A8F5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F4-66F0-42F2-B984-9701DB67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5C0-A8A4-47D6-B834-CCDCC462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E32-3EF1-4A5A-B71A-410C2A3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A16-B961-416E-B93F-F9A9B3E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ACB-402F-49BE-9DC9-FDFAD43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0B9-EAA4-40EA-8855-936C9F02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355-B9AE-4974-9428-3CC23CFF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29C-27B5-4442-95C6-A91BAB5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A2C-BC76-48F1-A7ED-D834481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CB6-E41F-463A-A93A-9F2FFBE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00DB-80DF-4AA5-B4A5-FB46DF5FB0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Система роботи з персоналом</a:t>
            </a:r>
            <a:br>
              <a:rPr sz="6000"/>
            </a:br>
            <a:r>
              <a:rPr b="0" lang="uk-UA" sz="6000" spc="-1" strike="noStrike">
                <a:solidFill>
                  <a:srgbClr val="ccecff"/>
                </a:solidFill>
                <a:latin typeface="Times New Roman"/>
              </a:rPr>
              <a:t>та основи кадрового плануванн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82920"/>
            <a:ext cx="64008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Кадровий дефіци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снує диспропорція в забезпеченні фахівцями спеціалізованої медичної допомоги (89%) і первинної медико-санітарної допомоги (ПМСД) — 11%. У Європі ця пропорція становить 60% до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тже, у сфері охорони здоров'я відповідно до зведеного штатного розкладу не вистачає майже 20% лікарів — фізичних осіб, і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майже кожна десята штатна лікарська посада є сьогодні вакант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значені тенденції щодо скорочення кількості лікарів найгостріше спостерігаються за так званим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дефіцитним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спеціальностям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, зокрема лікарів ПМСД, та за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географічною ознакою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у сільській місцевос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бто на фоні зростаючого кадрового дефіциту у загальній структурі лікарів існує приховане скорочення </a:t>
            </a: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итомої ваги фахівців лікувального профі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cecff"/>
                </a:solidFill>
                <a:latin typeface="Times New Roman"/>
              </a:rPr>
              <a:t>Пл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і ресурси охорони здоров'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адрова полі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ланування персона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Формування кадрового резер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запитати у керівника медичної установи, що є найскладнішим у роботі організатора охорони здоров'я, він, не розмірковуючи, відповість — це управління персоналом. Дійсно, людський фактор у медицині є найважливішим. Від компетентності кадрів, їх організованої роботи, нарешті, атмосфери на робочому місці залежить здоров'я пацієн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8720" y="277920"/>
            <a:ext cx="766296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Кадрові ресурси охорони здоров'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Медичні кадри є однією з найважливіших складових ресурсів охорони здоров'я будь-якої країни, які забезпечують ефективність діяльності медичної сфери в цілому, що робить трудовий потенціал пріоритетом у функціонуванні охорони здоров'я як системи, де кадрова стратегія будується з урахуванням національних потреб, оптимальних заходів управління персоналом, світового досві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ecff"/>
                </a:solidFill>
                <a:latin typeface="Arial"/>
              </a:rPr>
              <a:t>продовженн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 даними Всесвітньої організації охорони здоров'я (ВООЗ) аналіз основних тенденцій розвитку трудових ресурсів за останні роки свідчить, що багатьма урядами здійснюються конкретні дії щодо формування системи ефективного менеджменту кадр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55320"/>
            <a:ext cx="792972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продовженн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час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кадрова стратегія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хорони здоров'я в розвинутих країнах світу базується на відповідальност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ржавних органів влад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спільства (зокрема професійних медичних асоціаці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Уряди цих країн намагаються регулювати трудові ресурси, визначати та задовольняти реальні потреби в кадрах охорони здоров'я, а також здійснювати підтримку та контроль заходів у сфері їх підготовки і результативного використа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озвиток трудових</a:t>
            </a:r>
            <a:r>
              <a:rPr b="1" lang="uk-UA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ресурсів </a:t>
            </a:r>
            <a:r>
              <a:rPr b="0" lang="uk-UA" sz="4000" spc="-1" strike="noStrike">
                <a:solidFill>
                  <a:srgbClr val="ccecff"/>
                </a:solidFill>
                <a:latin typeface="Times New Roman"/>
              </a:rPr>
              <a:t>базується на таких </a:t>
            </a:r>
            <a:r>
              <a:rPr b="1" lang="uk-UA" sz="4000" spc="-1" strike="noStrike">
                <a:solidFill>
                  <a:srgbClr val="cc0000"/>
                </a:solidFill>
                <a:latin typeface="Times New Roman"/>
              </a:rPr>
              <a:t>принцип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доволення потреби у кваліфікованих і досвідчених кадрах з урахуванням досягнень медичної нау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опорційний розподіл за територіє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івень надання медичної допомог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безпечення кадрів роботою тощ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ерспектива інтегрування</a:t>
            </a:r>
            <a:r>
              <a:rPr b="1" lang="uk-UA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ccecff"/>
                </a:solidFill>
                <a:latin typeface="Times New Roman"/>
              </a:rPr>
              <a:t>України в європейські структури потребує таких ді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бґрунтування концеп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розробки моделі та методологічних основ управління трудовими ресурсами охорони здоров'я на державному рівні та її підтримки на регіон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прияння становленню нових форм співпраці щодо кадрового забезпечення галуз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imes New Roman"/>
              </a:rPr>
              <a:t>Провідні фактори формування кадрових ресурсів охорони здоров'я в Україні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 результатами багатофакторного кореляційно-регресійного аналізу показників медичної системи виділено такі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провідні фактори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що мають значний вплив на </a:t>
            </a:r>
            <a:r>
              <a:rPr b="1" lang="uk-UA" sz="2800" spc="-1" strike="noStrike">
                <a:solidFill>
                  <a:srgbClr val="cc0000"/>
                </a:solidFill>
                <a:latin typeface="Times New Roman"/>
              </a:rPr>
              <a:t>формування кадрових ресурсів охорони здоров'я в Україн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ип закла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еритор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еціальні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0:13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