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6A8D-664C-4CE7-B034-051B14C3BC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129F-ADEA-4EDA-9B2B-5C54B3B8C5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B7B9-DB68-4FC4-BCB8-D2AE89E8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770-5B81-4284-A571-31C972AB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B3B-E9AC-450F-A18D-3229F318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62C-94B4-4418-813E-98F0B3F2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EF5D-0FE8-48BA-BDB9-5FA06EB5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DFEA-731F-415A-9945-8C44E34D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21AF-6C55-4F9C-8A1F-EC3E228A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E1A0-6DCA-47A2-9F2B-6909EF3F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A100-25AD-4DE3-B49A-31E1CD5B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3AA6-3E11-4093-BF6A-389AE9EB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8DD5-BA1E-4384-8E9C-02A6152F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6D3-FCC3-42B4-AC62-EF1BFC73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0667-2C23-4083-88C5-6B1C36E4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1F98-43BF-40ED-B340-7DFBCA07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452E-6C53-46C8-BEC1-DAE2B9FC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0344-2082-4DC7-B19F-A5C5AE7F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A933-7720-4D08-986A-A8BF8ACD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9A087-E7A5-4761-BFF4-203D5CBD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17DEF-443E-445E-99AF-193E0D94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C2DFD-9CFE-43B7-8F89-0D7C5B9F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D6A9E-1B52-4B7B-8CB8-E4962BC8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56C1C-8DE3-42FC-A718-B06EFF6A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FA1C-C1E5-46EC-B924-3067B2AE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452DF-D08D-4398-A50F-2CDF916A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201E1-6BB8-4F53-AF94-AA612F4A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C374B-F812-4438-90AD-DCB08BDB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DBD8D-16E3-4BDF-8CA6-45593B51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FB1DC-03E6-401B-8EF9-49CBAF18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16D03-31EA-471B-9E0B-D71EA814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BABB2-1558-4AAF-99AA-7018FAD6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9A630-1A98-4A66-A896-5CEE3522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C069F-9845-4B09-9307-EFD650E8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FD260-066B-40FF-8171-EEB9575C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5E9-C012-4955-9374-9D2EF46A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66D17-A18C-42D9-8E28-368F3C8E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D5385-3BF4-4787-AFD3-DCEA5925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6DF56-6A87-4B54-9531-3E90EEBB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E5309-E684-4069-B9C9-5AFBDC0B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A9A64-601B-4864-8BA0-BEB9F3A6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5BC32-E49D-4C07-BC97-BEF3DA8B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2F8AD-0F4D-4D67-AE4C-DA354F92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E5679-F356-4852-A008-6B1B0124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AB2C5-8A0B-4E03-9E32-408AD718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55A-9B45-45C3-965C-7115AEC6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97C-66BF-40D5-9141-679F09AC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BC2E-536A-43F6-A028-AE7D22F4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C60-157F-42D3-9BC0-E5D5BEA2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BD8-1ACC-43A1-9C4D-22724825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2A07-2D8A-497A-A486-03107EA7329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C9AF-53DF-44D1-9470-3C8FD62E2AA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CB4F-95E4-4F90-9C67-0C4D4C99C0F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BB4D-E7A1-4AA2-8A24-06C977D96B9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665280" y="704880"/>
            <a:ext cx="7948440" cy="4668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514332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Constantia"/>
              </a:rPr>
              <a:t>доц. Качала Л.О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3840" y="571680"/>
            <a:ext cx="7929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Медична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атистик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наук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 практична діяльність, що вивчає показники стану здор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 населення, його медичного забезпечення та результати діяльності закладів охорони здор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 у безпосередньому зв’язку з чинниками навколишнього середовища при провідному значенні соціальних фактор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Головна мета медичної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статистик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-  допомогти </a:t>
            </a:r>
            <a:r>
              <a:rPr b="0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виявит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оціальні фактори, </a:t>
            </a:r>
            <a:r>
              <a:rPr b="0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вивчит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пояснит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ї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 u="sng">
                <a:solidFill>
                  <a:srgbClr val="04617b"/>
                </a:solidFill>
                <a:uFillTx/>
                <a:latin typeface="Calibri"/>
              </a:rPr>
              <a:t>Основні завдання</a:t>
            </a:r>
            <a:br>
              <a:rPr sz="4100"/>
            </a:br>
            <a:r>
              <a:rPr b="0" lang="uk-UA" sz="4100" spc="-1" strike="noStrike" u="sng">
                <a:solidFill>
                  <a:srgbClr val="04617b"/>
                </a:solidFill>
                <a:uFillTx/>
                <a:latin typeface="Calibri"/>
              </a:rPr>
              <a:t> медичної </a:t>
            </a:r>
            <a:r>
              <a:rPr b="0" lang="ru-RU" sz="4100" spc="-1" strike="noStrike" u="sng">
                <a:solidFill>
                  <a:srgbClr val="04617b"/>
                </a:solidFill>
                <a:uFillTx/>
                <a:latin typeface="Calibri"/>
              </a:rPr>
              <a:t>статистик</a:t>
            </a:r>
            <a:r>
              <a:rPr b="0" lang="uk-UA" sz="4100" spc="-1" strike="noStrike" u="sng">
                <a:solidFill>
                  <a:srgbClr val="04617b"/>
                </a:solidFill>
                <a:uFillTx/>
                <a:latin typeface="Calibri"/>
              </a:rPr>
              <a:t>и</a:t>
            </a:r>
            <a:r>
              <a:rPr b="0" lang="uk-UA" sz="41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4100"/>
            </a:b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9200"/>
            <a:ext cx="7686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бґрунтування нормативно-організаційних потреб у наданні окремих видів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значення закономірностей рівня здоров’я та якості медичн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загальнення результатів діяльності установ, лікарів, оцінка їх ефектив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таннє сприяє плановості в управлінні та контролю за діяльністю медичних заклад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сі ці задачі вирішуються не тільки кількісними вимірюваннями, але і викриттям закономірностей, де спрацьовує один із основних законів статистики – закон великих чисел Чебишева. Цей закон діє лише при достатньо великій кількості спостережень, тобто при масових дослідженнях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42968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Загальна організація медичної та державної статистики в Україні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807264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785880"/>
            <a:ext cx="7758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значення основних понять статист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сторія становлення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едичної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атист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нципи побудови і діяльності медико - статистичної служби Украї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налітична статистика: абсолютні, відносні, середні величини, їх визначення та застосування у діяльності лікар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инамічні ряди – визначення, показники динамічного ряду, мета і   способи вирівнювання динамічного ряд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етод стандартизації, застосування в практиці охорони здор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реляційно - регресивний аналіз, застосування у практичній діяльності лікар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400" y="853560"/>
            <a:ext cx="8258040" cy="50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Хто володіє інформацією, той володіє світо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Д. Ротшильд, У. Черчілль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14200" y="333360"/>
            <a:ext cx="8390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дним із головних у соціальній медицині є статистичний метод, який найчастіше і використовується у соціально – медичних та організаційних дослідженн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атистичним цей метод називається тому, що користується основними положеннями статистики – теорією ймовірності та законом великих чисе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лово “статистика” латинського походження, походить від слова “status” – держава, “statista” – особа, що займається державною справо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931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атистика відноситься до суспільних наук. Вона вивчає масові суспільні явища і складені із них кількісні закономірності. Це о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єднує статистику з іншими суспільними науками – історією, політологією, економікою та інши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вищам суспільного життя притаманна кількісна визначеність, яка виражається в тому, що у кожний певний момент часу має певні кількісні характеристики, які постійно змінюю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Ця кількісна сторона масових суспільних явищ і складає предмет пізнання статистичної науки. Це має величезне явище для вирішення багатьох соціально – економічних та медичних питань, тому що достовірні дані статистики володіють великою доказовою сило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атистика є наймогутнішим знаряддям соціального пізнання. Вона допомагає виявити важливі закономірності різноманітних явищ і процесів в економіці, соціальному житті суспільства в цілому та у медицині зокрем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о неї звертаються як для підтвердження певних положень, так і для спростування сумнівни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апа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тайте, чим більш розвинуте і цивілізоване суспільство, тим ввічливіше воно відноситься до статист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атистик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– це наука, яка вивчає кількісну сторону масових суспільних явищ в нерозривному зв’язку з їх якісною стороною в конкретних умовах місця і час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Етапи становлення біостатистик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й етап – початковий (стародавні часи - середин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V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ругий етап – описовий  (кінець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V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. – початок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VI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ретій етап – математичний (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VI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. 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X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ка</dc:creator>
  <dc:description/>
  <dc:language>en-US</dc:language>
  <cp:lastModifiedBy>Ljuba</cp:lastModifiedBy>
  <dcterms:modified xsi:type="dcterms:W3CDTF">2014-10-07T08:29:09Z</dcterms:modified>
  <cp:revision>47</cp:revision>
  <dc:subject/>
  <dc:title>Основи медичної статистики (БІОСТАТИСТИКИ)</dc:title>
</cp:coreProperties>
</file>