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0E6C-B822-49A2-8F10-64C275C475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55CC-7577-4AD6-8C81-4F41FE6E39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E5AB-2539-4E1B-85C4-D4499391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3F8B-9749-4A71-80EA-A2221351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5647-2E74-4FCA-BD0A-5F9D8570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76E8-7FBE-4FD8-A3B5-20F806224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6352-FA87-4326-B467-4579216DD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0906-0F00-4B25-A2DD-DFBEFF39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3D5E-EB87-4A20-BED1-1817B98D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AD03-68BE-4E6D-9952-51748E16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EC93-CA4B-4A41-A06B-669333C1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89EA-E035-44EF-874D-DD61D4B0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B1D2-7FCE-4515-AE23-DB5901EE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FB8D-9295-4B8B-AB8D-36C7474C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88B3-1672-4BF4-9822-750788DB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3416-3D91-4B95-BE45-2618D4C1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0A2F-DB3F-49E1-8838-A30D092D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E803-777E-48D8-AF90-79EF0BD2F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29D0-EFD7-4D06-BF88-BDE3722C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1EFB6-ACAA-409B-BA6A-ADBBF589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EABE1-4240-4DB4-A2E7-0283E2A1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C7F6F-E4C6-4D4B-89E8-C683E69D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49A2B-CE46-4732-BE03-8F0281CF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FFEF1-678A-442B-BBAD-63505D4C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76F5-2BD3-4AE3-B90B-03DBDDC7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525A4-7FB9-4295-AFD1-2C5137CF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41589-9341-4F52-BD81-57EC2698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50247-A542-455B-9A3C-77F78E45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34001-7EE4-405B-9F2D-A1A78DAC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2FFAD-0E14-49EA-BD81-0CF8A43F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AC7A1-6445-4BB8-821E-F8AD4BB0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1D13B-5850-4AED-AC52-FB7F5C25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909C5-D1B6-45CF-8180-93F1982C5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EAAFF-A1C7-4FC9-921E-6C8DCC89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6EAFC-6891-455F-B9AB-6D92F6A6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03D9-A397-4229-B430-F6313247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956EA-5725-4AAA-AF0A-3D2E525B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FE5E8-E9DA-4A4C-B544-AD5CC715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91666-DC6F-4F4A-9B6A-95B262B9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27E76-235E-405D-B14F-B55A03B7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BD05C-811E-4A33-9DAF-2B881BAF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54E6E-670A-4290-808D-82286EA9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C0A15-BDA4-4AEC-9ED6-BDB7BA4F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B5E21-54BA-4349-AD93-5EFB32CB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1960F-7C03-4BD4-B9EB-B301CBE5E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DB8D-DBE3-490A-943B-62D1B2A7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DDF0-C566-4DA8-80A9-A8B19329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2D0D-CFC5-49CE-AA1F-FB107BA5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74B3-656B-4B44-927F-599C75D3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C9F1-BC54-444A-A80B-929BEC15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F1CB-9B87-46BA-B044-40F73352BCA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E47D-FF58-4BBE-8767-990E00030E8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94FB-1E11-4D3D-97D1-D3D8C89DDE5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FDB6-DFE7-4529-A43D-5E3EDCC5B4B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2"/>
          <a:stretch/>
        </p:blipFill>
        <p:spPr>
          <a:xfrm>
            <a:off x="665280" y="704880"/>
            <a:ext cx="7948440" cy="46688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371600" y="514332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00"/>
                </a:solidFill>
                <a:latin typeface="Constantia"/>
              </a:rPr>
              <a:t>доц. Качала Л.О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13840" y="571680"/>
            <a:ext cx="792972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Медична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татистик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наук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і практична діяльність, що вивчає показники стану здоров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я населення, його медичного забезпечення та результати діяльності закладів охорони здоров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я у безпосередньому зв’язку з чинниками навколишнього середовища при провідному значенні соціальних факторі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Головна мета медичної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статистик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-  допомогти </a:t>
            </a:r>
            <a:r>
              <a:rPr b="0" lang="uk-UA" sz="2600" spc="-1" strike="noStrike" u="sng">
                <a:solidFill>
                  <a:srgbClr val="000000"/>
                </a:solidFill>
                <a:uFillTx/>
                <a:latin typeface="Constantia"/>
              </a:rPr>
              <a:t>виявит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соціальні фактори, </a:t>
            </a:r>
            <a:r>
              <a:rPr b="0" lang="uk-UA" sz="2600" spc="-1" strike="noStrike" u="sng">
                <a:solidFill>
                  <a:srgbClr val="000000"/>
                </a:solidFill>
                <a:uFillTx/>
                <a:latin typeface="Constantia"/>
              </a:rPr>
              <a:t>вивчит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0" lang="uk-UA" sz="2600" spc="-1" strike="noStrike" u="sng">
                <a:solidFill>
                  <a:srgbClr val="000000"/>
                </a:solidFill>
                <a:uFillTx/>
                <a:latin typeface="Constantia"/>
              </a:rPr>
              <a:t>пояснити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ї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 u="sng">
                <a:solidFill>
                  <a:srgbClr val="04617b"/>
                </a:solidFill>
                <a:uFillTx/>
                <a:latin typeface="Calibri"/>
              </a:rPr>
              <a:t>Основні завдання</a:t>
            </a:r>
            <a:br>
              <a:rPr sz="4100"/>
            </a:br>
            <a:r>
              <a:rPr b="0" lang="uk-UA" sz="4100" spc="-1" strike="noStrike" u="sng">
                <a:solidFill>
                  <a:srgbClr val="04617b"/>
                </a:solidFill>
                <a:uFillTx/>
                <a:latin typeface="Calibri"/>
              </a:rPr>
              <a:t> медичної </a:t>
            </a:r>
            <a:r>
              <a:rPr b="0" lang="ru-RU" sz="4100" spc="-1" strike="noStrike" u="sng">
                <a:solidFill>
                  <a:srgbClr val="04617b"/>
                </a:solidFill>
                <a:uFillTx/>
                <a:latin typeface="Calibri"/>
              </a:rPr>
              <a:t>статистик</a:t>
            </a:r>
            <a:r>
              <a:rPr b="0" lang="uk-UA" sz="4100" spc="-1" strike="noStrike" u="sng">
                <a:solidFill>
                  <a:srgbClr val="04617b"/>
                </a:solidFill>
                <a:uFillTx/>
                <a:latin typeface="Calibri"/>
              </a:rPr>
              <a:t>и</a:t>
            </a:r>
            <a:r>
              <a:rPr b="0" lang="uk-UA" sz="4100" spc="-1" strike="noStrike">
                <a:solidFill>
                  <a:srgbClr val="04617b"/>
                </a:solidFill>
                <a:latin typeface="Calibri"/>
              </a:rPr>
              <a:t>:</a:t>
            </a:r>
            <a:br>
              <a:rPr sz="4100"/>
            </a:br>
            <a:endParaRPr b="0" lang="en-US" sz="4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9200"/>
            <a:ext cx="76867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бґрунтування нормативно-організаційних потреб у наданні окремих видів допомог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изначення закономірностей рівня здоров’я та якості медичної допомог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Узагальнення результатів діяльності установ, лікарів, оцінка їх ефективності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станнє сприяє плановості в управлінні та контролю за діяльністю медичних закладі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сі ці задачі вирішуються не тільки кількісними вимірюваннями, але і викриттям закономірностей, де спрацьовує один із основних законів статистики – закон великих чисел Чебишева. Цей закон діє лише при достатньо великій кількості спостережень, тобто при масових дослідженнях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14240" y="1142640"/>
            <a:ext cx="742968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4617b"/>
                </a:solidFill>
                <a:latin typeface="Calibri"/>
              </a:rPr>
              <a:t>Загальна організація медичної та державної статистики в Україні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2"/>
          <a:stretch/>
        </p:blipFill>
        <p:spPr>
          <a:xfrm>
            <a:off x="500040" y="1714680"/>
            <a:ext cx="807264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лан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785880"/>
            <a:ext cx="7758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изначення основних понять статистик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Історія становлення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медичної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статистик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инципи побудови і діяльності медико - статистичної служби Україн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Аналітична статистика: абсолютні, відносні, середні величини, їх визначення та застосування у діяльності лікар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инамічні ряди – визначення, показники динамічного ряду, мета і   способи вирівнювання динамічного ряд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Метод стандартизації, застосування в практиці охорони здоров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Кореляційно - регресивний аналіз, застосування у практичній діяльності лікар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400" y="853560"/>
            <a:ext cx="8258040" cy="502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Хто володіє інформацією, той володіє світом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Д. Ротшильд, У. Черчілль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14200" y="333360"/>
            <a:ext cx="83901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дним із головних у соціальній медицині є статистичний метод, який найчастіше і використовується у соціально – медичних та організаційних дослідження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атистичним цей метод називається тому, що користується основними положеннями статистики – теорією ймовірності та законом великих чисе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лово “статистика” латинського походження, походить від слова “status” – держава, “statista” – особа, що займається державною справо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79311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атистика відноситься до суспільних наук. Вона вивчає масові суспільні явища і складені із них кількісні закономірності. Це об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єднує статистику з іншими суспільними науками – історією, політологією, економікою та іншим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Явищам суспільного життя притаманна кількісна визначеність, яка виражається в тому, що у кожний певний момент часу має певні кількісні характеристики, які постійно змінюють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Ця кількісна сторона масових суспільних явищ і складає предмет пізнання статистичної науки. Це має величезне явище для вирішення багатьох соціально – економічних та медичних питань, тому що достовірні дані статистики володіють великою доказовою сило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атистика є наймогутнішим знаряддям соціального пізнання. Вона допомагає виявити важливі закономірності різноманітних явищ і процесів в економіці, соціальному житті суспільства в цілому та у медицині зокрем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о неї звертаються як для підтвердження певних положень, так і для спростування сумнівни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апам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ятайте, чим більш розвинуте і цивілізоване суспільство, тим ввічливіше воно відноситься до статистик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С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атистик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– це наука, яка вивчає кількісну сторону масових суспільних явищ в нерозривному зв’язку з їх якісною стороною в конкретних умовах місця і час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7238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Етапи становлення біостатистики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ший етап – початковий (стародавні часи - середина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VII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ст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ругий етап – описовий  (кінець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VII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ст. – початок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VIII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ст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Третій етап – математичний (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VIII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ст. –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X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т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ка</dc:creator>
  <dc:description/>
  <dc:language>en-US</dc:language>
  <cp:lastModifiedBy>Ljuba</cp:lastModifiedBy>
  <dcterms:modified xsi:type="dcterms:W3CDTF">2014-10-07T08:29:09Z</dcterms:modified>
  <cp:revision>47</cp:revision>
  <dc:subject/>
  <dc:title>Основи медичної статистики (БІОСТАТИСТИКИ)</dc:title>
</cp:coreProperties>
</file>