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6DFC-B76C-471C-912F-E091829F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44A1-6D59-4CC6-978C-19EEB54E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41E2-9DF9-4EBE-A1E9-227BA8DCA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D254-156B-41C8-AB5A-5A030895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6381-33E4-45EF-B17A-03383900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924A-5AAB-43AE-A4FC-F142DBCA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A18F-CF16-4E8B-8B59-8BDB0B84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FB0C-44CE-4314-A59E-AFBD3217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F8D6-55B3-4AA6-9F00-F4A9FDAC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129E-440A-4F50-9229-9F997C63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4EC4-AE15-46F8-B307-6EFBC847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B7C0-B458-47E3-89F0-A9B6D3DF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9148-1D96-4DA6-B8A3-AF82BC49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79BF-03CE-4023-8D68-EDAFDA3E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6240-9ED4-46FD-9C5B-280D774B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2909-EC48-4B76-BC65-C696D958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6633-DE48-488E-83A9-BE749B28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B8F338-D1E1-4AD8-A0C1-13FE613C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B1F679-AB94-4D90-BC9F-91CE4921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14C97E-E253-4B00-803B-85D1242D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4C50F4-3A8D-4134-A68A-ACE7A276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338B83-84F6-4D7D-A6D6-DA5AE30D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614B-A363-460E-ABF5-BE6D5028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3DA694-593F-4D1A-94B9-A9D805B4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F8E74F-A7AE-4053-AC5E-D518AD91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F95F72-7509-4C2D-BB0C-BCD62432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D6ED22-A5C0-4E1F-BD41-D8A6BBB9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EA55B3-6466-4C4F-8A4D-465ED628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05AE85-5749-484D-875F-B3F6994FD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E424F6-62B5-4784-AF4C-C69B90A8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09CCB-CA1F-4EC5-A0E4-5C549877C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7354B-8F04-4352-97FF-EB8CBDC9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565CF-2260-4775-A09E-D6C6288F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F63D-E56B-417A-A382-C8142AFD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22DB5-F926-458E-BCA4-7D58F592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66BD6-6776-4BD0-BBCD-1957017B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EF332-E8AB-4183-A2D0-0579AAF2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FC461-CDB2-4A6F-A7AC-CB76549F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CF58C-8D8A-4957-A57B-69D60944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15440-456F-433E-ADEC-E5BBAA71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112DE-A3CC-4822-8FB4-C2A8E788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2E74B-42ED-45D1-80A8-A73D0DF40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129CA-F02E-4BC8-92E9-4E1572FA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424CDF-7D9E-4DD3-8551-2FE72FB0D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EA8A-26B0-4415-B013-493B398E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A638F5-E2FC-4228-9465-6469D70C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EAD907-A5EB-4892-A13E-B824B89A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D978B8-A91D-497E-8338-BBD2C71B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2EBC02-8433-4D36-9283-05836E84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0D2776-C796-43FB-BFAB-F4A20A7B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58AFCE-555D-4B0D-81C5-26C14CC0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3A7537-5EB8-4E8B-AD04-F672ED4D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5AFB0C-6EF8-4DC1-991F-F1CD4B8F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0853D2-C13D-4EBD-8978-6076BD4A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E05368-168E-4236-A924-0C61CB87C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8EF7-B80C-4AF1-B447-BB221C5C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F0807C-40E8-45F9-BECF-48114593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24EA5D-E8AA-4B4C-891C-6AAB5A74A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765CCF-83E0-4927-BE8A-9EC8D2F5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1DB4AF-B385-45DA-99FE-486F62C2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DDC33F-276E-42D9-8AC7-1A103A4D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C9BC26-02EF-4AF3-8524-8AE54D49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5D2EAC-285B-41A9-A9EF-BC09D049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4BBEC7-3CA2-4F22-86F9-96BCD1F9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2135A5-966D-47A9-9855-6402B47A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E2D055-8008-465F-BBA3-CFEE2F36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8210-E7DA-44E2-A822-4E1D6450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C81736-D01E-4B89-ABA2-2C515582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8F17F5-9C16-495B-A991-1A70421E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124508-E707-4E66-B694-260C4DA24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E1BD90-14B3-4F99-983A-1793DC255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3D18C3-8D53-41BF-A5DF-DFE5FD8D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A1E261-1D2D-4A91-9D21-61833310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EF2151-36E2-41ED-9B0A-6FBF2C5F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482A5B-47CD-4889-9241-3D1A735C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90A0A0-2BA5-424B-90BD-841E7A43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561E75-7DE5-4727-8175-23DCDF35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538A-79A0-4F33-B084-90457435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71C4DC-EE2E-48DC-9ACE-3AD4EF04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81AB4F-D8D3-4AE7-9CF4-7A2EEE2F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6B0406-BADE-49E4-AB2D-E4566F66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B44948-CDE5-41F9-9803-2DEBF2848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10B93C-C923-4EDB-8EF6-4D2B7261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CAF9-70C6-4D37-BB04-96A0FE80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49AE-5385-49A2-86B4-1EB1F49E578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9C01-D904-436F-9363-C9105C139F1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CD20-5901-4A11-9B94-7153340B599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EA14-6285-498B-B6D5-C64099B7705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7911-C215-40D0-B2D8-CD4B8C8D0B2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220B-BF4A-4FE3-B7C0-AE6A983481B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671A-9D67-4883-A967-2DE1AEDE259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575f6d"/>
                </a:solidFill>
                <a:latin typeface="Century Schoolbook"/>
              </a:rPr>
              <a:t>УЖГОРОДСЬКИЙ НАЦІОНАЛЬНИЙ УНІВЕРСИТЕТ</a:t>
            </a:r>
            <a:br>
              <a:rPr sz="2000"/>
            </a:br>
            <a:r>
              <a:rPr b="1" lang="uk-UA" sz="2000" spc="-1" strike="noStrike">
                <a:solidFill>
                  <a:srgbClr val="575f6d"/>
                </a:solidFill>
                <a:latin typeface="Century Schoolbook"/>
              </a:rPr>
              <a:t>ФАКУЛЬТЕТ ПІСЛЯДИПЛОМНОЇ ОСВІТИ</a:t>
            </a:r>
            <a:br>
              <a:rPr sz="2000"/>
            </a:br>
            <a:r>
              <a:rPr b="1" lang="uk-UA" sz="2000" spc="-1" strike="noStrike">
                <a:solidFill>
                  <a:srgbClr val="575f6d"/>
                </a:solidFill>
                <a:latin typeface="Century Schoolbook"/>
              </a:rPr>
              <a:t>КАФЕДРА ГРОМАДСЬКОГО ЗДОРОВ</a:t>
            </a:r>
            <a:r>
              <a:rPr b="1" lang="en-US" sz="2000" spc="-1" strike="noStrike">
                <a:solidFill>
                  <a:srgbClr val="575f6d"/>
                </a:solidFill>
                <a:latin typeface="Century Schoolbook"/>
              </a:rPr>
              <a:t>’</a:t>
            </a:r>
            <a:r>
              <a:rPr b="1" lang="uk-UA" sz="2000" spc="-1" strike="noStrike">
                <a:solidFill>
                  <a:srgbClr val="575f6d"/>
                </a:solidFill>
                <a:latin typeface="Century Schoolbook"/>
              </a:rPr>
              <a:t>Я</a:t>
            </a:r>
            <a:br>
              <a:rPr sz="2000"/>
            </a:br>
            <a:br>
              <a:rPr sz="3300"/>
            </a:br>
            <a:r>
              <a:rPr b="1" lang="uk-UA" sz="2800" spc="-1" strike="noStrike">
                <a:solidFill>
                  <a:srgbClr val="575f6d"/>
                </a:solidFill>
                <a:latin typeface="Century Schoolbook"/>
              </a:rPr>
              <a:t>ЛЕКЦІЯ НА ТЕМУ:</a:t>
            </a:r>
            <a:br>
              <a:rPr sz="2800"/>
            </a:br>
            <a:br>
              <a:rPr sz="3200"/>
            </a:br>
            <a:r>
              <a:rPr b="1" lang="uk-UA" sz="3200" spc="-1" strike="noStrike">
                <a:solidFill>
                  <a:srgbClr val="575f6d"/>
                </a:solidFill>
                <a:latin typeface="Century Schoolbook"/>
              </a:rPr>
              <a:t> СПІЛКУВАННЯ</a:t>
            </a:r>
            <a:br>
              <a:rPr sz="3200"/>
            </a:br>
            <a:r>
              <a:rPr b="1" lang="uk-UA" sz="3200" spc="-1" strike="noStrike">
                <a:solidFill>
                  <a:srgbClr val="575f6d"/>
                </a:solidFill>
                <a:latin typeface="Century Schoolbook"/>
              </a:rPr>
              <a:t> ЯК ОДИН ІЗ АСПЕКТІВ</a:t>
            </a:r>
            <a:br>
              <a:rPr sz="3200"/>
            </a:br>
            <a:r>
              <a:rPr b="1" lang="uk-UA" sz="3200" spc="-1" strike="noStrike">
                <a:solidFill>
                  <a:srgbClr val="575f6d"/>
                </a:solidFill>
                <a:latin typeface="Century Schoolbook"/>
              </a:rPr>
              <a:t> ЕФЕКТИВНОЇ ДІЯЛЬНОСТІ ЛІКАРЯ</a:t>
            </a:r>
            <a:br>
              <a:rPr sz="33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928760" y="4941720"/>
            <a:ext cx="37148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Доц. Качала Л. О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575f6d"/>
                </a:solidFill>
                <a:latin typeface="Century Schoolbook"/>
              </a:rPr>
              <a:t>ФУНКЦІЇ СПІЛКУВАННЯ:</a:t>
            </a:r>
            <a:br>
              <a:rPr sz="4400"/>
            </a:b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інформаційно-комунікативна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(обмін інформацією)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регуляційно-комунікативна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(міжособистісна взаємодія)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афекційно-комунікативна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(розуміння людьми один одного)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психологічна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(функції емоційного задоволення від спілкування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575f6d"/>
                </a:solidFill>
                <a:latin typeface="Century Schoolbook"/>
              </a:rPr>
              <a:t>ЕФЕКТИ СПІЛКУВАННЯ:</a:t>
            </a:r>
            <a:br>
              <a:rPr sz="40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Century Schoolbook"/>
              </a:rPr>
              <a:t>Ефект «ореолу»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Century Schoolbook"/>
              </a:rPr>
              <a:t>Ефект «проектування»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-540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64296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Для того, щоб бути успішним, спілкування обов’язково передбачає зворотній зв'язок – отримання суб’єктом інформації  про результати взаємодії, виконує функцію контролю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uk-UA" sz="4000" spc="-1" strike="noStrike">
                <a:solidFill>
                  <a:srgbClr val="000000"/>
                </a:solidFill>
                <a:latin typeface="Century Schoolbook"/>
              </a:rPr>
              <a:t>і сприяє саморегуляції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20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uk-UA" sz="4800" spc="-1" strike="noStrike">
                <a:solidFill>
                  <a:srgbClr val="575f6d"/>
                </a:solidFill>
                <a:latin typeface="Century Schoolbook"/>
              </a:rPr>
              <a:t>СПОСОБИ ПЕРЕДАЧІ ІНФОРМАЦІЇ:</a:t>
            </a:r>
            <a:br>
              <a:rPr sz="4800"/>
            </a:b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безпосереднє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або вербальне (словесне)  спілкування;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посередковане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або невербальне (несловесне) спілкування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-18468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260280"/>
            <a:ext cx="822960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entury Schoolbook"/>
              </a:rPr>
              <a:t>Мовлення (вербальне спілкування) </a:t>
            </a:r>
            <a:r>
              <a:rPr b="0" lang="uk-UA" sz="3600" spc="-1" strike="noStrike">
                <a:solidFill>
                  <a:srgbClr val="000000"/>
                </a:solidFill>
                <a:latin typeface="Century Schoolbook"/>
              </a:rPr>
              <a:t>– особлива і найбільш досконала форма спілкування. Воно виконує основну функцію – комунікативну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Century Schoolbook"/>
              </a:rPr>
              <a:t>Комунікативна функція полягає в тому, що в процесі спілкування між людьми здійснюється двобічний обмін інформацією, емоціями, ідеями, можуть бути виражені симпатія і антипатія, які призводять до взаєморозуміння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Мовлення може бути діалогічне і монологічн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entury Schoolbook"/>
              </a:rPr>
              <a:t>Діалогічне мовлення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підтримується взаємними репліками співрозмовників (бесіда лікаря і хворого, бесіда завідувача відділення з ординатором, головного лікар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із замісниками тощо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entury Schoolbook"/>
              </a:rPr>
              <a:t>Монологічне мовлення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– заздалегідь підготовлений обсяг інформації (лекція, доповідь, виступ тощо). Воно потребує завершеної думки, суворої логіки та послідовності і тому є більш складним, ніж діалогічне, яке формується і корегується у процесі бесід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145440"/>
            <a:ext cx="7786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7643880" cy="59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Відкрите спілкування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– це бажання і вміння повно виразити свою точку зору і готовність врахувати позицію пацієнта, дає змогу отримати найповніший обсяг необхідної інформації, але потребує значної кількості час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-13680"/>
            <a:ext cx="746748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7467480" cy="53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Закрите спілкування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застосовується лікарями, коли значна різниця у ступені предметної компетентності пацієнта, вважаючи безглуздим витрачати час і зусилля на підняття компетентності пацієнта. Таку стратегію часто обирають лікарі, які не спроможні зрозуміло висловити свою точку зору та наявну інформацію. Зазвичай це по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язано з низьким рівнем професіоналізму або зі значним рівнем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синдрому вигорання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лікар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575f6d"/>
                </a:solidFill>
                <a:latin typeface="Century Schoolbook"/>
              </a:rPr>
              <a:t>ПЛА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Психологічні основи ділового спілкуванн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Основи службового етикет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Конфліктні ситуації в колективі та управління ни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74674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Лікар кожний день спілкується з пацієнтами, і від того, наскільки ефективним є це спілкування, часто залежить успіх його діяльності, позитивна психологічна налаштованість осіб, задіяних у спілкуванні. Це, в свою чергу, позначається на ефективності досягнення поставленої мети. Ще Стендаль у свій час казав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Уміння вести розмову – це талант.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У спілкуванні розкривається суб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єктивний світ однієї людини для іншої. Потреба у спілкуванні є однією з основних (базових) потреб людин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Згадаймо глибокий вислів французького письменника Антуана де Сент Екзюпері, що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людське спілкування є найвищим благом і радістю у житті.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У процесі спілкування людина набуває тих рис, які притаманні іншим. Не випадково кажуть: із ким поведешся, того і наберешс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-99720"/>
            <a:ext cx="74674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9640" y="907920"/>
            <a:ext cx="7467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На превеликий жаль, сьогодні ми спостерігаємо зниження рівня спілкування серед люде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Фактори, які сприяють цьому явищу такі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Фактор особистісної автономії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Фактор урбанізації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Фактор масової комунікації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Фактор наживи й удаванн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Фактор дегуманізації житт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Всі ці фактори призводять до розвитку своєрідного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синдрому дискомунікації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почуття самотності серед людей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комунікативна безпорадність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конфліктне спілкування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стомлення від спілкування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64296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Спілкування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– це складний процес 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взаємодії двох або більше людей, 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які перебувають у процесі 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інформаційного взаємообміну 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(інформаційного метаболізму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У спілкуванні здійснюється своєрідна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презентація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внутрішнього світу особистості. Саме тому спілкування виявляє певні людські властивості, розкриває, чого варта та чи інша людина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33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33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Саме тому є важливим розуміти, з яких компонентів складається спілкування, які є основні види спілкування і їх відмінності, а також, які засоби можна використати для досягнення максимальної комунікативної ефективності та збереження позитивного психологічного клімату в сфері спілкування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540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40464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Мета спілкування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– це те, заради чого людина проявляє цей вид активності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Зміст спілкування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– це інформація, яка в міжособистісних контактах передається від одного учасника спілкування до іншого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Засоби спілкування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це різні варіанти передачі, перероблення та розшифровування інформації, яка передається у процесі спілкування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7:20:00Z</dcterms:created>
  <dc:creator>Ната</dc:creator>
  <dc:description/>
  <dc:language>en-US</dc:language>
  <cp:lastModifiedBy>Ljuba</cp:lastModifiedBy>
  <dcterms:modified xsi:type="dcterms:W3CDTF">2014-10-07T08:28:54Z</dcterms:modified>
  <cp:revision>40</cp:revision>
  <dc:subject/>
  <dc:title>Ужгородський національний університет Факультет післядипломної освіти Кафедра громадського здоров’я  ЛЕКЦІЯ на тему: “Соціально-психологічні основи  культури управління”</dc:title>
</cp:coreProperties>
</file>