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075-6E90-43BC-925A-6E7456F4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155-5DD4-48B3-B1CD-AD06E909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3E7-98C8-41F9-95D4-E619FE85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B47-B823-49AE-B6B3-33725A32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96DE-5AC6-437C-BD7A-045917E1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3F0E-601D-4213-BCEA-635D0664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7D0D-AC7C-4390-90A0-6C477035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CC1C-F929-48FE-BED6-7A0863E0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ED48-93AA-457D-AF0B-AD9B4436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CB95-DFF8-4379-8E67-5C0D61B5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3420-FD6C-4BB4-9A2E-1B7176E1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B3F-240D-4857-AB4E-E65130FB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82AC-D0B8-41CC-88A5-45C656A5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7AD5-3CFC-42CA-B921-C585BEB5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CE7C-8E70-44EE-A869-D4277DDE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DAB8-BBA8-4BDC-85BA-A2AF6679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1E6A-FA28-4584-A809-E5ED4612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32E25-7F4C-4E4A-ACAD-CC719693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CAFD4-7825-42B7-B335-41A14BC7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A1E13-D3C5-4BA5-B5E2-5E428981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DE744-E876-492D-9173-17F4B860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A5D99-63F8-4421-ADA3-89DE2C24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807-8CFA-4E88-9F13-D0AD26ED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5F916-A7EA-4C56-8476-6F2C4F65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C2158-E8AE-42CA-8F17-68B5BBA1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1A26D-BE91-470B-B29A-3781885A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7D1FF-C7D8-4614-9090-80E0FCA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31DBF-59FE-4210-9CA4-706DE5DC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839E4-CC72-4994-83A3-32DB6035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1CA39-4E92-4194-A447-88204D95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47DF-50D6-4C01-9699-77188B08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9367-4C65-4417-BD06-769E378F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2408-2FC1-4203-A452-52B820E8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2D5-6616-4B89-9A6A-AAB80AAC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4B60-6007-449D-AEF7-47B994C0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9EA2-220E-4A03-BAB2-28DADECE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A7FB-97F6-4C9C-975A-0730A60C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644E-6ADF-4A67-9B23-6F16B5C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7996-B6D9-4F8A-9ACC-44C8582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3B531-B59E-4376-9A3E-8DF036DC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7DB5-B61E-436A-91F5-49DD15F7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2951F-9FDF-4D45-A4CF-7401B595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68530-16E7-460D-B7EF-751AA0E8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5FD8A-011D-4637-BF23-E65D2D81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2DD-EF16-4D89-9873-89D98D65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FB2FC-59C1-4479-9FF5-3679C487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CFB79-88BA-46A8-A43C-4AEF1F90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0F25F-7BBA-4B88-A675-66B0277B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29137-DBD6-46A7-A36E-C75C7A54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A996B-7674-4305-BED6-8011C87E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C4255-6D6A-4E66-A00B-9CAD0FBA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BA417-A510-43E0-B324-71524E8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ECD2D-8800-4712-B8F9-0036848B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481CA-CB3D-4319-856E-BBA08266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8925C-86F6-4F46-8317-2B36B16C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30B-1C20-488A-A7D6-CA9586B8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26AE8-CB3B-4434-8A2E-4EC2EDB3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C5B57-1B41-4C71-B6DF-C2FAB1BF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37182-413D-4C7A-BF2B-0CD6195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C80D5-311E-462D-9C25-B42AAD42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CEEA3-F8D8-4535-8997-9E60BD52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4B083-F007-46F6-BB62-81294E62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305C9-5B28-48F6-AA68-8B4947B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79814-67C6-44BC-877A-DA1848B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B349F-126C-4F57-B4E0-120E424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67FDA-31E6-46D9-9902-ABF3A26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348-2802-4737-9F7A-FD473F3D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4C37E-0043-4CAA-BBA9-9AB0D627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DE3F4-5378-4A95-921D-BDD830AB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07838-0754-4E96-B6C4-BE013F88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81B92-1BA0-443F-9647-EF40F094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AF4D2-C545-40F6-B574-F7D51A18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3E184-B4B5-4ADF-8219-30C55753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9581B-C338-49F1-90D8-D246B97E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466B0-505C-415A-9FAE-BF96638B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AF4E3-A849-40A0-9F89-F6B420D0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0B7F8-97F1-4E65-BF1A-52C09F6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101-0915-4490-A7F6-10E3BAB0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34FB0-DDF9-4351-9EB4-656E7F4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7A856-BFB5-4FDA-85E6-7C40D3FF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0838A-CD02-4C71-8F56-541E765B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27C9D-DEF4-473B-9F60-325D4356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03459-B43F-4526-AB70-BCE4E086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59B-0517-48A8-9035-FDA5D672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E9A4-FD82-425C-8985-BACD94BF59E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F122-F889-4A79-A39E-08FF637760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9885-2DB8-4331-B930-5A2F65ED05A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56C0-10AA-4D9A-BB66-D3482BA9B5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88F1-6A8D-46AB-AA1F-EA183A66C6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EC65-9D91-4E93-A3CA-C0470444C1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E14F-9194-4CDE-AEC2-F5389A2FDA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УЖГОРОДСЬКИЙ НАЦІОНАЛЬ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ФАКУЛЬТЕТ ПІСЛЯДИПЛОМНОЇ ОСВІТИ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ФЕДРА ГРОМАДСЬКОГО ЗДОРОВ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Я</a:t>
            </a:r>
            <a:br>
              <a:rPr sz="2000"/>
            </a:br>
            <a:br>
              <a:rPr sz="3300"/>
            </a:br>
            <a:r>
              <a:rPr b="1" lang="uk-UA" sz="2800" spc="-1" strike="noStrike">
                <a:solidFill>
                  <a:srgbClr val="575f6d"/>
                </a:solidFill>
                <a:latin typeface="Century Schoolbook"/>
              </a:rPr>
              <a:t>ЛЕКЦІЯ НА ТЕМУ:</a:t>
            </a:r>
            <a:br>
              <a:rPr sz="2800"/>
            </a:b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СПІЛКУВАННЯ</a:t>
            </a: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ЯК ОДИН ІЗ АСПЕКТІВ</a:t>
            </a: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ЕФЕКТИВНОЇ ДІЯЛЬНОСТІ ЛІКАРЯ</a:t>
            </a:r>
            <a:br>
              <a:rPr sz="33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28760" y="4941720"/>
            <a:ext cx="371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ц. Качала Л. 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5f6d"/>
                </a:solidFill>
                <a:latin typeface="Century Schoolbook"/>
              </a:rPr>
              <a:t>ФУНКЦІЇ СПІЛКУВАННЯ: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інформа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обмін інформацією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регуля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міжособистісна взаємодія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афек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розуміння людьми один одного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сихологіч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функції емоційного задоволення від спілкування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Century Schoolbook"/>
              </a:rPr>
              <a:t>ЕФЕКТИ СПІЛКУВАННЯ: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Ефект «ореолу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Ефект «проектування»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Для того, щоб бути успішним, спілкування обов’язково передбачає зворотній зв'язок – отримання суб’єктом інформації  про результати взаємодії, виконує функцію контролю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і сприяє саморегуляції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4800" spc="-1" strike="noStrike">
                <a:solidFill>
                  <a:srgbClr val="575f6d"/>
                </a:solidFill>
                <a:latin typeface="Century Schoolbook"/>
              </a:rPr>
              <a:t>СПОСОБИ ПЕРЕДАЧІ ІНФОРМАЦІЇ: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езпосереднє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бо вербальне (словесне)  спілкування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посередкован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бо невербальне (несловесне) спілкування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184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60280"/>
            <a:ext cx="8229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Мовлення (вербальне спілкування) 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– особлива і найбільш досконала форма спілкування. Воно виконує основну функцію – комунікативну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Комунікативна функція полягає в тому, що в процесі спілкування між людьми здійснюється двобічний обмін інформацією, емоціями, ідеями, можуть бути виражені симпатія і антипатія, які призводять до взаєморозуміння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овлення може бути діалогічне і монологіч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entury Schoolbook"/>
              </a:rPr>
              <a:t>Діалогічне мовл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підтримується взаємними репліками співрозмовників (бесіда лікаря і хворого, бесіда завідувача відділення з ординатором, головного лікар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із замісниками тощ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entury Schoolbook"/>
              </a:rPr>
              <a:t>Монологічне мовл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заздалегідь підготовлений обсяг інформації (лекція, доповідь, виступ тощо). Воно потребує завершеної думки, суворої логіки та послідовності і тому є більш складним, ніж діалогічне, яке формується і корегується у процесі бесід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145440"/>
            <a:ext cx="7786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7643880" cy="59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Відкрите спілкува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бажання і вміння повно виразити свою точку зору і готовність врахувати позицію пацієнта, дає змогу отримати найповніший обсяг необхідної інформації, але потребує значної кількості час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-13680"/>
            <a:ext cx="746748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746748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Закрите спілкува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застосовується лікарями, коли значна різниця у ступені предметної компетентності пацієнта, вважаючи безглуздим витрачати час і зусилля на підняття компетентності пацієнта. Таку стратегію часто обирають лікарі, які не спроможні зрозуміло висловити свою точку зору та наявну інформацію. Зазвичай це по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зано з низьким рівнем професіоналізму або зі значним рівнем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индрому вигоранн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лікар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сихологічні основи ділового спілкув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нови службового етике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нфліктні ситуації в колективі та управління н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4674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Лікар кожний день спілкується з пацієнтами, і від того, наскільки ефективним є це спілкування, часто залежить успіх його діяльності, позитивна психологічна налаштованість осіб, задіяних у спілкуванні. Це, в свою чергу, позначається на ефективності досягнення поставленої мети. Ще Стендаль у свій час казав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Уміння вести розмову – це талант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У спілкуванні розкривається суб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єктивний світ однієї людини для іншої. Потреба у спілкуванні є однією з основних (базових) потреб люди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Згадаймо глибокий вислів французького письменника Антуана де Сент Екзюпері, що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людське спілкування є найвищим благом і радістю у житті.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У процесі спілкування людина набуває тих рис, які притаманні іншим. Не випадково кажуть: із ким поведешся, того і наберешс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-9972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На превеликий жаль, сьогодні ми спостерігаємо зниження рівня спілкування серед люд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и, які сприяють цьому явищу такі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особистісної автоном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урбаніз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масової комунік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наживи й удаванн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дегуманізації житт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сі ці фактори призводять до розвитку своєрідног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индрому дискомунікації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очуття самотності серед людей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мунікативна безпорадність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нфліктне спілкуванн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томлення від спілк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пілкуванн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– це складний процес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заємодії двох або більше людей,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які перебувають у процесі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інформаційного взаємообміну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(інформаційного метаболізму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У спілкуванні здійснюється своєрідна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резентація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внутрішнього світу особистості. Саме тому спілкування виявляє певні людські властивості, розкриває, чого варта та чи інша людин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аме тому є важливим розуміти, з яких компонентів складається спілкування, які є основні види спілкування і їх відмінності, а також, які засоби можна використати для досягнення максимальної комунікативної ефективності та збереження позитивного психологічного клімату в сфері спілк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Мета спілкування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– це те, заради чого людина проявляє цей вид активності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Зміст спілкування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– це інформація, яка в міжособистісних контактах передається від одного учасника спілкування до іншого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Засоби спілкування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це різні варіанти передачі, перероблення та розшифровування інформації, яка передається у процесі спілкування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20:00Z</dcterms:created>
  <dc:creator>Ната</dc:creator>
  <dc:description/>
  <dc:language>en-US</dc:language>
  <cp:lastModifiedBy>Ljuba</cp:lastModifiedBy>
  <dcterms:modified xsi:type="dcterms:W3CDTF">2014-10-07T08:28:54Z</dcterms:modified>
  <cp:revision>40</cp:revision>
  <dc:subject/>
  <dc:title>Ужгородський національний університет Факультет післядипломної освіти Кафедра громадського здоров’я  ЛЕКЦІЯ на тему: “Соціально-психологічні основи  культури управління”</dc:title>
</cp:coreProperties>
</file>