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9E6-76BE-4189-B00F-1E4954D8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388-F028-45B7-B87B-0D8495BB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C3D-5A23-49BB-8D31-D71679C3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871-2B5A-4F74-A5A9-295BBF6B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1431-EB4C-4128-94D2-90531C10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A532-3EA7-4ED2-AB4C-D6FBC8AB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E4EA-CB6D-4612-9C10-AD63C38B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B3C6-025D-4C10-8009-D0E89AA8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EE7C-D9BB-4700-ABA2-3FAA0F78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D3A5-08B9-47E4-AB92-BD6C2D3C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02B5-1FF7-4734-92A7-CA9B1BC4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441-F72C-49B8-967B-260137C6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4C51-6EE1-4C8C-B11F-3D205CF5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5FDA-87A4-4E27-B174-36C4034F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1E31-D3BE-43EA-9547-6BB9BBCF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9EAF-364F-42DB-9686-8E36BCEB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02A3-6FC3-48BB-A493-4E0F6CCC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88B2-CA4B-4069-9257-48E58E8C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57D5D-D116-4D79-924D-F66DC85C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D1784-7537-41F3-97DD-6E03E611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26300-6E91-4908-89E9-F7778AB0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FFA25-ED3D-4711-B549-C43F80F4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5AB-F543-408D-A012-8E382D78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22B21-0829-41AB-9711-2F026988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30A2A-0EE1-4A87-AC65-4246AF76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66FC-1998-4ACD-AC97-00CD3335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E5EF2-AC54-4CD2-BA67-84B1D4C1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5F151-D603-41F5-9978-77B265A6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37375-8B10-488A-826E-F9852196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2BE6-FC70-428B-9B4F-382C82C3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EDAF4-330B-443B-811B-9747D46A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E8DF6-3A76-4F77-BA8D-C03DA9A9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39C99-0ED0-44BD-A367-B583E499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30B4-3F4C-4510-808B-73AF9959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FC024-30B0-4A3E-B0D9-42D56AF2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DE99C-C916-4184-8EE4-8DB737EA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4EABB-24AC-440B-8965-D81D9014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F03C7-F859-4825-B73E-CEBB69E4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CFB40-1D91-4A89-8759-3E6021C3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1A963-FB4F-4ABB-A059-DDAF7827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BDAB-6BD0-4C5C-AD64-105A6518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E6EED-3F88-45B2-B38C-8F211A5E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5D17F-0B04-4850-9E5E-DB80A98E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30551-5C55-4E5E-95D1-B2C7CD4A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0D2-7E40-48A9-A81D-8A3E3BEC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5C43B-BB97-4442-B8D9-997A192D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179C2-BA09-4736-8F84-6AE94724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B5365-04C8-4B05-8E04-34696342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BB286-C075-4E66-B757-2A2255E6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01AF0-7077-450F-B7A7-EEF29E41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EB3D0-FC3A-4F17-8E8C-D8FBC093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9AB1F-645B-4790-9C50-2A8ED467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F9669-4AA8-4710-970E-077CB673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B4544-68A5-4480-86A5-D4704A97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F9816-46ED-4C67-836B-433562D8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3E3-3C7C-4A29-BD2B-BAD0CD23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662D0-7115-4FAF-A2B8-C175DB91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B81FB-CB53-4EF5-939C-8A4FF2FC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1DD38-2C88-4EC6-89E3-CA6F4A45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D29CE-D064-4619-BF8A-D1F9354C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BE75A-AAD7-4FEA-88EF-D8F267DC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EAB08-3A4F-4CE9-A234-8FF03CC5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D1C46-461B-4252-8950-465DCF2F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DB0E3-EFB9-4432-A496-090424F6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5412C-D5F6-45B6-9E93-B3BC6257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9D156-1987-4B3B-8FCF-E0EE9CB8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F2F-1898-4074-BC1F-9140493E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53E95-68FB-446E-BA0D-407A591A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AF8EA-706E-483D-A5D7-9FB121BA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D58E1-B289-40F5-8863-1A6CB79F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14F95-EB4F-4DAB-87AD-5EAB2D1D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FF2BE-0CA1-41C1-A2A1-F2DC26F8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FBC14-EF3A-4A3D-AC3E-94550A29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4E675-47B1-4C1B-9395-32C8760A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917FA-9C85-46AF-90FB-DA4999A9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E2CB5-9F76-4391-A727-7981235B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25FD1-E069-4C12-B46A-D4FE75E1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A36-8D28-4AA0-BD4B-C75FE94B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8EC03-7929-4DC7-823C-95AA9854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867BE-60E9-4BE2-AA8C-562A0B84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CA663-D66E-457F-BDA1-10450E7F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9515E-5711-4D66-BB9D-EAC343ED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04EE6-8EC0-4F57-B8D2-8B6535EA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EA6-C895-4919-939A-966B2BE7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06E5-B7F2-47C7-9112-68571236FB8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2C79-A313-4908-94BB-FB11CB39C5E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428E-B322-4A82-901F-CA03CCEA3BB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EAD7-4BB4-4F5B-99C0-57F7602B110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67DE-46C8-4192-8C4A-266BFAACF9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6709-286A-40AC-8C66-B8D01F1C2D3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19B3-A605-4310-AB9E-6C3BF825F0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243000"/>
            <a:ext cx="77724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72314"/>
                </a:solidFill>
                <a:latin typeface="Corbel"/>
              </a:rPr>
              <a:t>УЖГОРОДСЬКИЙ НАЦІОНАЛЬНИЙ УНІВЕРСИТЕТ</a:t>
            </a:r>
            <a:br>
              <a:rPr sz="2400"/>
            </a:br>
            <a:r>
              <a:rPr b="0" lang="uk-UA" sz="2400" spc="-1" strike="noStrike">
                <a:solidFill>
                  <a:srgbClr val="572314"/>
                </a:solidFill>
                <a:latin typeface="Corbel"/>
              </a:rPr>
              <a:t>ФАКУЛЬТЕТ ПІСЛЯДИПЛОМНОЇ ОСВІТИ</a:t>
            </a:r>
            <a:br>
              <a:rPr sz="2400"/>
            </a:br>
            <a:r>
              <a:rPr b="0" lang="uk-UA" sz="2400" spc="-1" strike="noStrike">
                <a:solidFill>
                  <a:srgbClr val="572314"/>
                </a:solidFill>
                <a:latin typeface="Corbel"/>
              </a:rPr>
              <a:t>КАФЕДРА ГРОМАДСЬКОГО ЗДОРОВ’</a:t>
            </a: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Я</a:t>
            </a:r>
            <a:br>
              <a:rPr sz="2400"/>
            </a:br>
            <a:br>
              <a:rPr sz="2400"/>
            </a:br>
            <a:r>
              <a:rPr b="0" lang="uk-UA" sz="3200" spc="-1" strike="noStrike">
                <a:solidFill>
                  <a:srgbClr val="572314"/>
                </a:solidFill>
                <a:latin typeface="Corbel"/>
              </a:rPr>
              <a:t>Лекція на тему:</a:t>
            </a:r>
            <a:br>
              <a:rPr sz="3200"/>
            </a:b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1" lang="uk-UA" sz="4300" spc="-1" strike="noStrike">
                <a:solidFill>
                  <a:srgbClr val="572314"/>
                </a:solidFill>
                <a:latin typeface="Corbel"/>
              </a:rPr>
              <a:t>ПЛАНУВАННЯ В СИСТЕМІ ОХОРОНИ ЗДОРОВ’</a:t>
            </a: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Я”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14880" y="4928760"/>
            <a:ext cx="4286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роф. РОГАЧ І.М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4644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15560"/>
            <a:ext cx="822960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rbel"/>
              </a:rPr>
              <a:t>Планування в системі охорони здоров'я -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одна із загальних функцій управління, вид управлінської діяльності, направленої на визначення цілей, ефективних методів, шляхів, засобів і етапів їх досягнення, необхідних ресурсів, витрат і результатів медичних закладі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Актуальність планування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лягає в тому, що воно дає повніше уявлення про обсяг медичних послуг та наявність медичної продукції на ринку і попит на неї, знання про дію економічних тенденцій та законів у реальній медичній практиц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Прогнозування </a:t>
            </a: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- процес передбачення, побудований на ймовірності, науково обґрунтованому судженні про перспективи розвитку медичного закладу в цілом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4644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ланування як складова економічної науки ґрунтується на загальних взаємопов'язаних методах наукових досліджень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екстраполяції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порівняльном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балансовом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нормативном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економіко - математичном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ЛА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Загальноекономічний та управлінський аспекти планування в системі охорони здоров'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Основні види планування в системі охорони здоров'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Gill Sans MT"/>
              </a:rPr>
              <a:t>3.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Планування потреби в персоналі та його структур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64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72314"/>
                </a:solidFill>
                <a:latin typeface="Corbel"/>
              </a:rPr>
              <a:t>Загальноекономічний та управлінський аспекти планування</a:t>
            </a:r>
            <a:br>
              <a:rPr sz="3600"/>
            </a:br>
            <a:r>
              <a:rPr b="1" lang="uk-UA" sz="3600" spc="-1" strike="noStrike">
                <a:solidFill>
                  <a:srgbClr val="572314"/>
                </a:solidFill>
                <a:latin typeface="Corbel"/>
              </a:rPr>
              <a:t> в системі охорони здоров'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557000"/>
            <a:ext cx="82296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ерехід України від централізованого управління економікою до ринкових відносин сприяв удосконаленню системи управління в лікувально - профілактичних закладах, у т.ч. перебудові планування. З'ясовано, що в умовах ринкової економіки ті медичні заклади та установи, які належним чином здійснюють самостійно комплекс планової роботи, більше захищені економічно та соціально і досягають успіхів у своїй робот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9972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orbel"/>
              </a:rPr>
              <a:t>План 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- оформлене управлінське рішення, яке включає кількісне відображення цілей та розробки шляхів їх досягнення. Іншими словами, це результат планування, мотивована модель дій, створена на основі кон'юнктурного прогнозу економічного середовищ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000" spc="-1" strike="noStrike">
                <a:solidFill>
                  <a:srgbClr val="000000"/>
                </a:solidFill>
                <a:latin typeface="Corbel"/>
              </a:rPr>
              <a:t>Основні розділи плану сфери охорони здоров'я такі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а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мережа медичних закладів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б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потреба підготовки кадрів для закладів системи охорони здоров'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в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капітальне будівництво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г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матеріально - технічне забезпечення закладів охорони здоров'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д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бюджет охорони здоров'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rbel"/>
              </a:rPr>
              <a:t>План медичного закладу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- це завчасно розроблена система заходів, що передбачає цілі, зміст, збалансовану взаємодію ресурсів, обсяг, методи, послідовність і строки надання медичних послуг та реалізації продукції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Значення планування та його суть обґрунтував у 30 - х роках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X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ст.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А. Файоль: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Управляти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- це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передбачати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, а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передбачати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- це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вже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майже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діяти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На початку 60 - х років у корпораціях набуло розповсюдження довгострокове, а на початку 70 - х р.р. - і стратегічне плануванн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Недооцінка планування як основного виду управлінської діяльності та зведення його до мінімуму в системі охорони здоров'я призводить до зниження якісних показників і нормативів, а тому синтезувати позитивні елементи і планового, і ринкового регулювання необхідно в єдиному організаційно - правовому і медично - економічному механізмі системи охорони здоров'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У зарубіжній літературі визначення планування трактуються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по - різному, але по суті вони схож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Наприклад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"планування - це системно - методичний процес пізнання і вирішення проблем майбутнього"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"під плануванням розуміють таке рішення, яке виробляється за часом раніше від    настання даних кон'юнктурних подій"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644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5000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няття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планування діяльності підприємства"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поєднує два аспекти.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Перший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- загальноекономічний, з точки зору загальної теорії підприємст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Другий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– конкретно - управлінський, з погляду функцій менеджмент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5:15:35Z</dcterms:created>
  <dc:creator>Наталка</dc:creator>
  <dc:description/>
  <dc:language>en-US</dc:language>
  <cp:lastModifiedBy>Ljuba</cp:lastModifiedBy>
  <dcterms:modified xsi:type="dcterms:W3CDTF">2014-10-07T08:28:35Z</dcterms:modified>
  <cp:revision>17</cp:revision>
  <dc:subject/>
  <dc:title>УЖГОРОДСЬКИЙ НАЦІОНАЛЬНИЙ УНІВЕРСИТЕТ ФАКУЛЬТЕТ ПІСЛЯДИПЛОМНОЇ ОСВІТИ КАФЕДРА ГРОМАДСЬКОГО ЗДОРОВ’Я  Лекція на тему: “ПЛАНУВАННЯ В СИСТЕМІ ОХОРОНИ ЗДОРОВ’Я”</dc:title>
</cp:coreProperties>
</file>