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BB3-31BA-4562-9D4C-E3CA62EC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C69-DE4F-4624-B20A-9A9007B1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996-B672-4AA2-83B2-52C717A4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40E-39B8-4524-9A90-8EAC958F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FA1F-BDE5-4856-BA01-ACAF3BFD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AE65-FF81-49B0-8F4C-8CF02D1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160-2DCF-41D4-9311-22401A0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4519-8A37-45FD-9F19-04569BF4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183-9897-4FC7-984C-A8860C6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A342-AEB6-46AD-80C6-78071609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ABD2-19D4-4DA1-8D86-EE70E2D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5FE-EF1B-46C4-806D-92D141C4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3A1B-82E0-4A06-A47B-66865E8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E19F-998E-45BF-96B3-8086550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370-BCA0-4451-BD68-513B3B6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245A-9780-4000-90D6-DA5088B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B4F8-299E-4606-A05E-35550ABA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6565-F328-4943-A5DD-8A87882F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C25E-8433-48E8-A919-C7C84C6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118A-B50A-48B1-867F-2098E958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9B1D-AC6A-4F88-A644-A58EF1C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41CE-AD7F-482A-A26A-CA1594F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528-64CA-4823-94F8-A118C383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459F-B050-4C56-A934-B1BC96B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89A5-14D6-4FE5-9988-07DD666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BD2A-088E-40E2-9A00-942BE03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381B-0B87-474F-8A86-1D255E5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3B8A-6C33-49E6-B340-3A8F2CB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49D3-FD5E-476A-A026-C484F28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EF18-6E02-48F2-9E71-E5CC9B90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8123-3CB7-4DD7-8213-58978551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8270-8097-4D0B-84AD-75BF8E90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26D6-9B0D-47BE-A4F3-0B2A0CC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61E-9CE1-4B74-995B-8ADD746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328B-466A-4C35-8524-09330FFF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766E-1AE6-4CD8-8D51-4C516DA1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72D3-FF16-4E48-9C63-8C788E0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3DD6-9D65-4D57-8149-984AF1D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B836-96EB-4110-B59A-0D2E71E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C230-07B7-4BD8-A879-A5E20C8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EDB0-67DA-4532-8036-8FE9B271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1635-C5AD-4627-81B9-66392E27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F2EF-A8E3-490B-83B7-51E2EC02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A2E5-5DEB-474E-AB39-6C8E317F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C04-D0F4-4072-A490-D680F0AA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F877-4120-4382-B4E5-DBD30583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BB96-A7FD-4A98-A518-F097E3C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3E97-0808-4CAC-A20B-4DF27C9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97AD-B375-4989-B8D6-356C3C99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FFD1E-9B11-4165-A7E8-B5413DF9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7CD1-27B9-424C-850F-BB6FDD3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46E2-30FC-49C6-B44E-979CB07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3D83-9783-4369-89AE-6F84D94D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98232-C442-4E15-ACFC-E0FBBB4D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F450-20F3-4FA7-B22A-950A60FC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16A-F543-4086-BA40-E6DA392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252A-ABA8-47AC-A5CD-D8623046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96103-D678-47AB-ADD5-01004CF9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8E7E-39DA-484F-BB53-BDD04E6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3A2E-197F-4B54-B46E-604DE100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FDDE-0CBA-483D-BE80-E2722EB8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55D6-A6B0-4B4F-AE3A-01BC48FC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BBAC8-8FAC-465E-9B79-52F2567C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A7DF2-9AF6-446E-82C0-6E45ECD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0A58-454E-4B3A-B873-75BF74D5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2A74-0124-4470-9BAD-24FFD88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0F9-2A46-4CFE-830B-120DCF8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B9E6-24A6-4CAF-883E-5454616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E08A9-3CC9-4D2E-AFA3-CCA532C2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4F93-D29C-4C1E-8501-A7A13C33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2D3FD-913A-4F1A-8AB4-E2CA9AC4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59447-0610-4A0A-9C29-D34A771E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F67D-5CDC-4BAD-AC3D-393BB43E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A388-65B3-4F60-8539-7073511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4FCBB-DB8A-40F6-968A-EFF4EA3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1A1A-9900-4E22-B99A-42004B5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A118-CF65-4936-B73B-EB93DF12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EB7-23CF-40E8-8579-B0075AAF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3D80-A7D7-4B67-A72E-A8CB543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632C-7C96-4326-8191-5E7CC76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111C-50C5-405E-96C9-2B08FB6D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E0C92-AD0E-4A7A-93D0-2F5700DA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94D82-03B0-4DC9-B3BB-B66E13C0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3B0-D122-424A-AA80-65AD955D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D16-9426-4BC8-9A0F-E37F784629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686-FCDE-442B-94C0-6030A1A0B6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E9DA-6BB2-4A0C-A02A-71CC90CAD3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E41-DFFA-4D59-8519-8E14D95B9A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0A6-B373-4B5B-A1AF-D7A34E6E9B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60C-211C-40FD-B0ED-8BBDC4B267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54D-9FAC-401D-860D-45529D039D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24300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УЖГОРОДСЬКИЙ НАЦІОНАЛЬНИЙ УНІВЕРСИТЕТ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ФАКУЛЬТЕТ ПІСЛЯДИПЛОМНОЇ ОСВІТИ</a:t>
            </a:r>
            <a:br>
              <a:rPr sz="2400"/>
            </a:br>
            <a:r>
              <a:rPr b="0" lang="uk-UA" sz="2400" spc="-1" strike="noStrike">
                <a:solidFill>
                  <a:srgbClr val="572314"/>
                </a:solidFill>
                <a:latin typeface="Corbel"/>
              </a:rPr>
              <a:t>КАФЕДРА ГРОМАДСЬКОГО ЗДОРОВ’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Я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572314"/>
                </a:solidFill>
                <a:latin typeface="Corbel"/>
              </a:rPr>
              <a:t>Лекція на тему:</a:t>
            </a:r>
            <a:br>
              <a:rPr sz="3200"/>
            </a:b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1" lang="uk-UA" sz="4300" spc="-1" strike="noStrike">
                <a:solidFill>
                  <a:srgbClr val="572314"/>
                </a:solidFill>
                <a:latin typeface="Corbel"/>
              </a:rPr>
              <a:t>ПЛАНУВАННЯ В СИСТЕМІ ОХОРОНИ ЗДОРОВ’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Я”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880" y="4928760"/>
            <a:ext cx="4286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ф. РОГАЧ І.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15560"/>
            <a:ext cx="82296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ування в системі охорони здоров'я -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дна із загальних функцій управління, вид управлінської діяльності, направленої на визначення цілей, ефективних методів, шляхів, засобів і етапів їх досягнення, необхідних ресурсів, витрат і результатів медичних закладі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ктуальність планування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лягає в тому, що воно дає повніше уявлення про обсяг медичних послуг та наявність медичної продукції на ринку і попит на неї, знання про дію економічних тенденцій та законів у реальній медичній практиц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Прогнозування </a:t>
            </a: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- процес передбачення, побудований на ймовірності, науково обґрунтованому судженні про перспективи розвитку медичного закладу в цілом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ланування як складова економічної науки ґрунтується на загальних взаємопов'язаних методах наукових досліджен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страполяції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орівняль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балансов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нормативном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економіко - математичн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агальноекономічний та управлінський аспект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сновні види планування в системі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ill Sans MT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Планування потреби в персоналі та його структу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Загальноекономічний та управлінський аспекти планування</a:t>
            </a:r>
            <a:br>
              <a:rPr sz="3600"/>
            </a:br>
            <a:r>
              <a:rPr b="1" lang="uk-UA" sz="3600" spc="-1" strike="noStrike">
                <a:solidFill>
                  <a:srgbClr val="572314"/>
                </a:solidFill>
                <a:latin typeface="Corbel"/>
              </a:rPr>
              <a:t> в системі охорони здоров'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ерехід України від централізованого управління економікою до ринкових відносин сприяв удосконаленню системи управління в лікувально - профілактичних закладах, у т.ч. перебудові планування. З'ясовано, що в умовах ринкової економіки ті медичні заклади та установи, які належним чином здійснюють самостійно комплекс планової роботи, більше захищені економічно та соціально і досягають успіхів у своїй робот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9972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План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- оформлене управлінське рішення, яке включає кількісне відображення цілей та розробки шляхів їх досягнення. Іншими словами, це результат планування, мотивована модель дій, створена на основі кон'юнктурного прогнозу економічного середовищ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Corbel"/>
              </a:rPr>
              <a:t>Основні розділи плану сфери охорони здоров'я такі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ережа медичних закладі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треба підготовки кадрів для закладів системи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капітальне будівництв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матеріально - технічне забезпечення закладів охорони здоров'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д)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бюджет охорони здоров'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План медичного закладу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- це завчасно розроблена система заходів, що передбачає цілі, зміст, збалансовану взаємодію ресурсів, обсяг, методи, послідовність і строки надання медичних послуг та реалізації продукції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начення планування та його суть обґрунтував у 30 - х роках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ст.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А. Файоль: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Управл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едбача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- це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в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майже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іяти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а початку 60 - х років у корпораціях набуло розповсюдження довгострокове, а на початку 70 - х р.р. - і стратегічне плануван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Недооцінка планування як основного виду управлінської діяльності та зведення його до мінімуму в системі охорони здоров'я призводить до зниження якісних показників і нормативів, а тому синтезувати позитивні елементи і планового, і ринкового регулювання необхідно в єдиному організаційно - правовому і медично - економічному механізмі системи охорони здоров'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У зарубіжній літературі визначення планування трактуються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по - різному, але по суті вони схож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Наприклад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ланування - це системно - методичний процес пізнання і вирішення проблем майбутнього"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"під плануванням розуміють таке рішення, яке виробляється за часом раніше від    настання даних кон'юнктурних подій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няття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"планування діяльності підприємства"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поєднує два аспекти.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Перш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- загальноекономічний, з точки зору загальної теорії підприєм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orbel"/>
              </a:rPr>
              <a:t>Другий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– конкретно - управлінський, з погляду функцій менеджмен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15:35Z</dcterms:created>
  <dc:creator>Наталка</dc:creator>
  <dc:description/>
  <dc:language>en-US</dc:language>
  <cp:lastModifiedBy>Ljuba</cp:lastModifiedBy>
  <dcterms:modified xsi:type="dcterms:W3CDTF">2014-10-07T08:28:35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на тему: “ПЛАНУВАННЯ В СИСТЕМІ ОХОРОНИ ЗДОРОВ’Я”</dc:title>
</cp:coreProperties>
</file>