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100-C1B2-4D73-BE58-21858634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B19-4C16-4E2A-9262-316E86C0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3A2-0274-4B1E-B1AC-5CE5EB52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2E9-B78B-46A3-98CD-2FE6BFF7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7435-C96B-4C53-80A4-D98F36B7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6477-03E5-4823-93F4-FB7632C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484-3AC6-46A5-A37A-44DADF7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F8D-3714-4054-A8B8-F332A59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0CA-E0D9-4E3F-B2C5-D83F037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6EF-EC19-4091-9875-B3163135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1C9-0711-450C-9B58-2E0E0B3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041-9431-4693-8CBA-74866ADC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751-8878-4A20-9F6E-B09BD81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428D-59BC-40C3-95C7-3B44989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8348-19DB-47BA-98F6-05790F1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46A7-C662-4676-9D82-BF2CB363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364B-3534-4FDF-8E81-3F4A4DAC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31886-8950-4F51-8B24-6C26E391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2DC32-08C0-4567-99EA-38A71F7F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FEB4F-0516-437F-9572-34C4EA6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2C841-ADF6-4645-AA77-787A248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DD26C-F585-42CA-8FD9-305706A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F9F-0C62-40CC-A58E-6CF22FF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1D857-06D8-4003-ACA7-0F5CE7C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12F50-CEE1-4CB1-88D0-C26E2D8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4F2FE-329A-4DA6-8821-5D8364A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802F5-921C-4C54-8496-D915454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474A2-9D7E-4E1B-9F1C-DD8C046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F598B-76EB-4A25-9211-4582E1DB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FFA49-0438-4AFA-9462-F611C4C7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1132-4C1A-4A03-BF2D-B6AC57E2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CBB1-C280-4658-A5F7-2711BE8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33D8-D542-4EED-8808-104EE48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54F-37B2-48EC-A3A0-254DAEF9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E8F2-ED6E-4AF3-8B32-27E97089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C5D4-4D4B-45EF-8DAB-984E22B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BDB9-758A-4398-8BAE-1EB30C34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9546-F46F-4D94-BE9D-F325638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D137-9A55-46B6-91A0-767D9F7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254C-609E-4750-9801-5E6337A2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8430-3843-464A-A4B1-12503EA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B48A-F23E-4214-8CF6-63F2D282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7FE3-25F3-405A-A35E-5CC97163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8DBFA-874B-49D2-859B-AA469E8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4C2-B7A6-4D7A-B86A-20A35A2F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C895D-1E06-42A4-9666-99E2DB4F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16273-A3FC-4DC3-9650-7AD9ECD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2F64C-ACFC-4825-B996-6CDE3208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E6494-427E-4AB5-B29C-85925C9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B4BED-BBC2-4C34-A7C3-F769417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10CD4-ACE0-4EAF-BC21-28E9B02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CE097-3551-4A33-A894-8E5ACA7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8EE0B-3912-4F8C-8834-2D665BD8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85199-11F8-4FD3-B5C9-641E2233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44730-8573-4E27-8B67-86A0CDF1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5CE-F1A0-4C70-B2CB-11E9D649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1FCC3-34B7-4575-84A3-4A4C2E1E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B4B4F-3F79-416F-BA4A-FACE0598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1FE62-927E-40FD-AA79-50F6A29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8CDFB-A1DD-4815-AFB5-DF9803A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3C0E1-3394-4B9C-AB5B-B55FBE4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F19A2-06BF-4661-A69A-8FCBA2C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DB5F8-4EA4-4886-8E9E-855D2AC9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997A3-BC0E-413C-9813-B356578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56BDA-E0B1-4283-BD38-3B1C19B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8EBD3-CCCC-4DF0-A05D-F72F7B83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A59-18D9-41A8-943D-0B48669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00972-21DF-464C-A5CF-51B2EB9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6C836-E849-4101-AC68-EDC9AD4B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73626-C149-44DF-BEF4-D7BA41C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FA63A-9B2B-4F78-9198-005A7A4A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AA249-9530-45F8-82D2-79590A2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1220C-2227-4243-B68F-05806EAE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EF6EF-3121-4B50-86BE-A96DDED6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C47FB-745B-4B71-9552-B517529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0B3FD-E3AE-4067-91B7-EFF659E7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A7AC0-B9C0-4D82-809F-A81B39E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2F5-86FA-4189-8B50-227D305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1352D-EC20-4F14-8E56-75D7BEB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6FAE9-C56C-427E-8660-32F79EDD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BA839-0048-4C9E-A4D3-7ABEA3B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2E28D-C696-43FD-BE79-02E58580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4CCF4-7BCD-47C0-BB8B-D2A6860F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B2B-4267-4BEC-BEAE-3CCBC19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9237-4EF8-4650-A83E-08C8E7FED3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090-972C-48DF-BEA6-249A0B1907F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549-4E34-41FA-BF22-75A6F37119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44FB-53A8-4714-B2EB-14F5A26D29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4818-5032-4ECD-8AA1-F1984F09D0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BF2-2D5A-411A-8228-F866FD2856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0EDC-2047-4E10-BF09-68DE583990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2900"/>
            </a:b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400"/>
            </a:br>
            <a:br>
              <a:rPr sz="28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КУЛЬТУРА УПРАВЛІННЯ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ЯК СКЛАДОВА ЧАСТИНА МЕНЕДЖМЕНТУ</a:t>
            </a:r>
            <a:br>
              <a:rPr sz="3200"/>
            </a:b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 В СИСТЕМІ ОХОРОНИ ЗДОРОВ</a:t>
            </a:r>
            <a:r>
              <a:rPr b="1" i="1" lang="en-US" sz="3200" spc="-1" strike="noStrike">
                <a:solidFill>
                  <a:srgbClr val="575f6d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575f6d"/>
                </a:solidFill>
                <a:latin typeface="Arial"/>
              </a:rPr>
              <a:t>Я</a:t>
            </a:r>
            <a:br>
              <a:rPr sz="3200"/>
            </a:b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00200"/>
          <a:ext cx="7467480" cy="16844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Розумне і природне дотримання прийнятих у суспільстві правил поведі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оважне ставлення до звичаїв і норм життєдіяльності інших людей і наро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. Зрадлив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. Підлабузництво, заздрощ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5405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правжня висока культура управління, як і культура особистості – це гармонія знань і морально-етичних якостей, які, безумовно, залежать від інтелектуально-культурних якостей особистості, що перебуває біля керма управлі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Культура управління включає в себе такі основні принцип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вибір форми поведінк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тиль і тактика поведінки з погляду моральних і єтичних цінност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особиста поведінка, міра її такту і відповідальності, як показники вияву і розвитку духовної культури особистості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сфери і рівні поведінки за відповідними моральними нормами. Інакше кажучи, наскільки наші вчинки і поведінка не ображають інших, подобаються їм чи викликають заперечення, сприймаються схильно чи відкидаютьс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- нарешті, що можна, а чого не можна дозволяти собі в певній ситуації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Для повноти методології культури управління як виду діяльності наведемо основні чинники, що впливають на її рівень. До них нале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загальнокультурного розвитку країни, її матеріальний і духовний стан у конкретний період розвитк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тан правової забезпеченості виробництва, всіх видів суспільно-корисної діяльності, адекватності  правових норм країни потребам конкретної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рівень розвитку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та управління, стан його потенціалу,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язки  із зовнішнім середовищем, стан технології, його конкурентоспроможність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система зовнішніх зв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язк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ів, зовнішніх “подразників”, які стосуються безпосередньо конкретного об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єкта управління, а звідси і конкретного виду управлінської діяльності організації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- організаційно-правовий і організаційно-культурний порядок на підприємстві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рім того слід наголосити , що приведення о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а управління в заданий стан – не разова акція, а постійна щоденна діяльність, насамперед  профілактичного характеру, з попередженням можливих “збоїв” як у технологічному, так і в суб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єктивному напрям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рацює не менеджер – працює режим, створений менеджером. І в цьому полягає можливість доскональної діяльності персоналу, в якій передбачено все: від надійної технології роботи до системи міжособистісних відноси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Усе це вимагає не просто іншого організаційного порядку в Україні, а й наявності кадрів, здатних працювати справді в демократичних умовах. Потрібен не тільки новий ступінь політичної культури управлінців,а й куди досконаліший рівень управлінського професіоналізму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-16956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У нашій країні до теперішнього часу керівник розглядається як посада, а не як професія, тому система освіти ще не зорієнтована належним чином на підготовку керівників – професіоналів, що призводить до зниження професіоналізму, стресам, психосоматичним захворюванн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це вміння досягати поставленої мети, використовуючи працю, інтелект та мотиви поведін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нших люде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аб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менеджмент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- наука управління людьм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771516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Щоб управляти, необхідно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по-перш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впливати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а по-друге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бачити мету свого впливу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учасний менеджмен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має  принципові особливості у порівнянні з 60-80 рокам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і орієнтований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на соціологізацію, психологізацію та активізацію людського фактор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24768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це висококваліфікований спеціаліст, який володіє конкретною сумою знань і навичок у галузі сучасного менеджменту та комп’ютерних технологій і наділений достатньо широкими повноваженнями для того, щоб займатись самостійною управлінською діяльніст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ологічні основи та ознаки культури управління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фесійний і соціально-психологічний портр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ерів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жен соціальний організм , як і кожен організм взагалі , поряд із загальними рисами, має свої особливості, що відображають характер поведінки кожної конкретної системи. Тому проблеми формування і реалізації моделі управління необхідно вирішувати диференційовано, як на макрорівні щодо окремих країн, так і на мікрорівні стосовно конкретних організацій з урахуванням сформованої в них організаційної культури і відповідних тенденцій розвитк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рганізаційна культура найбільше виявляється під час створення в них відповідної системи управління. Якщо, наприклад, якась система має організаційну культуру із “жіночим” началом, то стиль управління в ній більш демократичний, що характеризується колегіальністю у прийнятті рішень. В умовах організаційної культури з “чоловічим” началом стиль управління відрізняється авторитарністю, жорсткістю та одно-осібністю в прийнятті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ам термін “культура управління” віднедавна здобув широке розповсюдження. Ним дедалі частіше користуються як наукові співробітники, так і практики. Саме тому передусім визначимо зміст цього терміну з урахуванням основних тенденцій розвитку наукового управлінського знання, вирішених та невирішених проблем у цій галуз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теорія раціональної організації роботи апарату управління, прищеплення йому найбільш ефективних засобів, форм і методів його праці, розкриття ролі культурного елементу в нь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входять завдання управлінцям-практикам про різні методи вирішення усіх можливих організаційно-управлінських проблем: навчити їх ставити мету й науково достовірно аналізувати труднощі, що заважають їх досягненню; показувати їм, як треба оцінювати переваги чи хиби управлінських рішен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едмета культури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як до явища організаційної культури належать і питання технологічного характеру, способи отримання і переробки інформації, визначення чисельності необхідних працівників апарата управління, підбір та розстановка кадрів тощ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ходячи із вищесказаного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сукупність теоретичних та практичних положень, принципів і норм, що мають загальний характер і відносяться різною мірою до різних аспектів людської діяль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 управління - важлива сфера впливу на свідомість, вчинки підлеглих, їхні помисли і бажання. Водночас вона є одним із вирішальних чинників успіху в управлінн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ультура, втім, може стикатися з безкульту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м. Щоб краще зрозуміти можливість подібного зіткнення, звернімо увагу на характеристику цих антиподів, що наведені в табл.№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Century Schoolbook"/>
              </a:rPr>
              <a:t>Таблиця № 1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-468360" y="1125360"/>
          <a:ext cx="208080" cy="39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125360"/>
          <a:ext cx="7467480" cy="54309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рівня культури управлі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новні ознаки безкульту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`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 Глибина розуміння життя інших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Широта мислення управлінц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Доброзичливість, людяність і гуманне ставлення до інши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Щирість і природність у поведінці, вчинках, здатність за будь-яких обставин залишатися самим собо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Правдивість і відверт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 Толерантність, чуйність і повага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 Скромність, розвинене почуття власної г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 Чемність, готовність відгукнутися на прохання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Поверховість, зазнайств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 Грубість і жорсток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 Словоблуддя і нечес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Непорядність і аморальність у  поведінц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. Брехливість, підступ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.Зневага, зверхнє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.Байдужість, корисливе ставлення до інш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.Формально-поверхневе дотримання правил і норм поведінк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18Z</dcterms:modified>
  <cp:revision>68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