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46E-8832-43EC-8939-A06C9C52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8C1-EF98-406A-9FCC-F328A024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50D-6664-4E90-A2FF-CD30E9B2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EC3-AB2C-4C52-A074-EFCF30EB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44D7-32E6-4DEC-9634-4A8FCDE2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FDEE-161C-48B6-A858-C41A3982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C4E9-E038-4AD3-B45F-53E7AB5F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25A0-DBEE-4470-B02D-EF63A270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0D4D-CB2A-417D-A794-BA7C632C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35B8-A80E-4E00-9AF8-0A61017E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08D1-F4FE-4A63-8A76-D86B332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476-3EC9-4F48-9B48-192B2248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DDEA-B1BC-4F3D-B731-4FB832E5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C9AC-C67B-48AD-9EED-4C3A8DE0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63AB-D8C2-46CC-9174-E7638ECF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1FBE-4502-46E1-87C0-E5FCAF86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E5CF-31D3-4664-9393-506DE3F3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3D567-1799-4004-A3D8-9C9C91D2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8142D-325E-421E-9F11-952C4A95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55A5B-AF16-4460-8EFF-14323F27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E29A3-CA6B-4D32-B3C3-AC952192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FC1EA-53BB-45EA-830D-7E31ED7A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74F-2BF6-431A-B51A-E9EB54B1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D9765-D16C-4DFE-8ED7-01F7C4C2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D0764-A8B3-4BD5-A3C5-1C2F2B5D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3E008-721D-4B14-813A-65B689C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C9C2B-7CA9-4498-A761-3FB4A35E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54F2C-0C5E-4A98-8A90-0BC2C59B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60C48-8D1B-4DCB-81D3-2F5244B5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1614C-12D5-4C16-8718-D6C5CBD9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8FD4-C6F3-4886-B1C8-B6169D9C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AC71-3F6E-45EA-AE4F-95FBFC51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FA459-8C88-446C-B08C-CF06B00D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161-55B2-437E-8798-05C8F858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4264-6908-45BD-B906-A14B06AA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2BD1-5294-400B-812B-1D6DF052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A614-B708-4F7A-9B23-03233E9C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5699-B734-4E40-BC02-4445E4AF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DB01-A91C-49AF-A15F-E58DF57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091B-F98E-4127-B326-B0D2882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6088-FE92-4D39-ADBD-A29B04F4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B1A8-7276-4FE2-9566-AF9FCB0C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C133F-2C10-4D71-ABA6-6F76FB00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757F1-4D2D-4585-9F48-A529B5CC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CD5-51CF-4D5D-B708-14F59E3E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68DC7-7714-483B-9D59-FC0F887E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28522-A5BD-460A-8817-948A9BF1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45E5E-3AE6-47B7-9143-D56655E9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968E2-FABA-45D3-8ACC-4163FAD5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5A728-B4A2-4596-BA97-AA7EC8A6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7F387-3E7E-4C40-837D-18E5BA74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90C39-C05B-462F-B66D-4D2CACC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DE378-F985-4214-BA7F-01124A2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D9F1E-1DE0-48A4-A784-C5BD183C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BD21C-B36E-497C-96F6-311268ED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52E-CD22-4E2D-8962-14E65B13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1F169-8F2C-4F69-AFFA-C31EC155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08F06-8C2B-44FF-8E38-6E6711CD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493B4-20E3-44F1-9F7D-F69F2CDD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4E94D-EA62-4ACC-94F7-59A763A8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7C929-3E7C-4CDA-8976-9E68EB60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9D506-4B8F-4E2A-B037-DB432787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59B52-493D-4003-AB49-29985F32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4CAE6-3E00-44CA-B0B4-68841C1A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04065-D334-41A1-8D12-BE90A422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2CB0C-87CE-4ED4-AB45-3C0C41EF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6C4-B3EF-4003-B5A6-FF67CAC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92F84-9EBA-48AE-9582-5455A090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4C984-7F55-4C55-8E00-EF767F3E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D07DA-1BBD-43A0-9A1C-BAB54ECF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A1CF9B-ED14-4762-B615-05467A85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181C9-4E1C-4467-A710-65530E0C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3FD03-06D8-4F12-8E0B-E4728D1F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DB2480-7D4E-4432-AD82-75E83465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31D44-3CFB-4472-A8AA-235E9682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858E4-0B3C-40C5-8E69-777E175E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EA987-CAD1-4F96-9E9D-C8E2D019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BAB-4A93-468C-ADDA-0F72238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E7A1B-4244-4DE8-8F6E-9B066D8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9869A-047B-4A7F-8B1A-23E71443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AD842-0214-4C34-B89F-C67341E4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32D66-8466-42A4-BEB9-6848F8A5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7F33A-41D4-40F9-B12B-A1EEADF4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1E0-4A6D-42C0-B527-A96E7C2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CC1-C53E-4D75-A95A-9355917009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0F3E-3E8F-4336-8912-F647387409D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47C1-6BEA-430D-86F7-C241E5E3D5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A0A6-0562-41E8-85D4-10C34D2DF2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AAEB-5667-4C7C-A275-BD7113372BA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6D56-0C43-4F2D-A67E-C7B3A0E2C5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1BAF-1AEF-4CBC-8C0D-EF6B783C1B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УЖГОРОДСЬКИЙ НАЦІОНАЛЬ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ФАКУЛЬТЕТ ПІСЛЯДИПЛОМНОЇ ОСВІТИ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ФЕДРА ГРОМАДСЬКОГО ЗДОРОВ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Я</a:t>
            </a:r>
            <a:br>
              <a:rPr sz="2000"/>
            </a:br>
            <a:br>
              <a:rPr sz="2900"/>
            </a:br>
            <a:r>
              <a:rPr b="1" lang="uk-UA" sz="2400" spc="-1" strike="noStrike">
                <a:solidFill>
                  <a:srgbClr val="575f6d"/>
                </a:solidFill>
                <a:latin typeface="Century Schoolbook"/>
              </a:rPr>
              <a:t>ЛЕКЦІЯ НА ТЕМУ:</a:t>
            </a:r>
            <a:br>
              <a:rPr sz="2400"/>
            </a:br>
            <a:br>
              <a:rPr sz="2800"/>
            </a:br>
            <a:r>
              <a:rPr b="1" lang="uk-UA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КУЛЬТУРА УПРАВЛІННЯ</a:t>
            </a:r>
            <a:br>
              <a:rPr sz="3200"/>
            </a:b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 ЯК СКЛАДОВА ЧАСТИНА МЕНЕДЖМЕНТУ</a:t>
            </a:r>
            <a:br>
              <a:rPr sz="3200"/>
            </a:b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 В СИСТЕМІ ОХОРОНИ ЗДОРОВ</a:t>
            </a:r>
            <a:r>
              <a:rPr b="1" i="1" lang="en-US" sz="3200" spc="-1" strike="noStrike">
                <a:solidFill>
                  <a:srgbClr val="575f6d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Я</a:t>
            </a:r>
            <a:br>
              <a:rPr sz="3200"/>
            </a:br>
            <a:br>
              <a:rPr sz="29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28760" y="4941720"/>
            <a:ext cx="371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ц. Качала Л. 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600200"/>
          <a:ext cx="7467480" cy="168444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. Розумне і природне дотримання прийнятих у суспільстві правил поведін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. Поважне ставлення до звичаїв і норм життєдіяльності інших людей і наро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. Зрадлив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. Підлабузництво, заздрощ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5405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правжня висока культура управління, як і культура особистості – це гармонія знань і морально-етичних якостей, які, безумовно, залежать від інтелектуально-культурних якостей особистості, що перебуває біля керма управлі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Культура управління включає в себе такі основні принцип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вибір форми поведінк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стиль і тактика поведінки з погляду моральних і єтичних цінносте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особиста поведінка, міра її такту і відповідальності, як показники вияву і розвитку духовної культури особистості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сфери і рівні поведінки за відповідними моральними нормами. Інакше кажучи, наскільки наші вчинки і поведінка не ображають інших, подобаються їм чи викликають заперечення, сприймаються схильно чи відкидаютьс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нарешті, що можна, а чого не можна дозволяти собі в певній ситуації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Для повноти методології культури управління як виду діяльності наведемо основні чинники, що впливають на її рівень. До них належат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рівень загальнокультурного розвитку країни, її матеріальний і духовний стан у конкретний період розвитку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стан правової забезпеченості виробництва, всіх видів суспільно-корисної діяльності, адекватності  правових норм країни потребам конкретної організації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рівень розвитку конкретного об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є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та управління, стан його потенціалу, зв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язки  із зовнішнім середовищем, стан технології, його конкурентоспроможність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система зовнішніх зв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язк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ів, зовнішніх “подразників”, які стосуються безпосередньо конкретного об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єкта управління, а звідси і конкретного виду управлінської діяльності організації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організаційно-правовий і організаційно-культурний порядок на підприємстві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Крім того слід наголосити , що приведення об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єкта управління в заданий стан – не разова акція, а постійна щоденна діяльність, насамперед  профілактичного характеру, з попередженням можливих “збоїв” як у технологічному, так і в суб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єктивному напрямі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Працює не менеджер – працює режим, створений менеджером. І в цьому полягає можливість доскональної діяльності персоналу, в якій передбачено все: від надійної технології роботи до системи міжособистісних відноси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Усе це вимагає не просто іншого організаційного порядку в Україні, а й наявності кадрів, здатних працювати справді в демократичних умовах. Потрібен не тільки новий ступінь політичної культури управлінців,а й куди досконаліший рівень управлінського професіоналізму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-1695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У нашій країні до теперішнього часу керівник розглядається як посада, а не як професія, тому система освіти ще не зорієнтована належним чином на підготовку керівників – професіоналів, що призводить до зниження професіоналізму, стресам, психосоматичним захворюванн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Менеджмент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це вміння досягати поставленої мети, використовуючи працю, інтелект та мотиви поведінк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інших люде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аб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менеджмент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- наука управління людьм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771516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Щоб управляти, необхідно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по-перш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впливати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а по-друг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бачити мету свого впливу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47592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Сучасний менеджмен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має  принципові особливості у порівнянні з 60-80 рокам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і орієнтований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на соціологізацію, психологізацію та активізацію людського фактора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4920" y="24768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це висококваліфікований спеціаліст, який володіє конкретною сумою знань і навичок у галузі сучасного менеджменту та комп’ютерних технологій і наділений достатньо широкими повноваженнями для того, щоб займатись самостійною управлінською діяльніст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етодологічні основи та ознаки культури управління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офесійний і соціально-психологічний портр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ерів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сихологічні основи ділового спілкув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нови службового етике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нфліктні ситуації в колективі та управління н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жен соціальний організм , як і кожен організм взагалі , поряд із загальними рисами, має свої особливості, що відображають характер поведінки кожної конкретної системи. Тому проблеми формування і реалізації моделі управління необхідно вирішувати диференційовано, як на макрорівні щодо окремих країн, так і на мікрорівні стосовно конкретних організацій з урахуванням сформованої в них організаційної культури і відповідних тенденцій розвитку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рганізаційна культура найбільше виявляється під час створення в них відповідної системи управління. Якщо, наприклад, якась система має організаційну культуру із “жіночим” началом, то стиль управління в ній більш демократичний, що характеризується колегіальністю у прийнятті рішень. В умовах організаційної культури з “чоловічим” началом стиль управління відрізняється авторитарністю, жорсткістю та одно-осібністю в прийнятті управлінських рішен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ам термін “культура управління” віднедавна здобув широке розповсюдження. Ним дедалі частіше користуються як наукові співробітники, так і практики. Саме тому передусім визначимо зміст цього терміну з урахуванням основних тенденцій розвитку наукового управлінського знання, вирішених та невирішених проблем у цій галуз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теорія раціональної організації роботи апарату управління, прищеплення йому найбільш ефективних засобів, форм і методів його праці, розкриття ролі культурного елементу в нь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765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едмета культури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входять завдання управлінцям-практикам про різні методи вирішення усіх можливих організаційно-управлінських проблем: навчити їх ставити мету й науково достовірно аналізувати труднощі, що заважають їх досягненню; показувати їм, як треба оцінювати переваги чи хиби управлінських рішен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едмета культури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як до явища організаційної культури належать і питання технологічного характеру, способи отримання і переробки інформації, визначення чисельності необхідних працівників апарата управління, підбір та розстановка кадрів тощ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иходячи із вищесказаного,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сукупність теоретичних та практичних положень, принципів і норм, що мають загальний характер і відносяться різною мірою до різних аспектів людської діяльност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 - важлива сфера впливу на свідомість, вчинки підлеглих, їхні помисли і бажання. Водночас вона є одним із вирішальних чинників успіху в управлінн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ультура, втім, може стикатися з безкульту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м. Щоб краще зрозуміти можливість подібного зіткнення, звернімо увагу на характеристику цих антиподів, що наведені в табл.№1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-171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75f6d"/>
                </a:solidFill>
                <a:latin typeface="Century Schoolbook"/>
              </a:rPr>
              <a:t>Таблиця № 1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-468360" y="1125360"/>
          <a:ext cx="208080" cy="39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95280" y="1125360"/>
          <a:ext cx="7467480" cy="543096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новні ознаки рівня культури управлі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новні ознаки безкульту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`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. Глибина розуміння життя інших лю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.Широта мислення управлінц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.Доброзичливість, людяність і гуманне ставлення до інши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. Щирість і природність у поведінці, вчинках, здатність за будь-яких обставин залишатися самим собо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. Правдивість і відверт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. Толерантність, чуйність і повага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. Скромність, розвинене почуття власної г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. Чемність, готовність відгукнутися на прохання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.Поверховість, зазнайств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. Грубість і жорсток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. Словоблуддя і нечес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. Непорядність і аморальність у  поведінц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. Брехливість, підступ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.Зневага, зверхнє ставлення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.Байдужість, корисливе ставлення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.Формально-поверхневе дотримання правил і норм поведінк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20:00Z</dcterms:created>
  <dc:creator>Ната</dc:creator>
  <dc:description/>
  <dc:language>en-US</dc:language>
  <cp:lastModifiedBy>Ljuba</cp:lastModifiedBy>
  <dcterms:modified xsi:type="dcterms:W3CDTF">2014-10-07T08:28:18Z</dcterms:modified>
  <cp:revision>68</cp:revision>
  <dc:subject/>
  <dc:title>Ужгородський національний університет Факультет післядипломної освіти Кафедра громадського здоров’я  ЛЕКЦІЯ на тему: “Соціально-психологічні основи  культури управління”</dc:title>
</cp:coreProperties>
</file>