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BF6F-6ACE-4F4B-88E7-1EC5DBB2EB4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2EB-7E6D-4A50-AA3B-E5823E95FAA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2B7-2784-4BCA-8B88-F6464C8C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13B-4016-432A-8357-9954CAC3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74F-4613-4389-9518-EBEAF39D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159-EF24-4209-8609-08BBAC1E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B48C-239B-4B5B-B32B-93A6686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940C-8FF6-4DCA-A523-AEE405F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7780-DBB3-4320-A604-5E934A6D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08A-6516-45C9-95B2-6E688047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FA17-EFDE-4024-B454-6E7A4D54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55CE-6661-4363-B33B-A99BB61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1E4-00D8-4C98-95C8-F936791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941-C69F-4083-B9BF-EF7CC816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0C9E-AAA5-4E84-A56B-9DCBF43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334-ABB7-4AD6-AA24-D20730E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863-B30D-4169-A50F-619FECE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3778-48CC-4F83-AD96-10E36A27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D70-3BA3-48DF-A604-4799F970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BD33A-CA3B-4C79-A592-B7926B08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43133-32B0-47A8-98A4-653C7ACC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F6FC6-75E4-46D9-97D9-DC30BC3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69317-C5C4-4788-8D43-7960EDE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A0FA0-A82D-477D-8123-488934B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04E-5AA4-4D89-9F62-810EE80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75D0D-3AC8-4DB2-B913-A7DADE4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CFDAB-F733-4059-8A6D-2CA086A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40847-6F82-4219-A995-1DB1679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1E043-A00F-4EA2-AE60-3328C910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9B5BC-5BE6-4225-8F7F-A277A84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34AA9-FFE2-4105-BDEC-07BF5835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1BB2F-2CA4-49C5-BECC-EFE748B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7425-0459-45B4-9539-C02EAAD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523F-CCB1-4B1A-BD58-462AB7E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4363-EDB7-49D0-A5A2-BFFB2967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31E-EEB8-4C67-818A-E9EDA23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62A5-027A-4FF5-BDD5-005205A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19BA-7D7E-48DA-976F-91C9AA9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1BC0-7E05-4C22-9E46-D3D21A3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28C3-F777-49A1-8900-E10200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3201-8191-4AE6-BE2C-B5E9ECF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667B-3596-4187-932D-630B3A6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2C34-3AD5-4A75-9D13-162D6195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776B-C983-4E20-8AE4-65796C71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7837-0A97-4309-B3E3-CC89B6DD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469-3517-4D9E-9A1A-7E19060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168-8A48-4A05-9DB8-A1A77312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3F8-0B96-41DB-8B04-B7A4872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F3E-3DF2-4FD6-AA82-D9D8C72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031-B54F-4B12-B862-67F59F87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2477-8C13-4455-AEDA-F40FD698220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6CC-F337-44D1-A745-7B8EBE542D4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A289-1A6E-4EEC-8F9B-D87CF8214BF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3BF-C821-4FDA-A4CA-97B301F2BD5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Ужгородський національний університет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Факультет післядипломної освіти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Кафедра громадського здоров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я</a:t>
            </a: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Лекція (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I, II 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частина )</a:t>
            </a:r>
            <a:br>
              <a:rPr sz="2900"/>
            </a:br>
            <a:br>
              <a:rPr sz="2900"/>
            </a:b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ОСНОВИ</a:t>
            </a:r>
            <a:br>
              <a:rPr sz="4300"/>
            </a:b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 МЕДИЧНОГО СТРАХУВАННЯ</a:t>
            </a: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429080" y="5357520"/>
            <a:ext cx="4143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ф. Рогач І. 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Trebuchet MS"/>
              </a:rPr>
              <a:t>Страхова медицина світу характеризується наступними рисами: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лежність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у більшості країн світу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сфери охорони здоров'я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яка доповнює державну систему охорони здоров'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сім залученим, незалежно від виду медичного страхування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днакової за обсягом та якістю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еобхідної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ої допомог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вобода вибор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для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ацієнт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ослуг найвищої кваліфікації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исока прибутков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кладених капіталів (за кордоном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провадження сучасних форм управлі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ованість на високоосвічене населе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 достатньою медичною культуро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цікавлен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у запровадженні системи медичного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ініціативність, комунікабельність, працьовиті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безпечення відшкодування втрат застрахованом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гідно з угодою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конкретну потреб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що вимагає утримання певних резервів і обумовлює більшу варт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ПЛ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 Медичне страхування та страхова медицина, їх 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1. Завдання та головні риси страхової медицин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2. Суб'єкти і об'єкти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 Суть обов'язков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1. Суть добровільн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 Економічні категорії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1. Роль та місце страхових резервів при формуванні страхових фонді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Як тільки ВИ подумаєте, що не в змозі виконати певну справу, з цього моменту її здійснення стає для ВАС неможливим.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Б. Спіно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Теоретичні основи медичного страхуванн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світовій практиці страхування розглядається я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захисту від фінансових, соціальних, виробничих і майнових ризикі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ажливий чинник стабільності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успільного виробниц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жерело залучення інвестиційного капіталу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о галузей народного господарства і національної економік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оздоровлення нації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 рахунок надання вчасної кваліфікованої медичної допомог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удосконалення виробничого процесу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(закупка сучасного обладнання та впровадження сучасних технологій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трахування є системою економічних відносин між суб'єктами господарювання (страховиком і страхувальником), а також різновид підприємницької діяльності, за допомогою якої забезпечується надання страхових гаранті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ля застосування страхування необхідна майнова самостійність та зацікавленість суб'єктів господарювання у передачі відповідальності за наслідки ризику спеціалізованим формуванн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вітовий досвід свідчить, що дієвим механізмом соціального захисту населення в умовах ринку, підвищення ефективності діяльності та якості системи охорони здоров'я є медичне страхування, впровадження якого в Україні гальмується через неврегульованість законодавчої бази розвитку медичного страхового ринку, що включає організацію юридичного захисту прав страховиків та страхувальників, впровадження єдиних правил, вимог і стандартів діяльності, координацію зусиль страховиків на ринку послуг медичного страхування та і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озрізняют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трахування майна, відповідальності, підприємницьких ризиків, рівня житт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(соціальне, особист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ержавне соціальне страхування (пенсійне, від безробіття та нещасних випадків на виробництві, медичне)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 добровільних внесків працюючого населення, розмір яких відповідає доходам і не залежить від реального ризику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яка передбачає виплати потенційних споживачів медичних послуг (працівників, роботодавців, держави) фіксованого внеску страховій компанії (ці кошти у разі хвороби компенсують витрати медичного закладу на надання медичної допомог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приватне 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при якій окремі особи або групи населення сплачують страхові премії страховій компанії, що покриває витрати медичних закладів під час надання медичних послу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В процесі історичного розвитку суспільства сформувались основні механізми соціального захисту працівників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озподіл ризиків шляхом введення ОМС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часткова оплата внесків роботодавц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ення страхування через державні та напівдержавні комерційні організації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механізм перерозподілу доходів (принцип солідар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ожна людина має знати, як зменшити ризик від погіршення здоров'я, настання захворювання чи нещасного випадку в умовах ринкової економіки, яка є основою страхової медицини та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трахова медицин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кладна і надзвичайно мобільна система товарно-ринкових відносин у галузі охорони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Товаром виступає оплачувана, конкурентоспроможна, гарантована, якісна і достатня за обсягом медична послуга, яка провокується ризиком для здоров'я. Покупцем послуги може бути:  держава, група людей (виробничі колективи, заклади та установи різних форм власності) або фізична особа, які перебувають в умовах ризику для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истема організаційних та фінансових заходів щодо забезпечення діяльності страхової медиц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тою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ово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ц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і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чного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ування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є забезпечення громадянам соціальних гарантій і прав на отримання медичної допомоги за рахунок накопичених 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коштів при виникненні страхового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ипадку а також фінансування профілактичних заход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Медичне страхування</a:t>
            </a:r>
            <a:br>
              <a:rPr sz="3600"/>
            </a:b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 передбачає наступні завдання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осередницьку діяльність в організації та фінансуванні страхов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ння медичної допомоги населенн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контроль за обсягом та якістю виконання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трахових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медичн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лікувально-профілактичними та соціальними закладами і окремими приватно практикуючими лікар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розрахунок із заклада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хорони здоров'я, соціальними установами та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риватними лікаря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конану роботу згідно з угодою через страхові фонди (медичні організації), які формуються за рахунок грошових внесків підприємств, закладів, організацій, громадя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50:00Z</dcterms:created>
  <dc:creator>Ната</dc:creator>
  <dc:description/>
  <dc:language>en-US</dc:language>
  <cp:lastModifiedBy>Ljuba</cp:lastModifiedBy>
  <dcterms:modified xsi:type="dcterms:W3CDTF">2014-10-07T08:25:46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( I, II частина )  “ОСНОВИ  МЕДИЧНОГО СТРАХУВАННЯ”</dc:title>
</cp:coreProperties>
</file>