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C49C-E96A-41C3-84A0-5F73622097A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FBFE-686C-4FF7-8473-D4EC7AE5AA4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C4BC-3A66-4495-AD28-3B969B52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FEB-9314-4595-B973-57DD7A14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BB9-4B2B-4606-BAD0-B833DA43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CF4-3D27-4236-A543-1A83732C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27A4-C001-4025-AC3B-64F758AA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5829-0D96-4E2C-80DD-88AA7C38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A236-6969-4E6D-8366-9CD9262D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8F1C-9A9E-46F0-8EA4-8312CF60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6BFA-3A48-4E38-AF0F-8C18781B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80F2-6155-450A-8263-F8A1617C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C952-9592-412E-B113-54C7519B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EAC-CF4A-4901-9970-376C4623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07B7-3506-4EEC-8C2B-B03D01E3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6378-2EEC-413F-BB0F-1DA5EB98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0C73-F929-4C4D-83C0-0C184DE6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DE55-29C7-4EA5-874E-742118D2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4931-8EED-4558-B644-52B56E51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85F6D-5DFF-4AC0-868D-65598A78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8017A-08C2-4FFA-A83C-1410AA15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0A5F70-7C89-48D3-90ED-73F04275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BD817-D8EB-4920-93E7-C35E4EDB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6532E-D24E-432B-B259-B4FD0353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5CE-3407-4A5A-AC95-5FB4DA4A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B33E6-0439-4C8E-ADC1-7C29E13F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7EFEE-9A70-4079-8116-9281F5A7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82D0F-80D9-49A4-885C-C339FF8C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7EEDB-7D67-436D-959F-71B14CFF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519D9-BC93-486B-98C2-309E556E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59DCB-7B2F-4E5B-85DF-0F51DA87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50583-3831-42BA-A404-E38EC979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EB5D0-B2CB-4145-B005-7732DBED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92F46-E78B-4BAE-B8E3-4C759463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250A8-AC6B-47C0-9449-394F4644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D26-3CC2-4D67-ABF2-B54BD2D6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35A9E-4D1F-40B4-A5FD-703DEF54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04650-AA1D-46D3-9CD7-50DBAAF4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86C01-BDF8-408B-A162-91867238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ABEC7-EB62-4590-939E-858D8A67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E2E88-74A7-429C-91BA-0BE19A7D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C38C9-8FF2-4F8B-B77E-D7835759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75B9F-AC71-4546-A37B-A4E68C5E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4E48F-7C8C-4457-A935-77BBEFCE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7B8A4-BC66-4553-9C95-B3313EA8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ED3-A44E-4065-AA69-AD1A3FCA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5D79-21F6-41A6-AF2A-2C27C0E3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9B8-71C1-48A1-84B6-908B31D1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4842-3CC5-4DF4-A572-82C275AF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FE3-2970-43FC-B684-D41A0BFE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00FF-2D26-486F-BF49-5E216F25927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170E-9B15-45C1-8F04-483D6970804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17E3-89FA-42F4-8837-E94F2BF7338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1529-D57F-42A0-AD48-1A6E793546D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Ужгородський національний університет</a:t>
            </a:r>
            <a:br>
              <a:rPr sz="2900"/>
            </a:b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Факультет післядипломної освіти</a:t>
            </a:r>
            <a:br>
              <a:rPr sz="2900"/>
            </a:b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Кафедра громадського здоров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я</a:t>
            </a:r>
            <a:br>
              <a:rPr sz="2900"/>
            </a:br>
            <a:br>
              <a:rPr sz="2900"/>
            </a:b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Лекція (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 I, II </a:t>
            </a:r>
            <a:r>
              <a:rPr b="0" lang="uk-UA" sz="2900" spc="-1" strike="noStrike">
                <a:solidFill>
                  <a:srgbClr val="ffffff"/>
                </a:solidFill>
                <a:latin typeface="Trebuchet MS"/>
              </a:rPr>
              <a:t>частина )</a:t>
            </a:r>
            <a:br>
              <a:rPr sz="2900"/>
            </a:br>
            <a:br>
              <a:rPr sz="2900"/>
            </a:br>
            <a:r>
              <a:rPr b="0" lang="en-US" sz="43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uk-UA" sz="4300" spc="-1" strike="noStrike">
                <a:solidFill>
                  <a:srgbClr val="ffffff"/>
                </a:solidFill>
                <a:latin typeface="Trebuchet MS"/>
              </a:rPr>
              <a:t>ОСНОВИ</a:t>
            </a:r>
            <a:br>
              <a:rPr sz="4300"/>
            </a:br>
            <a:r>
              <a:rPr b="0" lang="uk-UA" sz="4300" spc="-1" strike="noStrike">
                <a:solidFill>
                  <a:srgbClr val="ffffff"/>
                </a:solidFill>
                <a:latin typeface="Trebuchet MS"/>
              </a:rPr>
              <a:t> МЕДИЧНОГО СТРАХУВАННЯ</a:t>
            </a:r>
            <a:r>
              <a:rPr b="0" lang="en-US" sz="4300" spc="-1" strike="noStrike">
                <a:solidFill>
                  <a:srgbClr val="ffffff"/>
                </a:solidFill>
                <a:latin typeface="Trebuchet MS"/>
              </a:rPr>
              <a:t>”</a:t>
            </a:r>
            <a:br>
              <a:rPr sz="2900"/>
            </a:br>
            <a:br>
              <a:rPr sz="2900"/>
            </a:br>
            <a:br>
              <a:rPr sz="2900"/>
            </a:br>
            <a:endParaRPr b="0" lang="en-US" sz="43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429080" y="5357520"/>
            <a:ext cx="4143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Georgia"/>
              </a:rPr>
              <a:t>Проф. Рогач І. М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Trebuchet MS"/>
              </a:rPr>
              <a:t>Страхова медицина світу характеризується наступними рисами:</a:t>
            </a:r>
            <a:br>
              <a:rPr sz="36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належність,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у більшості країн світу,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до сфери охорони здоров'я,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яка доповнює державну систему охорони здоров'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наданн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сім залученим, незалежно від виду медичного страхування,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однакової за обсягом та якістю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необхідної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медичної допомог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свобода вибору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для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пацієнт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наданн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медичних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послуг найвищої кваліфікації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висока прибутковість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кладених капіталів (за кордоном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впровадження сучасних форм управлінн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орієнтованість на високоосвічене населенн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з достатньою медичною культурою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зацікавленість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медичних працівників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у запровадженні системи медичного страхуванн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орієнтаці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медичних працівників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ініціативність, комунікабельність, працьовитість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забезпечення відшкодування втрат застрахованому,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згідно з угодою страхуванн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орієнтація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конкретну потребу,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що вимагає утримання певних резервів і обумовлює більшу вартість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24456"/>
                </a:solidFill>
                <a:latin typeface="Trebuchet MS"/>
              </a:rPr>
              <a:t>ПЛА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 Медичне страхування та страхова медицина, їх мет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1.1. Завдання та головні риси страхової медицин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1.2. Суб'єкти і об'єкти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2. Суть обов'язкового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2.1. Суть добровільного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3. Економічні категорії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3.1. Роль та місце страхових резервів при формуванні страхових фондів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6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i="1" lang="uk-UA" sz="4000" spc="-1" strike="noStrike">
                <a:solidFill>
                  <a:srgbClr val="000000"/>
                </a:solidFill>
                <a:latin typeface="Georgia"/>
              </a:rPr>
              <a:t>Як тільки ВИ подумаєте, що не в змозі виконати певну справу, з цього моменту її здійснення стає для ВАС неможливим.</a:t>
            </a: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Georgia"/>
              </a:rPr>
              <a:t>Б. Спіноз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24456"/>
                </a:solidFill>
                <a:latin typeface="Trebuchet MS"/>
              </a:rPr>
              <a:t>Теоретичні основи медичного страхування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3568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У світовій практиці страхування розглядається як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спосіб захисту від фінансових, соціальних, виробничих і майнових ризикі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важливий чинник стабільності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суспільного виробництв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джерело залучення інвестиційного капіталу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до галузей народного господарства і національної економік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спосіб оздоровлення нації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за рахунок надання вчасної кваліфікованої медичної допомог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спосіб удосконалення виробничого процесу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(закупка сучасного обладнання та впровадження сучасних технологій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42840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Страхування є системою економічних відносин між суб'єктами господарювання (страховиком і страхувальником), а також різновид підприємницької діяльності, за допомогою якої забезпечується надання страхових гаранті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Для застосування страхування необхідна майнова самостійність та зацікавленість суб'єктів господарювання у передачі відповідальності за наслідки ризику спеціалізованим формування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Світовий досвід свідчить, що дієвим механізмом соціального захисту населення в умовах ринку, підвищення ефективності діяльності та якості системи охорони здоров'я є медичне страхування, впровадження якого в Україні гальмується через неврегульованість законодавчої бази розвитку медичного страхового ринку, що включає організацію юридичного захисту прав страховиків та страхувальників, впровадження єдиних правил, вимог і стандартів діяльності, координацію зусиль страховиків на ринку послуг медичного страхування та і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237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Розрізняють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страхування майна, відповідальності, підприємницьких ризиків, рівня життя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(соціальне, особисте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державне соціальне страхування (пенсійне, від безробіття та нещасних випадків на виробництві, медичне)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- система добровільних внесків працюючого населення, розмір яких відповідає доходам і не залежить від реального ризику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медичне страхування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- система, яка передбачає виплати потенційних споживачів медичних послуг (працівників, роботодавців, держави) фіксованого внеску страховій компанії (ці кошти у разі хвороби компенсують витрати медичного закладу на надання медичної допомоги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приватне медичне страхування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- система, при якій окремі особи або групи населення сплачують страхові премії страховій компанії, що покриває витрати медичних закладів під час надання медичних послуг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57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57168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Georgia"/>
              </a:rPr>
              <a:t>В процесі історичного розвитку суспільства сформувались основні механізми соціального захисту працівників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розподіл ризиків шляхом введення ОМС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часткова оплата внесків роботодавцями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забезпечення страхування через державні та напівдержавні комерційні організації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механізм перерозподілу доходів (принцип солідарності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Кожна людина має знати, як зменшити ризик від погіршення здоров'я, настання захворювання чи нещасного випадку в умовах ринкової економіки, яка є основою страхової медицини та медичного страхув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57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8584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Страхова медицина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- це складна і надзвичайно мобільна система товарно-ринкових відносин у галузі охорони здоров'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Товаром виступає оплачувана, конкурентоспроможна, гарантована, якісна і достатня за обсягом медична послуга, яка провокується ризиком для здоров'я. Покупцем послуги може бути:  держава, група людей (виробничі колективи, заклади та установи різних форм власності) або фізична особа, які перебувають в умовах ризику для здоров'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Медичне страхування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- це система організаційних та фінансових заходів щодо забезпечення діяльності страхової медицин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Метою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страхової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медицини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і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медичного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страхування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є забезпечення громадянам соціальних гарантій і прав на отримання медичної допомоги за рахунок накопичених </a:t>
            </a:r>
            <a:r>
              <a:rPr b="0" i="1" lang="uk-UA" sz="2000" spc="-1" strike="noStrike">
                <a:solidFill>
                  <a:srgbClr val="000000"/>
                </a:solidFill>
                <a:latin typeface="Georgia"/>
              </a:rPr>
              <a:t>коштів при виникненні страхового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ипадку а також фінансування профілактичних заході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24456"/>
                </a:solidFill>
                <a:latin typeface="Trebuchet MS"/>
              </a:rPr>
              <a:t>Медичне страхування</a:t>
            </a:r>
            <a:br>
              <a:rPr sz="3600"/>
            </a:br>
            <a:r>
              <a:rPr b="1" lang="uk-UA" sz="3600" spc="-1" strike="noStrike">
                <a:solidFill>
                  <a:srgbClr val="424456"/>
                </a:solidFill>
                <a:latin typeface="Trebuchet MS"/>
              </a:rPr>
              <a:t> передбачає наступні завдання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посередницьку діяльність в організації та фінансуванні страхових програм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надання медичної допомоги населенню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контроль за обсягом та якістю виконання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страхових </a:t>
            </a: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медичних програм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лікувально-профілактичними та соціальними закладами і окремими приватно практикуючими лікарями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розрахунок із закладами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охорони здоров'я, соціальними установами та </a:t>
            </a: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приватними лікарями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за</a:t>
            </a:r>
            <a:r>
              <a:rPr b="1" lang="uk-UA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виконану роботу згідно з угодою через страхові фонди (медичні організації), які формуються за рахунок грошових внесків підприємств, закладів, організацій, громадян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50:00Z</dcterms:created>
  <dc:creator>Ната</dc:creator>
  <dc:description/>
  <dc:language>en-US</dc:language>
  <cp:lastModifiedBy>Ljuba</cp:lastModifiedBy>
  <dcterms:modified xsi:type="dcterms:W3CDTF">2014-10-07T08:25:46Z</dcterms:modified>
  <cp:revision>17</cp:revision>
  <dc:subject/>
  <dc:title>Ужгородський національний університет Факультет післядипломної освіти Кафедра громадського здоров’я  Лекція ( I, II частина )  “ОСНОВИ  МЕДИЧНОГО СТРАХУВАННЯ”</dc:title>
</cp:coreProperties>
</file>