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E92-D98E-483E-95C7-B2BB38A3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858-55B0-4320-BB4C-D223B86F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089-0428-4F72-9D1D-737D6300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AFA-1CEC-4F17-A584-93DFF76F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727-23C9-4B87-8E4A-DC1B5500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A03-09F7-4767-A06D-394B9C9B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006-C06D-49A4-ACF1-B2118D8E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802-DB0A-4DDF-8341-F3F291FF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5CC-70A7-401A-831E-412D5ACC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8C1-4C2D-47FE-92DA-50089040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58C3-241E-41FD-8F05-5E947B51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FFE-B1DB-48A7-84DD-74910916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537C-8118-48C5-8C09-3A42F935A4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3880"/>
            <a:ext cx="777708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Поняття трудового договор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5146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рудовий договір — це угода між працівником і власником підприємства, установи, організації, уповноваженим ним органом чи фізичною особою, за як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600200"/>
            <a:ext cx="86868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аці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обов'язується виконувати роботу, визначену цією угодою, з підляганням внутрішньому трудовому розпоряд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 власн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повноважений ним орган чи фізична особа зобов'язується виплачувати працівникові заробітну плату і забезпечувати необхідні для виконання роботи умови праці, передбачені законодавством про працю, колективним договором і угодою стор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990720"/>
            <a:ext cx="464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конодавче визначення трудового договору вказує на його двосторонній характер і характеризує його як у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3605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 трудового договору необхідно відрізняти цивільно-правові договори про працю, що відомі на практиці, під назвою «трудові угод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719360"/>
            <a:ext cx="8534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трудові угоди» також є у більшості випадків двосторонніми і передбачають виконання роботи і передачу замовнику її результат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трудовим договором працівник виконує роботу під керівництвом роботодавця, і останній зобов'язаний організувати роботу і забезпечити процес її викон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61936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цивільно-правовим договором особа виконує замовлення самостійно або із залученням інших виконавців, розпоряджаючись робочим часом на власний розсу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219320"/>
            <a:ext cx="8229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Трудовий догові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є основн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нститутом у системі трудового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13372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ін розглядається також як підстава виникнення трудових правовідносин і водночас як форма залучення до прац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рудовий договір широко використовується в усіх країнах з ринковою економікою для найму робочої с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752480"/>
            <a:ext cx="6858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юридичною природою трудовий договір це угода про працю між роботодавцем і найманим праців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я основна його ознака характерна для всіх видів трудового договор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219320"/>
            <a:ext cx="723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рудовий договір — універсальна модель найму. Праця токаря, керівника підприємства, моряка, артиста, службовця здійснюється за трудовим договор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4382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а підставі трудового договору </a:t>
            </a:r>
            <a:r>
              <a:rPr b="0" lang="uk-UA" sz="3600" spc="-1" strike="noStrike" u="sng">
                <a:solidFill>
                  <a:srgbClr val="ff3300"/>
                </a:solidFill>
                <a:uFillTx/>
                <a:latin typeface="Arial"/>
              </a:rPr>
              <a:t>працівник здає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в найм власнику засобів виробництва (роботодавцю) свою здатість до пра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3131640" y="3321000"/>
            <a:ext cx="6480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5701320" y="3225960"/>
            <a:ext cx="6669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828800"/>
            <a:ext cx="815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точки зору права нема різниці чи працює особа за трудовим договором на державному підприємстві, в установі, у колективному господарстві, чи у фізичної особ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-339048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5676840" y="3390840"/>
            <a:ext cx="6858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05740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і наймані працівники мають однаковий правовий статус, і будь-який роботодавець зобов'язаний дотримуватись усіх правил і гарантій щодо них, передбачених трудовим законодав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25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