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7C2-A819-4AEE-AD0C-2784BCAE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DE5-6DAE-4165-8543-E8A52BF1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98A-E328-4A18-962B-B37D25DE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5A1-E8B1-4D35-82EA-E63279D8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CE1-3E5A-46ED-8519-657C6EA3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5DF-0563-4F24-A780-5D312676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A97-8E9A-4E64-A78C-1AEFA7BC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01B-4A84-46D7-A967-78CE4795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93F-0D8A-4C61-9125-A11A9635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014-DCAA-4279-BC10-6333D919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1FC-07F2-4900-BD47-BED561B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A20-77F0-46F6-9071-46AEC8F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74E5-18F1-4169-B4F2-5463923F4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3880"/>
            <a:ext cx="777708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оняття трудового договор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5146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удовий договір — це угода між працівником і власником підприємства, установи, організації, уповноваженим ним органом чи фізичною особою, за як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600200"/>
            <a:ext cx="8686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аці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бов'язується виконувати роботу, визначену цією угодою, з підляганням внутрішньому трудовому розпоряд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влас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овноважений ним орган чи фізична особа зобов'язується виплачувати працівникові заробітну плату і забезпечувати необхідні для виконання роботи умови праці, передбачені законодавством про працю, колективним договором і угодою стор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99072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конодавче визначення трудового договору вказує на його двосторонній характер і характеризує його як у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360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 трудового договору необхідно відрізняти цивільно-правові договори про працю, що відомі на практиці, під назвою «трудові угод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719360"/>
            <a:ext cx="8534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трудові угоди» також є у більшості випадків двосторонніми і передбачають виконання роботи і передачу замовнику її результат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трудовим договором працівник виконує роботу під керівництвом роботодавця, і останній зобов'язаний організувати роботу і забезпечити процес її вико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61936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цивільно-правовим договором особа виконує замовлення самостійно або із залученням інших виконавців, розпоряджаючись робочим часом на власний роз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рудовий догові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є основ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нститутом у системі трудов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3372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ін розглядається також як підстава виникнення трудових правовідносин і водночас як форма залучення до прац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рудовий договір широко використовується в усіх країнах з ринковою економікою для найму робочої с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752480"/>
            <a:ext cx="6858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юридичною природою трудовий договір це угода про працю між роботодавцем і найманим праців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я основна його ознака характерна для всіх видів трудового догово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2193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удовий договір — універсальна модель найму. Праця токаря, керівника підприємства, моряка, артиста, службовця здійснюється за трудовим догово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 підставі трудового договору </a:t>
            </a:r>
            <a:r>
              <a:rPr b="0" lang="uk-UA" sz="3600" spc="-1" strike="noStrike" u="sng">
                <a:solidFill>
                  <a:srgbClr val="ff3300"/>
                </a:solidFill>
                <a:uFillTx/>
                <a:latin typeface="Arial"/>
              </a:rPr>
              <a:t>працівник здає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в найм власнику засобів виробництва (роботодавцю) свою здатість до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точки зору права нема різниці чи працює особа за трудовим договором на державному підприємстві, в установі, у колективному господарстві, чи у фізичної особ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05740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наймані працівники мають однаковий правовий статус, і будь-який роботодавець зобов'язаний дотримуватись усіх правил і гарантій щодо них, передбачених трудовим законодав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