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E04-96EB-4C89-A626-115DFB6B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1CA-ACCE-45F4-B735-46FF2613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D7B-714A-4293-BD7D-3DC684B8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625-9556-46A7-8BCB-B378C444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5385-5A38-4C5A-A993-9018D6D8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9581-8DC4-47A0-B0EA-644F8F14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CE49-C460-4540-9D3C-BCC4CF5A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9F87-2E06-49D2-B17A-C2DC0696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3B75-D074-412D-BE17-6F5EE63C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36A8-A436-4ABE-899C-88E4B830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2737-271D-4000-90A8-49FC55B6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C49-CD37-493A-B421-6614E82E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0729-006F-4775-9D3F-D0117B14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90AA-3538-4560-ACC0-A5932547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0110-9054-449A-9B91-C003C9C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D0F7-F8ED-4F63-9DF8-B5CE5CA8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4AFA-BA7C-4C80-BCF8-FC8DEC5B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FB5-6A8C-4C10-AC9F-8EE0D5A6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AF9-51FA-4977-B3A4-BF3E6BD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B65-E499-4996-B1F2-A302CDD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3A8-70EA-406B-94F6-89A9A1F2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056-379E-4C26-939E-9B1A01E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C21-7365-46A9-BFE7-BD0F6C0F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ADF-CC1F-484D-ABA1-45B7BABE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E835-4859-45D2-94CD-CDC364F170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6220-F22F-49B2-9CCD-1E1CBB3D36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razm.org.ua/../../../D:www.dtkt.com.uadocumentsukrindex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akon.nau.ua/doc/?code=2801-12" TargetMode="External"/><Relationship Id="rId3" Type="http://schemas.openxmlformats.org/officeDocument/2006/relationships/hyperlink" Target="http://zakon.nau.ua/doc/?code=2801-12" TargetMode="External"/><Relationship Id="rId4" Type="http://schemas.openxmlformats.org/officeDocument/2006/relationships/hyperlink" Target="http://zakon.nau.ua/doc/?code=2801-12" TargetMode="External"/><Relationship Id="rId5" Type="http://schemas.openxmlformats.org/officeDocument/2006/relationships/hyperlink" Target="http://zakon.nau.ua/doc/?code=2801-12" TargetMode="External"/><Relationship Id="rId6" Type="http://schemas.openxmlformats.org/officeDocument/2006/relationships/hyperlink" Target="http://zakon.nau.ua/doc/?code=2801-12" TargetMode="External"/><Relationship Id="rId7" Type="http://schemas.openxmlformats.org/officeDocument/2006/relationships/hyperlink" Target="http://zakon.nau.ua/doc/?code=2801-12" TargetMode="External"/><Relationship Id="rId8" Type="http://schemas.openxmlformats.org/officeDocument/2006/relationships/hyperlink" Target="http://zakon.nau.ua/doc/?code=2801-12" TargetMode="External"/><Relationship Id="rId9" Type="http://schemas.openxmlformats.org/officeDocument/2006/relationships/hyperlink" Target="http://zakon.nau.ua/doc/?code=2801-12" TargetMode="External"/><Relationship Id="rId10" Type="http://schemas.openxmlformats.org/officeDocument/2006/relationships/hyperlink" Target="http://zakon.nau.ua/doc/?code=2801-12" TargetMode="External"/><Relationship Id="rId11" Type="http://schemas.openxmlformats.org/officeDocument/2006/relationships/hyperlink" Target="http://zakon.nau.ua/doc/?code=2801-12" TargetMode="External"/><Relationship Id="rId12" Type="http://schemas.openxmlformats.org/officeDocument/2006/relationships/hyperlink" Target="http://zakon.nau.ua/doc/?code=2801-12" TargetMode="External"/><Relationship Id="rId13" Type="http://schemas.openxmlformats.org/officeDocument/2006/relationships/hyperlink" Target="http://zakon.nau.ua/doc/?code=123/96-&#1042;&#1056;" TargetMode="External"/><Relationship Id="rId14" Type="http://schemas.openxmlformats.org/officeDocument/2006/relationships/hyperlink" Target="http://zakon.nau.ua/doc/?code=123/96-&#1042;&#1056;" TargetMode="External"/><Relationship Id="rId15" Type="http://schemas.openxmlformats.org/officeDocument/2006/relationships/hyperlink" Target="http://zakon.nau.ua/doc/?code=123/96-&#1042;&#1056;" TargetMode="External"/><Relationship Id="rId16" Type="http://schemas.openxmlformats.org/officeDocument/2006/relationships/hyperlink" Target="http://zakon.nau.ua/doc/?code=123/96-&#1042;&#1056;" TargetMode="External"/><Relationship Id="rId17" Type="http://schemas.openxmlformats.org/officeDocument/2006/relationships/hyperlink" Target="http://zakon.nau.ua/doc/?code=123/96-&#1042;&#1056;" TargetMode="External"/><Relationship Id="rId18" Type="http://schemas.openxmlformats.org/officeDocument/2006/relationships/hyperlink" Target="http://zakon.nau.ua/doc/?code=123/96-&#1042;&#1056;" TargetMode="External"/><Relationship Id="rId19" Type="http://schemas.openxmlformats.org/officeDocument/2006/relationships/hyperlink" Target="http://zakon.nau.ua/doc/?code=123/96-&#1042;&#1056;" TargetMode="External"/><Relationship Id="rId20" Type="http://schemas.openxmlformats.org/officeDocument/2006/relationships/hyperlink" Target="http://zakon.nau.ua/doc/?code=887-12" TargetMode="External"/><Relationship Id="rId21" Type="http://schemas.openxmlformats.org/officeDocument/2006/relationships/hyperlink" Target="http://zakon.nau.ua/doc/?code=887-12" TargetMode="External"/><Relationship Id="rId22" Type="http://schemas.openxmlformats.org/officeDocument/2006/relationships/hyperlink" Target="http://zakon.nau.ua/doc/?code=887-12" TargetMode="External"/><Relationship Id="rId23" Type="http://schemas.openxmlformats.org/officeDocument/2006/relationships/hyperlink" Target="http://zakon.nau.ua/doc/?code=887-12" TargetMode="External"/><Relationship Id="rId24" Type="http://schemas.openxmlformats.org/officeDocument/2006/relationships/hyperlink" Target="http://zakon.nau.ua/doc/?code=887-12" TargetMode="External"/><Relationship Id="rId25" Type="http://schemas.openxmlformats.org/officeDocument/2006/relationships/hyperlink" Target="http://zakon.nau.ua/doc/?code=887-12" TargetMode="External"/><Relationship Id="rId26" Type="http://schemas.openxmlformats.org/officeDocument/2006/relationships/hyperlink" Target="http://zakon.nau.ua/doc/?code=887-12" TargetMode="External"/><Relationship Id="rId27" Type="http://schemas.openxmlformats.org/officeDocument/2006/relationships/hyperlink" Target="http://zakon.nau.ua/doc/?code=1775-14" TargetMode="External"/><Relationship Id="rId28" Type="http://schemas.openxmlformats.org/officeDocument/2006/relationships/hyperlink" Target="http://zakon.nau.ua/doc/?code=1775-14" TargetMode="External"/><Relationship Id="rId29" Type="http://schemas.openxmlformats.org/officeDocument/2006/relationships/hyperlink" Target="http://zakon.nau.ua/doc/?code=1775-14" TargetMode="External"/><Relationship Id="rId30" Type="http://schemas.openxmlformats.org/officeDocument/2006/relationships/hyperlink" Target="http://zakon.nau.ua/doc/?code=1775-14" TargetMode="External"/><Relationship Id="rId31" Type="http://schemas.openxmlformats.org/officeDocument/2006/relationships/hyperlink" Target="http://zakon.nau.ua/doc/?code=1775-14" TargetMode="External"/><Relationship Id="rId32" Type="http://schemas.openxmlformats.org/officeDocument/2006/relationships/hyperlink" Target="http://zakon.nau.ua/doc/?code=1775-14" TargetMode="External"/><Relationship Id="rId33" Type="http://schemas.openxmlformats.org/officeDocument/2006/relationships/hyperlink" Target="http://zakon.nau.ua/doc/?code=1775-14" TargetMode="External"/><Relationship Id="rId34" Type="http://schemas.openxmlformats.org/officeDocument/2006/relationships/hyperlink" Target="http://zakon.nau.ua/doc/?code=1775-14" TargetMode="External"/><Relationship Id="rId35" Type="http://schemas.openxmlformats.org/officeDocument/2006/relationships/hyperlink" Target="http://zakon.nau.ua/doc/?code=1775-14" TargetMode="External"/><Relationship Id="rId36" Type="http://schemas.openxmlformats.org/officeDocument/2006/relationships/hyperlink" Target="http://zakon.nau.ua/doc/?code=1775-14" TargetMode="External"/><Relationship Id="rId37" Type="http://schemas.openxmlformats.org/officeDocument/2006/relationships/hyperlink" Target="http://zakon.nau.ua/doc/?code=1775-14" TargetMode="External"/><Relationship Id="rId38" Type="http://schemas.openxmlformats.org/officeDocument/2006/relationships/hyperlink" Target="http://zakon.nau.ua/doc/?code=1775-14" TargetMode="External"/><Relationship Id="rId39" Type="http://schemas.openxmlformats.org/officeDocument/2006/relationships/hyperlink" Target="http://zakon.nau.ua/doc/?code=1775-14" TargetMode="External"/><Relationship Id="rId40" Type="http://schemas.openxmlformats.org/officeDocument/2006/relationships/hyperlink" Target="http://zakon.nau.ua/doc/?code=z0214-02" TargetMode="External"/><Relationship Id="rId4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akon.nau.ua/doc/?code=1023-12" TargetMode="External"/><Relationship Id="rId3" Type="http://schemas.openxmlformats.org/officeDocument/2006/relationships/hyperlink" Target="http://zakon.nau.ua/doc/?code=1023-12" TargetMode="External"/><Relationship Id="rId4" Type="http://schemas.openxmlformats.org/officeDocument/2006/relationships/hyperlink" Target="http://zakon.nau.ua/doc/?code=1023-12" TargetMode="External"/><Relationship Id="rId5" Type="http://schemas.openxmlformats.org/officeDocument/2006/relationships/hyperlink" Target="http://zakon.nau.ua/doc/?code=1023-12" TargetMode="External"/><Relationship Id="rId6" Type="http://schemas.openxmlformats.org/officeDocument/2006/relationships/hyperlink" Target="http://zakon.nau.ua/doc/?code=1023-12" TargetMode="External"/><Relationship Id="rId7" Type="http://schemas.openxmlformats.org/officeDocument/2006/relationships/hyperlink" Target="http://zakon.nau.ua/doc/?code=1023-12" TargetMode="External"/><Relationship Id="rId8" Type="http://schemas.openxmlformats.org/officeDocument/2006/relationships/hyperlink" Target="http://zakon.nau.ua/doc/?code=1023-12" TargetMode="External"/><Relationship Id="rId9" Type="http://schemas.openxmlformats.org/officeDocument/2006/relationships/hyperlink" Target="http://zakon.nau.ua/doc/?code=887-12" TargetMode="External"/><Relationship Id="rId10" Type="http://schemas.openxmlformats.org/officeDocument/2006/relationships/hyperlink" Target="http://zakon.nau.ua/doc/?code=887-12" TargetMode="External"/><Relationship Id="rId11" Type="http://schemas.openxmlformats.org/officeDocument/2006/relationships/hyperlink" Target="http://zakon.nau.ua/doc/?code=887-12" TargetMode="External"/><Relationship Id="rId12" Type="http://schemas.openxmlformats.org/officeDocument/2006/relationships/hyperlink" Target="http://zakon.nau.ua/doc/?code=887-12" TargetMode="External"/><Relationship Id="rId13" Type="http://schemas.openxmlformats.org/officeDocument/2006/relationships/hyperlink" Target="http://zakon.nau.ua/doc/?code=887-12" TargetMode="External"/><Relationship Id="rId14" Type="http://schemas.openxmlformats.org/officeDocument/2006/relationships/hyperlink" Target="http://zakon.nau.ua/doc/?code=1775-14" TargetMode="External"/><Relationship Id="rId15" Type="http://schemas.openxmlformats.org/officeDocument/2006/relationships/hyperlink" Target="http://zakon.nau.ua/doc/?code=1775-14" TargetMode="External"/><Relationship Id="rId16" Type="http://schemas.openxmlformats.org/officeDocument/2006/relationships/hyperlink" Target="http://zakon.nau.ua/doc/?code=1775-14" TargetMode="External"/><Relationship Id="rId17" Type="http://schemas.openxmlformats.org/officeDocument/2006/relationships/hyperlink" Target="http://zakon.nau.ua/doc/?code=1775-14" TargetMode="External"/><Relationship Id="rId18" Type="http://schemas.openxmlformats.org/officeDocument/2006/relationships/hyperlink" Target="http://zakon.nau.ua/doc/?code=1775-14" TargetMode="External"/><Relationship Id="rId19" Type="http://schemas.openxmlformats.org/officeDocument/2006/relationships/hyperlink" Target="http://zakon.nau.ua/doc/?code=1775-14" TargetMode="External"/><Relationship Id="rId20" Type="http://schemas.openxmlformats.org/officeDocument/2006/relationships/hyperlink" Target="http://zakon.nau.ua/doc/?code=1775-14" TargetMode="External"/><Relationship Id="rId21" Type="http://schemas.openxmlformats.org/officeDocument/2006/relationships/hyperlink" Target="http://zakon.nau.ua/doc/?code=1775-14" TargetMode="External"/><Relationship Id="rId22" Type="http://schemas.openxmlformats.org/officeDocument/2006/relationships/hyperlink" Target="http://zakon.nau.ua/doc/?code=1775-14" TargetMode="External"/><Relationship Id="rId23" Type="http://schemas.openxmlformats.org/officeDocument/2006/relationships/hyperlink" Target="http://zakon.nau.ua/doc/?code=1775-14" TargetMode="External"/><Relationship Id="rId24" Type="http://schemas.openxmlformats.org/officeDocument/2006/relationships/hyperlink" Target="http://zakon.nau.ua/doc/?code=1775-14" TargetMode="External"/><Relationship Id="rId25" Type="http://schemas.openxmlformats.org/officeDocument/2006/relationships/hyperlink" Target="http://zakon.nau.ua/doc/?code=2801-12" TargetMode="External"/><Relationship Id="rId26" Type="http://schemas.openxmlformats.org/officeDocument/2006/relationships/hyperlink" Target="http://zakon.nau.ua/doc/?code=2801-12" TargetMode="External"/><Relationship Id="rId27" Type="http://schemas.openxmlformats.org/officeDocument/2006/relationships/hyperlink" Target="http://zakon.nau.ua/doc/?code=2801-12" TargetMode="External"/><Relationship Id="rId28" Type="http://schemas.openxmlformats.org/officeDocument/2006/relationships/hyperlink" Target="http://zakon.nau.ua/doc/?code=2801-12" TargetMode="External"/><Relationship Id="rId29" Type="http://schemas.openxmlformats.org/officeDocument/2006/relationships/hyperlink" Target="http://zakon.nau.ua/doc/?code=2801-12" TargetMode="External"/><Relationship Id="rId30" Type="http://schemas.openxmlformats.org/officeDocument/2006/relationships/hyperlink" Target="http://zakon.nau.ua/doc/?code=2801-12" TargetMode="External"/><Relationship Id="rId31" Type="http://schemas.openxmlformats.org/officeDocument/2006/relationships/hyperlink" Target="http://zakon.nau.ua/doc/?code=2801-12" TargetMode="External"/><Relationship Id="rId32" Type="http://schemas.openxmlformats.org/officeDocument/2006/relationships/hyperlink" Target="http://zakon.nau.ua/doc/?code=2801-12" TargetMode="External"/><Relationship Id="rId33" Type="http://schemas.openxmlformats.org/officeDocument/2006/relationships/hyperlink" Target="http://zakon.nau.ua/doc/?code=2801-12" TargetMode="External"/><Relationship Id="rId34" Type="http://schemas.openxmlformats.org/officeDocument/2006/relationships/hyperlink" Target="http://zakon.nau.ua/doc/?code=2801-12" TargetMode="External"/><Relationship Id="rId35" Type="http://schemas.openxmlformats.org/officeDocument/2006/relationships/hyperlink" Target="http://zakon.nau.ua/doc/?code=2801-12" TargetMode="External"/><Relationship Id="rId36" Type="http://schemas.openxmlformats.org/officeDocument/2006/relationships/hyperlink" Target="http://zakon.nau.ua/doc/?code=4004-12" TargetMode="External"/><Relationship Id="rId37" Type="http://schemas.openxmlformats.org/officeDocument/2006/relationships/hyperlink" Target="http://zakon.nau.ua/doc/?code=4004-12" TargetMode="External"/><Relationship Id="rId38" Type="http://schemas.openxmlformats.org/officeDocument/2006/relationships/hyperlink" Target="http://zakon.nau.ua/doc/?code=4004-12" TargetMode="External"/><Relationship Id="rId39" Type="http://schemas.openxmlformats.org/officeDocument/2006/relationships/hyperlink" Target="http://zakon.nau.ua/doc/?code=4004-12" TargetMode="External"/><Relationship Id="rId40" Type="http://schemas.openxmlformats.org/officeDocument/2006/relationships/hyperlink" Target="http://zakon.nau.ua/doc/?code=4004-12" TargetMode="External"/><Relationship Id="rId41" Type="http://schemas.openxmlformats.org/officeDocument/2006/relationships/hyperlink" Target="http://zakon.nau.ua/doc/?code=4004-12" TargetMode="External"/><Relationship Id="rId42" Type="http://schemas.openxmlformats.org/officeDocument/2006/relationships/hyperlink" Target="http://zakon.nau.ua/doc/?code=4004-12" TargetMode="External"/><Relationship Id="rId43" Type="http://schemas.openxmlformats.org/officeDocument/2006/relationships/hyperlink" Target="http://zakon.nau.ua/doc/?code=4004-12" TargetMode="External"/><Relationship Id="rId44" Type="http://schemas.openxmlformats.org/officeDocument/2006/relationships/hyperlink" Target="http://zakon.nau.ua/doc/?code=4004-12" TargetMode="External"/><Relationship Id="rId45" Type="http://schemas.openxmlformats.org/officeDocument/2006/relationships/hyperlink" Target="http://zakon.nau.ua/doc/?code=4004-12" TargetMode="External"/><Relationship Id="rId46" Type="http://schemas.openxmlformats.org/officeDocument/2006/relationships/hyperlink" Target="http://zakon.nau.ua/doc/?code=4004-12" TargetMode="External"/><Relationship Id="rId47" Type="http://schemas.openxmlformats.org/officeDocument/2006/relationships/hyperlink" Target="http://zakon.nau.ua/doc/?code=4004-12" TargetMode="External"/><Relationship Id="rId48" Type="http://schemas.openxmlformats.org/officeDocument/2006/relationships/hyperlink" Target="http://zakon.nau.ua/doc/?code=4004-12" TargetMode="External"/><Relationship Id="rId4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razm.org.ua/../../../D:www.dtkt.com.uadebetukr200203%22%20l%2520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068840"/>
            <a:ext cx="8172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Ліцензування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ікувально-профілактични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аді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60280"/>
            <a:ext cx="91440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00"/>
                </a:solidFill>
                <a:latin typeface="Times New Roman"/>
              </a:rPr>
              <a:t>медико-санітарна допомог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це комплекс спеціальних заходів, спрямованих на сприяння поліпшенню здоров'я, підвищення санітарної культури, попередження захворювань та інвалідності, на ранню діагностику, допомогу особам з гострими та хронічними захворюваннями і реабілітацію хворих та інвалідів. Відповідно до статті 8 Закону України "Про ліцензування певних видів господарської діяльності", суб'єкт господарювання зобов'язаний здійснювати певний вид господарської діяльності, який підлягає ліцензуванню, відповідно до встановлених для цього виду діяльності ліцензійних ум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-30960"/>
            <a:ext cx="8893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унктом 1.2 Ліцензійних умов здійснення господарської діяльності з медичної </a:t>
            </a:r>
            <a:r>
              <a:rPr b="0" lang="uk-UA" sz="28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практики2,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тверджених спільним наказом Державного комітету України з питань регуляторної політики і підприємництва та Міністерства охорони здоров'я України від 16.02.2001 р. №38/63 і зареєстрованих в Міністерстві юстиції України 02.03.2001 р. за №188/5379, визначено, що </a:t>
            </a:r>
            <a:r>
              <a:rPr b="0" lang="uk-UA" sz="2800" spc="-1" strike="noStrike">
                <a:solidFill>
                  <a:srgbClr val="00ccff"/>
                </a:solidFill>
                <a:latin typeface="Times New Roman"/>
              </a:rPr>
              <a:t>медична практика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- це діяльність, пов'язана з комплексом спеціальних заходів, спрямованих на сприяння поліпшенню здоров'я, підвищення санітарної культури, попередження захворювань і реабілітацію хворих та інвалідів, здійснювана особами, які мають спеціальну освіт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Цими ж Ліцензійними умовами зазначено Перелік дозволених видів медичної практики за спеціальност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225360"/>
            <a:ext cx="896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Медична практик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це регламентована Основами законодавства України про охорону здоров'я, іншими актами законодавства з питань охорони здоров'я, нормативними актами Міністерства діяльність з надання громадянам лікувально-профілактичної допом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Ліцензія на здійснення медичної практ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документ державного зразка, який засвідчує право ліцензіата на провадження зазначеного в ньому виду діяльності з медичної практики протягом визначеного строку та за умови виконання ним Ліцензійних ум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7324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іцензійні умови провадження господарської діяльності з медичної практики (далі - Ліцензійні умови), розроблені відповідно до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Осно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законодав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Україн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охорону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здоров'я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Законів України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лікарськ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засоб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підприєм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 в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Україн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7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8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0"/>
              </a:rPr>
              <a:t>ліцензува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2"/>
              </a:rPr>
              <a:t>певних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4"/>
              </a:rPr>
              <a:t>виді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6"/>
              </a:rPr>
              <a:t>господарської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8"/>
              </a:rPr>
              <a:t>діяльност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9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інших актів законодавства, визначають ліцензійні умови провадження господарської діяльності з медичної практ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ія цих Ліцензійних умов поширюється на всіх суб'єктів господарювання, що зареєстровані в установленому законодавством порядку як юридичні особи незалежно від їх організаційно-правової форми та форми власності і які проводять господарську діяльність з медичної практики, а також на фізичних осіб - суб'єктів підприємницької діяльності, які здійснюють діяльність у зазначеній галузі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 Абзац другий пункту 1.1 із змінами, внесеними згідно з Наказом Держпідприємництва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0"/>
              </a:rPr>
              <a:t>N 23/57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від 15.02.02 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0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Ліцензійні умови провадження господарської діяльності з медичної прак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1. Загальноорганізаційні умов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1.1. При здійсненні господарської діяльності з медичної практики ліцензіат повинен дотримуватись вимог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Законів України: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захист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пра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споживачів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підприєм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 в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Україні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ліцензува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певних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виді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господарської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діяльності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Осно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7"/>
              </a:rPr>
              <a:t>законодав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8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9"/>
              </a:rPr>
              <a:t>Україн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0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1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2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3"/>
              </a:rPr>
              <a:t>охорону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4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5"/>
              </a:rPr>
              <a:t>здоров'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6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8"/>
              </a:rPr>
              <a:t>забезпече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0"/>
              </a:rPr>
              <a:t>санітарног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2"/>
              </a:rPr>
              <a:t>т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4"/>
              </a:rPr>
              <a:t>епідемічног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6"/>
              </a:rPr>
              <a:t>благополучч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8"/>
              </a:rPr>
              <a:t>населення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"Про захист населення від інфекційних хвороб";"Про запобігання захворюванню на синдром набутого імунодефіциту (СНіД) та соціальний захист населення";"Про лікарські засоби";"Про обіг в Україні наркотичних засобів, психотропних речовин, їх аналогів і прекурсорів";"Про заходи протидії незаконному обігу наркотичних засобів, психотропних речовин і прекурсорів та зловживанню ними";"Про психіатричну допомогу";"Про трансплантацію органів та інших анатомічних матеріалів людині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1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 А К А З   УОЗ від  “ 20  ”березня 2007року №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112-О”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 підготовку матеріалів на отримання ліцензії  для провадження господарської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іяльності з медичної практики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'єкти, господарська діяльність яких підлягає ліцензуванн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іцензування медичної практи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іцензійні умови провадження господарської діяльності з медичної практик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ормативно-правові актіи, на підставі яких здійснюється господарська діяльность з медичної прак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 Т А Т У Т АМБУЛАТОРІЇ ЗПСМ С.Часлівці (ЗРАЗО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 о р у ч е н н я (ЗРАЗО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Лист узгодження документів на видачу (переоформлення) ліцензі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ява на ліцензуван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731520"/>
            <a:ext cx="864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АКАРПАТСЬКА   ОБЛАСНА   ДЕРЖАВНА   АДМІНІСТРАЦІ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ПРАВЛІННЯ ОХОРОНИ ЗДОРОВ’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 А К А З   № </a:t>
            </a: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2-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ід  “ 20  ”березня 2007року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м.Ужгор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о підготовку матеріалів на отриманн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іцензії  для провадження господарської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іяльності з медичної прак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9036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АКАЗУ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. Начальникам відділів охорони здоров’я райдержадміністрацій, Ужгородської міської ради, головним лікарям лікувально-профілактичних закладів області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1.Підготувати пакет документів згідно вимог Ліцензійних умов провадження господарської діяльності з медичної практики для отримання в управлінні охорони здоров’я довідки про стан матеріально-технічної бази суб'єкта господарювання (далі – довідка) до 01.04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2. Забезпечити подачу довідки у відділ розвитку охорони здоров’я, медичного страхування, ліцензування, акредитації та метрології Департаменту економіки, фінансування та майнових відносин МОЗ України з метою отримання ліцензії для провадження господарської діяльності з медичної практики до 15.04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3. Інформувати управління охорони здоров’я про отримання ліцензії до 15.05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% </a:t>
            </a:r>
            <a:r>
              <a:rPr b="0" lang="uk-UA" sz="3200" spc="-1" strike="noStrike">
                <a:solidFill>
                  <a:srgbClr val="e5ffff"/>
                </a:solidFill>
                <a:latin typeface="Tahoma"/>
              </a:rPr>
              <a:t>ДЛ та СЛ, що отримали довідки по МТБ для ліцензуванн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% </a:t>
            </a:r>
            <a:r>
              <a:rPr b="0" lang="uk-UA" sz="3200" spc="-1" strike="noStrike">
                <a:solidFill>
                  <a:srgbClr val="e5ffff"/>
                </a:solidFill>
                <a:latin typeface="Tahoma"/>
              </a:rPr>
              <a:t>амбулаторій, що отримали довідки по МТБ для ліцензуванн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61128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уб'єкти, господарська діяльність яких підлягає ліцензуванню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ттею 16, 17 Основ законодавства України про охорону здоров'я, статтею 2 Закону України „Про ліцензування певних видів господарської діяльності” визначено, що ліцензуванню підлягають всі суб'єкти господарювання, які мають намір здійснювати медичну практик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ійснення медичної практики без отримання ліцензії – забороняється, особи, які здійснюють медичну практику без ліцензії притягуються до адміністративної, кримінальної відповідальност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Ліцензування медичної практ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ідповідно до абзацу 2 статті 16 Основ законодавства України про охорону здоров'я, пункту 26 статті 9 Закону Україн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ро ліцензування певних видів господарської діяльності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медична практика, як вид господарської діяльності, підлягає ліцензуванню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ганом ліцензування медичної практики є Міністерство охорони здоров'я України (пункт 6 Переліку органів ліцензування, затвердженого постановою Кабінет Міністрів України від 14 листопада 2000 р. № 1698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Ліцензійну комісію Міністерства охорони здоров'я України покладено обов'язок по розгляду документів, поданих суб'єктами господарювання до МОЗ України для здійснення господарської діяльності з медичної практики, прийняття рішень щодо видачі, переоформлення та анулювання ліцензій на здійснення господарської діяльності з медичної практики, видачі дублікатів ліцензі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6404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коном України </a:t>
            </a:r>
            <a:r>
              <a:rPr b="0" lang="uk-UA" sz="2400" spc="-1" strike="noStrike">
                <a:solidFill>
                  <a:srgbClr val="00ccff"/>
                </a:solidFill>
                <a:latin typeface="Times New Roman"/>
              </a:rPr>
              <a:t>"Про ліцензування певних видів господарської</a:t>
            </a: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uk-UA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діяльності"1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(ст. 9) встановлюються види господарської діяльності, які підлягають ліцензуванню. Згідно з цим Законом, ліцензуванню підлягає господарська діяльність з медичної практ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Статтею 3 Закону України "Основи законодавства України про охорону здоров'я" визначено, що установи охорони здоров'я - це підприємства, установи й організації, завданням яких є забезпечення різноманітних потреб населення у сфері охорони здоров'я шляхом надання медико-санітарної допомоги, включаючи широкий спектр профілактичних і лікувальних заходів або послуг медичного характеру, а також виконання інших функцій на основі професійної діяльності медичних працівникі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3:58Z</dcterms:modified>
  <cp:revision>97</cp:revision>
  <dc:subject/>
  <dc:title>PowerPoint Presentation</dc:title>
</cp:coreProperties>
</file>