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858-0CBF-4C52-90EC-2A7C8FD4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207-C3D1-453B-B8D4-994294DF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1B2-E20F-43EB-A00B-1F81FBF8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920-9F36-430B-93EF-A4AE94FC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7714-7C5F-4265-A524-209479BB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B7E2-9782-4144-937C-A32C009A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47D2-6973-4987-BD24-73947D17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CA68-41D0-440A-8253-06604524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25C-6E6F-4A4C-A607-9883CD34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BF74-ABAC-45ED-A546-7FB52D92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E0F7-BC7C-4D80-AB50-A003A811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EBD-CB3B-4A84-A6BA-FA8784BA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4495-4F8B-4A2F-96EA-7AB1AD1D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E670-EAC8-452D-8F83-F4909B05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AE5D-2C75-4CB4-A63F-88CD2E54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311A-637F-4C4F-9370-40BF1435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274E-E025-4063-9A46-5BBFDF0E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8FA-E6E8-4F80-B334-B9CBB30B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C8C-162F-44AE-8E17-C14077C3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1F2-49F0-40FB-A81E-3AA5F1CD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E46-FE79-4B52-88A5-0487DAB3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C30-99F6-4798-89CD-783B896C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E5B-006C-4335-B9A5-62C784B5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3CC-521E-4ECD-AC94-E1DC2555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AC2D-A069-43CC-8CBA-3BBA1E2550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55DF-9CF5-441B-939E-53D177E7B61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100" spc="-1" strike="noStrike">
                <a:solidFill>
                  <a:srgbClr val="ff0000"/>
                </a:solidFill>
                <a:latin typeface="Arial"/>
              </a:rPr>
              <a:t>Громадське здоров</a:t>
            </a:r>
            <a:r>
              <a:rPr b="0" lang="en-US" sz="51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5100" spc="-1" strike="noStrike">
                <a:solidFill>
                  <a:srgbClr val="ff0000"/>
                </a:solidFill>
                <a:latin typeface="Arial"/>
              </a:rPr>
              <a:t>я як інтегральна характеристика здоров</a:t>
            </a:r>
            <a:r>
              <a:rPr b="0" lang="en-US" sz="51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5100" spc="-1" strike="noStrike">
                <a:solidFill>
                  <a:srgbClr val="ff0000"/>
                </a:solidFill>
                <a:latin typeface="Arial"/>
              </a:rPr>
              <a:t>я суспільств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471600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Доц. Погоріляк Р.Ю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Компоненти здоров</a:t>
            </a:r>
            <a:r>
              <a:rPr b="0" lang="ru-RU" sz="4000" spc="-1" strike="noStrike">
                <a:solidFill>
                  <a:srgbClr val="eec85e"/>
                </a:solidFill>
                <a:latin typeface="Arial"/>
              </a:rPr>
              <a:t>’</a:t>
            </a: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я: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соматичне 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фізич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психіч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соціаль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духовне здор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ec85e"/>
                </a:solidFill>
                <a:latin typeface="Arial"/>
              </a:rPr>
              <a:t>Соматичне здоров</a:t>
            </a:r>
            <a:r>
              <a:rPr b="0" lang="ru-RU" sz="4400" spc="-1" strike="noStrike">
                <a:solidFill>
                  <a:srgbClr val="eec85e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eec85e"/>
                </a:solidFill>
                <a:latin typeface="Arial"/>
              </a:rPr>
              <a:t>я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стан органів та систем організму людини, основу якого становить біологічна програма індивідуального розвитк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До сфери</a:t>
            </a:r>
            <a:r>
              <a:rPr b="0" i="1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фізичного 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включають такі чинники, як індивідуальні особливості анатомічної будови тіла, фізіологічних функцій організму в різних умовах спокою, руху, довкілля, генетичної спадщини, рівня фізичного розвитку органів і систем організму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До сфери </a:t>
            </a:r>
            <a:r>
              <a:rPr b="0" i="1" lang="uk-UA" sz="4400" spc="-1" strike="noStrike">
                <a:solidFill>
                  <a:srgbClr val="eec85e"/>
                </a:solidFill>
                <a:latin typeface="Arial"/>
              </a:rPr>
              <a:t>психічного здоров'я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відносять індивідуальні особливості психічних процесів і властивостей людини, наприклад збудженість, емоційність, чутливість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100" spc="-1" strike="noStrike">
                <a:solidFill>
                  <a:srgbClr val="eec85e"/>
                </a:solidFill>
                <a:latin typeface="Arial"/>
              </a:rPr>
              <a:t>Духовне здоров'я</a:t>
            </a:r>
            <a:r>
              <a:rPr b="0" lang="uk-UA" sz="3100" spc="-1" strike="noStrike">
                <a:solidFill>
                  <a:srgbClr val="ffffcc"/>
                </a:solidFill>
                <a:latin typeface="Arial"/>
              </a:rPr>
              <a:t> залежить від духовного світу особистості, обумовлюється її стосунками з такими складовими як освіта, наука, релігія, мораль, етика. </a:t>
            </a:r>
            <a:br>
              <a:rPr sz="3100"/>
            </a:br>
            <a:r>
              <a:rPr b="0" lang="uk-UA" sz="3100" spc="-1" strike="noStrike">
                <a:solidFill>
                  <a:srgbClr val="ffffcc"/>
                </a:solidFill>
                <a:latin typeface="Arial"/>
              </a:rPr>
              <a:t>Свідомість людини, її ментальність, життєва самоідентифікація, ставлення до сенсу життя, оцінка реалізації власних здібностей і можливостей  - усе це обумовлює стан духовного здоров'я індивіда.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eec85e"/>
                </a:solidFill>
                <a:latin typeface="Arial"/>
              </a:rPr>
              <a:t>Соціальне здоров'я</a:t>
            </a: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 пов'язано з соціально-економічними чинниками, стосунками з сім’єю, з різними соціальними структурами (місце навчання/роботи, відпочинку, побуту, рівнем соціального захисту, охорони здоров'я, безпеки існування тощо). На нього суттєво впливає ризикована поведінка, соціальний стан людини, місце проживання та соціальне оточення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Виконання основного стратегічного завдання в діяльності системи охорони здоров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я населення, поліпшення якості надання медичної допомоги, розробка конкретних лікувальних і профілактичних заходів, форм і методів роботи окремих спеціалізованих служб – неможливе без знання </a:t>
            </a: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основних характеристик, тенденцій та закономірностей стану здоров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я населення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Сьогодні існує багато підходів до визначення поняття “здоров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я”. Практично в кожному з них не враховуються ті чи інші важливі аспекти життєдіяльності людини, населення в цілому. Очевидно, що не існує універсального, придатного для всіх випадків життя, визначення здоров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’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я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це стан організму, всі частини якого нормально розвинені та правильно функціонують"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стан індивіда, чий організм функціонує добре"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це стан фізичної міцності та благополуччя, при якому організм правильно виконує свої функції"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c85e"/>
                </a:solidFill>
                <a:latin typeface="Arial"/>
              </a:rPr>
              <a:t>"Здоров'я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- гармонійна єдність біологічних і соціальних якостей, обумовлених вродженими та набутими біологічними та соціальними</a:t>
            </a:r>
            <a:br>
              <a:rPr sz="4000"/>
            </a:b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чинниками (а хвороба є порушенням цієї єдності, цієї гармонії)"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Теоретичний (індивідуальне теоретичне) підхід:</a:t>
            </a: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Verdana"/>
              </a:rPr>
              <a:t>ВООЗ: </a:t>
            </a:r>
            <a:r>
              <a:rPr b="0" lang="uk-UA" sz="3600" spc="-1" strike="noStrike">
                <a:solidFill>
                  <a:srgbClr val="eaeaea"/>
                </a:solidFill>
                <a:latin typeface="Verdana"/>
              </a:rPr>
              <a:t>“ Здоров'я -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”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Практичний (індивідуальне практичне) підхід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aeaea"/>
                </a:solidFill>
                <a:latin typeface="Verdana"/>
              </a:rPr>
              <a:t>це здатність організму повноцінно виконувати свої біологічні та соціальні функції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eec85e"/>
                </a:solidFill>
                <a:latin typeface="Arial"/>
              </a:rPr>
              <a:t>Хвороба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це окремий випадок здоров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я, коли рівень його знижений або є його дефект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8:25:31Z</dcterms:created>
  <dc:creator>Admin</dc:creator>
  <dc:description/>
  <dc:language>en-US</dc:language>
  <cp:lastModifiedBy>Ljuba</cp:lastModifiedBy>
  <dcterms:modified xsi:type="dcterms:W3CDTF">2014-10-07T08:23:36Z</dcterms:modified>
  <cp:revision>127</cp:revision>
  <dc:subject/>
  <dc:title>Здоров’я населення.  Чинники, що обумовлюють здоров’я населення. </dc:title>
</cp:coreProperties>
</file>