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CFAB-0827-4235-B411-C133D1BE74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D037-C0D4-4BCC-899A-1071B9263A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AA8A-CD47-4B92-BA0C-06A673072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06A5-7F1F-4B4C-B654-29403AD7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C6E2-BCEC-444D-84E1-D46B2707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A46F-7FC9-4356-89B2-F765DE64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BB5B-BAE0-4173-9966-BE4AAC92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DCC6-05B9-4071-8C69-8694AD53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CAE1-D2D4-4EDA-B808-B7E85E4E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2244-D9E6-4CD7-87B3-FA37787A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0154-A770-4D54-9DEC-DD41A673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35B4-1F37-4C70-90C1-3887DC7B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9304-8CF7-4D29-A341-BFAF20DA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4BCB-D2A6-4D38-9232-DE6ED3EC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6565-0117-4208-87A0-30053E38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A1CF-F149-4030-A30F-301D3571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A495-F7F6-4642-B8E3-49010AC8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6D35-B6F5-42C8-B8CA-200408D47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F9A4-2936-409A-9681-CC37BEA20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8683-CA26-4A86-8FA1-276C7BCA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4E47-77B7-4DBA-94D1-2D61C9C5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CD16-94CE-46E9-8C1E-BF971576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2001-EDA0-4E91-8E54-A070E887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7040-822E-4708-A88D-A3EDDEBC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D727-E65E-4B65-A96F-22D078EA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0C21-F4FE-40BF-BD83-05057012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4306-7BC3-4C7F-9296-9448605C35B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9BF3-C901-471B-8BF2-AC5BB7F634E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227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ccecff"/>
                </a:solidFill>
                <a:latin typeface="Arial"/>
              </a:rPr>
              <a:t>Етичний кодекс лікаря України: </a:t>
            </a:r>
            <a:br>
              <a:rPr sz="4800"/>
            </a:br>
            <a:r>
              <a:rPr b="0" lang="uk-UA" sz="4800" spc="-1" strike="noStrike">
                <a:solidFill>
                  <a:srgbClr val="ccecff"/>
                </a:solidFill>
                <a:latin typeface="Arial"/>
              </a:rPr>
              <a:t>крок до цивілізованої медицини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619280" y="710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68360" y="-100440"/>
            <a:ext cx="82296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Розділ 6. Новітні медичні технології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1 Дії лікаря при застосуванні новітніх медичних технологій (трансплантація людських органів і тканин, втручання в геном людини, у репродуктивну функцію тощо) визначаються етико-правовими і законодавчо-нормативними актами України, рекомендаціями та вимогами Всесвітньої організації охорони здоров’я, Біоетичного комітету ЮНЕСКО та Комісії з питань біоетик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181080" y="-16844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Ні для кого не секрет, що галузь охорони здоров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`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я в Україні далека від доскональності й потребує докорінних змін у системах управління, фінансування, освіти тощо. Довіра до медичного працівника – головний чинник успішного лікування – майже зруйнована. Разом з тим донині у вітчизняній медицині не існувало документа, який би декларував морально-етичні принципи діяльності лікаря. Нарешті восени 2009 р. під час роботи Х з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`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їзду Всеукраїнського лікарського товариства (ВУЛТ) було прийнято Етичний кодекс лікаря України – це стало історичною подією для всієї медичної спільно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611280" y="1341000"/>
            <a:ext cx="82296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Морально-етичні принципи, якими керувалися нащадки Асклепія під час виконання професійних обов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`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язків, існували ще в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древні часи. Вони передавалися від покоління до покоління в усній формі, а за часів Гіппократа були викладені у вигляді славнозвісної клятв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еличезне значення моралі приділяв у своїх роботах Арістотель. Він уперше використав термін “етика”, під яким розумів філософію моральної поведінки людей. У староіндійській книзі “Аюрведа” (“Книга життя”,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-VI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 ст. до н.е.) відображено прототип лікаря: “Він повинен мати чисте, співчутливе серце, правдивий характер, спокійний темперамент, відрізнятися великою розсудливістю і порядністю, постійним прагненням до добра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95280" y="54936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датний представник середньовічної медицини, Арабський філософ і лікар Авіценна (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X-X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ст. н.е.) вніс свій вклад у розвиток медичної етики. У роботі “Канон лікарської науки” він зазначав, що лікар повинен мати очі, як у сокола, ніжні дівочі руки, бути мудрим, як змія, і мати безстрашне серце лев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9640" y="1267920"/>
            <a:ext cx="82296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XVII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ст. за ініціативою голандського лікаря Ніколаса Тульпа палаюча свічка стала емблемою середньовічних медиків, вона відображала девіз тогочасних лікарів: “Згораю сам, аби світити інши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539640" y="1557000"/>
            <a:ext cx="82296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початку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XX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. ставлення до клятви Гіппократа та решти попередніх зведень етичних норм дещо змінилося, що пояснюється численними здобутками та відкриттями у галузі медицин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уково-технічний прогрес не стоїть на місці: активно розробляються інноваційні лікарські засоби, впроваджуються новітні біотехнології, практикуються генна інженерія і трансплантація органів, проводяться експерименти з клонування, звичним стає лікування безпліддя шляхом екстракорпорального заплідненн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68360" y="54936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Україні становлення та впровадження у практику принципів медичної етики пов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`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зане з радянським минулим. Випускники медичних ВНЗ СРСР складали присягу лікаря Радянського Союзу. Після проголошення незалежності України вона втратила актуальність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12:59:39Z</dcterms:created>
  <dc:creator>Customer</dc:creator>
  <dc:description/>
  <dc:language>en-US</dc:language>
  <cp:lastModifiedBy>Ljuba</cp:lastModifiedBy>
  <dcterms:modified xsi:type="dcterms:W3CDTF">2014-10-07T08:21:25Z</dcterms:modified>
  <cp:revision>41</cp:revision>
  <dc:subject/>
  <dc:title>Як утримати спеціаліста в лікувально профілактичному закладі</dc:title>
</cp:coreProperties>
</file>