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685-8570-45CE-A62E-CA88C2A6B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621-E34C-4B58-8499-C763227832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6AD-25C4-4A33-A62A-DE81495F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F9B-A9C8-4F4D-903F-078EC989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F69-D15D-4E18-B8B9-16594D4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784-C33A-40DB-B270-5D212C4A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C1A-7754-44A2-AE98-BE9E3EA8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A92F-678A-456C-88F4-4461A8A6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D44B-5E02-4D52-BDA9-5095F44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482B-648D-4819-AF9A-0DD13F2A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1A65-CD96-476A-B718-D74939D7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6C4-7FD9-405F-84D1-225B641D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8D5-725E-4AEE-A130-B684A5E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561-2636-4792-915E-012F03DC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DE45-D36D-437F-B510-AD55B8A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568F-932D-4F8E-8D8A-2261A69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D3C4-3230-464C-836B-7BD40CA8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314-2653-467F-80DD-8E1CE567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D6C1-DECE-4497-AF55-D1A1878F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BC2-156C-468C-BA4A-BB78E12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022-11E6-44A8-A31D-8968C223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B05-2127-4843-9BEA-DE849F33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030-CFA3-4E84-ABE6-9491FA8E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FB4-6E84-4B61-A759-FD4F864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5C9-4D1E-457F-8B5B-7E1BF53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B97-1B9E-4968-8B70-067D06E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2056-D34E-4480-B9BF-98481A5466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920-B0CB-41BB-BD18-2956B5A04F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Етичний кодекс лікаря України: </a:t>
            </a:r>
            <a:br>
              <a:rPr sz="4800"/>
            </a:b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крок до цивілізованої медицин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19280" y="710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-10044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Розділ 6. Новітні медичні технології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1 Дії лікаря при застосуванні новітніх медичних технологій (трансплантація людських органів і тканин, втручання в геном людини, у репродуктивну функцію тощо) визначаються етико-правовими і законодавчо-нормативними актами України, рекомендаціями та вимогами Всесвітньої організації охорони здоров’я, Біоетичного комітету ЮНЕСКО та Комісії з питань біоети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81080" y="-168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і для кого не секрет, що галузь охорони здоров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 в Україні далека від доскональності й потребує докорінних змін у системах управління, фінансування, освіти тощо. Довіра до медичного працівника – головний чинник успішного лікування – майже зруйнована. Разом з тим донині у вітчизняній медицині не існувало документа, який би декларував морально-етичні принципи діяльності лікаря. Нарешті восени 2009 р. під час роботи Х з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їзду Всеукраїнського лікарського товариства (ВУЛТ) було прийнято Етичний кодекс лікаря України – це стало історичною подією для всієї медичної спільно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11280" y="1341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орально-етичні принципи, якими керувалися нащадки Асклепія під час виконання професійних обо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зків, існували ще 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ревні часи. Вони передавалися від покоління до покоління в усній формі, а за часів Гіппократа були викладені у вигляді славнозвісної клятв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личезне значення моралі приділяв у своїх роботах Арістотель. Він уперше використав термін “етика”, під яким розумів філософію моральної поведінки людей. У староіндійській книзі “Аюрведа” (“Книга життя”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-VI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ст. до н.е.) відображено прототип лікаря: “Він повинен мати чисте, співчутливе серце, правдивий характер, спокійний темперамент, відрізнятися великою розсудливістю і порядністю, постійним прагненням до добра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датний представник середньовічної медицини, Арабський філософ і лікар Авіценна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X-X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н.е.) вніс свій вклад у розвиток медичної етики. У роботі “Канон лікарської науки” він зазначав, що лікар повинен мати очі, як у сокола, ніжні дівочі руки, бути мудрим, як змія, і мати безстрашне серце ле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640" y="1267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VII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т. за ініціативою голандського лікаря Ніколаса Тульпа палаюча свічка стала емблемою середньовічних медиків, вона відображала девіз тогочасних лікарів: “Згораю сам, аби світити інш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55700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початк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. ставлення до клятви Гіппократа та решти попередніх зведень етичних норм дещо змінилося, що пояснюється численними здобутками та відкриттями у галузі медици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уково-технічний прогрес не стоїть на місці: активно розробляються інноваційні лікарські засоби, впроваджуються новітні біотехнології, практикуються генна інженерія і трансплантація органів, проводяться експерименти з клонування, звичним стає лікування безпліддя шляхом екстракорпорального запліднен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54936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країні становлення та впровадження у практику принципів медичної етики п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ане з радянським минулим. Випускники медичних ВНЗ СРСР складали присягу лікаря Радянського Союзу. Після проголошення незалежності України вона втратила актуальність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59:39Z</dcterms:created>
  <dc:creator>Customer</dc:creator>
  <dc:description/>
  <dc:language>en-US</dc:language>
  <cp:lastModifiedBy>Ljuba</cp:lastModifiedBy>
  <dcterms:modified xsi:type="dcterms:W3CDTF">2014-10-07T08:21:25Z</dcterms:modified>
  <cp:revision>41</cp:revision>
  <dc:subject/>
  <dc:title>Як утримати спеціаліста в лікувально профілактичному закладі</dc:title>
</cp:coreProperties>
</file>