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DFD-1099-4AAA-B750-E8F19DA9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000-4084-4FB7-AB74-C416DD2B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28A-5AD7-4A72-9143-EB9AB585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914-AAA1-492A-BA3B-992BEA9E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8B8F-FBB2-42CA-8D34-A04FAD9E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41D8-6DA5-428A-9ADF-A8EA6BE5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79B8-B91F-4106-82AF-9AE9C138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783-4C17-46C5-A8FB-AFB38CA5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396B-7728-41D8-BA89-87B4BA4C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D422-4529-495B-9F0E-6DAB3BDE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B301-58A2-446C-8773-F7745204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69E-4A14-4AC2-99F2-FCFE7191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DE4A-80D6-46B6-968F-C5EB32FF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FA85-448A-48A9-8CD7-748E483A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839E-D024-4A44-9EF2-190B715B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EE2D-2B7F-497F-B8CE-1AE96301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8CE5-14BD-4D09-9421-588A2623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DB5-51E7-4088-9D13-402BB9EF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710-BBD5-498E-9446-4F727169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1BF-144C-4827-B576-A23981AF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506-F92A-4FF4-B954-D8A1AB1C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151-9D92-4CD7-9D9F-BF482E38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C87-72F4-4245-922D-9D009BD7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875-9F5A-4A3B-9365-91EC1861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BE07-0860-4242-84A3-5B580A1EE8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21A3-BB3A-4049-B91A-0E4E2E7442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ecff"/>
                </a:solidFill>
                <a:latin typeface="Arial"/>
              </a:rPr>
              <a:t>Справочинство в системі охорони здоров</a:t>
            </a: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1" lang="uk-UA" sz="5400" spc="-1" strike="noStrike">
                <a:solidFill>
                  <a:srgbClr val="ccecff"/>
                </a:solidFill>
                <a:latin typeface="Arial"/>
              </a:rPr>
              <a:t>я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ц. Погоріляк Р.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Автобіографія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це документ, у якому особа, що складає його, подає опис свого життя та діяльності в хронологічній послідовност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втобіографія має бути вичерпною й лаконічною, може писатися від руки або з використанням технічних засобів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лежно від призначення автобіографія може бут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uk-UA" sz="2800" spc="-1" strike="noStrike">
                <a:solidFill>
                  <a:srgbClr val="ffc000"/>
                </a:solidFill>
                <a:latin typeface="Verdana"/>
              </a:rPr>
              <a:t>автобіографією-розповіддю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укладається в довільній формі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uk-UA" sz="2800" spc="-1" strike="noStrike">
                <a:solidFill>
                  <a:srgbClr val="ffc000"/>
                </a:solidFill>
                <a:latin typeface="Verdana"/>
              </a:rPr>
              <a:t>автобіографією-документом</a:t>
            </a:r>
            <a:r>
              <a:rPr b="1" lang="uk-UA" sz="2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точно    викладаються основні факти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Діловодство (справочинство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- це сукупність управлінських дій з утворення, реєстрації, руху, організації контролю виконання документів, формуванню справ, підготовки документів до зберіган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Діловодств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ходить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ід старовинного «виробництво справ» - процес прийняття рішень на підставі документі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Головним завданням діловодств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є забезпечення швидкої і ефективної роботи підприємства, установи чи організації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Задачі діловодства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езпечення ефективного процесу управління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ворення документі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берігання та забезпечення доступу до документів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кладові частини діловодства</a:t>
            </a: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 документації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 документування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ганізація роботи з документ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истема документації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 сукупність взаємопов'язаних документів, що застосовуються у певній сфері діяльност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пр.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истема управлінських документі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яка має багато підсистем – функціональні, міжгалузеві та галузеві систе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функціональн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истем належить планова, матеріально-технічна, звітно-статистичн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галузев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истем належать документи, які стосуються певної галузі в країні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іжгалузеви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документи, що стосуються двох чи більше галуз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Система документуванн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 сукупність процесів і прийомів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творення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всієї документації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 установах, в ході здійснення ними своїх функцій. Документування охоплює всі операції по складанню, погодженню, затвердженню, оформленню і виготовленню документі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 документування передбачає наявність відповідних вимог і нормативів створення документі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Організація роботи з документам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 створення умов, що забезпечують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рух, пошук і збереження документі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 діловодстві. Сюди входить прийом, реєстрація, розподіл, контроль виконання, формування справ, довідково-пошукова робота, передархівна обробка, збереження і використання документі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66"/>
                </a:solidFill>
                <a:latin typeface="Arial"/>
              </a:rPr>
              <a:t>Види діловодств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Verdana"/>
              </a:rPr>
              <a:t>а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дміністративне (загальне) діловодств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це операції по документуванню розпорядчої і виконавчої діяльності організації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Verdana"/>
              </a:rPr>
              <a:t>с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пеціальне діловодств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це  робота з документами, специфічними для кожної із функцій управління, а також для таких областей діяльності як транспорт, зв’язок, статистика, лікарська спра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ед спеціального діловодства розрізняють: бухгалтерське, нотаріальне, військове, діловодство по особовому складу установи та ін.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0:28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