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821C-55FD-4E1A-96A5-CFDBD873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E0FA-80D4-41DB-BF66-49DF857E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2E72-9A61-4855-97BC-FCC023C4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CA55-C3E5-4FDA-8545-B4FF6AA2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E83F-72D0-4100-B7B9-09A3CF77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E537-CAE4-4BAF-9263-46EB339D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0E08-41F8-4D30-9137-D4F3295D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160F-EFEB-40EC-88C6-DB111BF3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A272-875D-4B95-BA42-934D22B6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5422-0341-4281-A6A2-D8DE4A00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1A99-5D70-479E-A6DF-E23BA0E1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12A2-ADC4-47F0-B106-991BDF20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A49E-3919-4D3D-B147-13C5C62A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28BE-2B61-4FD4-ADFE-3671B483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328C-0091-43B7-BF40-D39243D0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8F13-33AD-4407-8734-385641FB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7A43-7288-4C57-B239-6ACDD151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7538-D3E5-4DE9-AB65-F4099CF9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2AC7-C859-4219-9EA1-802BCED8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F27E-96AF-4488-846D-15FE4724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413-BC57-4D26-B646-2F2D820E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8644-85DF-41DA-BB60-3D99D8D9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18F8-A95B-45E0-9996-EFFF0066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DAC1-8F69-441C-A781-01D46C00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F0CE-CA93-4B18-A857-74DABF4FE0A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C338-AF55-41B2-B9F4-FF93BA6AF09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ccecff"/>
                </a:solidFill>
                <a:latin typeface="Arial"/>
              </a:rPr>
              <a:t>Справочинство в системі охорони здоров</a:t>
            </a: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’</a:t>
            </a:r>
            <a:r>
              <a:rPr b="1" lang="uk-UA" sz="5400" spc="-1" strike="noStrike">
                <a:solidFill>
                  <a:srgbClr val="ccecff"/>
                </a:solidFill>
                <a:latin typeface="Arial"/>
              </a:rPr>
              <a:t>я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ц. Погоріляк Р.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cecff"/>
                </a:solidFill>
                <a:latin typeface="Arial"/>
              </a:rPr>
              <a:t>Автобіографія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це документ, у якому особа, що складає його, подає опис свого життя та діяльності в хронологічній послідовності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втобіографія має бути вичерпною й лаконічною, може писатися від руки або з використанням технічних засобів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Залежно від призначення автобіографія може бут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uk-UA" sz="2800" spc="-1" strike="noStrike">
                <a:solidFill>
                  <a:srgbClr val="ffc000"/>
                </a:solidFill>
                <a:latin typeface="Verdana"/>
              </a:rPr>
              <a:t>автобіографією-розповіддю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(укладається в довільній формі)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uk-UA" sz="2800" spc="-1" strike="noStrike">
                <a:solidFill>
                  <a:srgbClr val="ffc000"/>
                </a:solidFill>
                <a:latin typeface="Verdana"/>
              </a:rPr>
              <a:t>автобіографією-документом</a:t>
            </a:r>
            <a:r>
              <a:rPr b="1" lang="uk-UA" sz="2800" spc="-1" strike="noStrike">
                <a:solidFill>
                  <a:srgbClr val="ffc000"/>
                </a:solidFill>
                <a:latin typeface="Verdana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(точно    викладаються основні факти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3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66"/>
                </a:solidFill>
                <a:latin typeface="Arial"/>
              </a:rPr>
              <a:t>Діловодство (справочинство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- це сукупність управлінських дій з утворення, реєстрації, руху, організації контролю виконання документів, формуванню справ, підготовки документів до зберіганн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Діловодство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ходить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ід старовинного «виробництво справ» - процес прийняття рішень на підставі документі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Головним завданням діловодства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є забезпечення швидкої і ефективної роботи підприємства, установи чи організації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Задачі діловодства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езпечення ефективного процесу управління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ворення документів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берігання та забезпечення доступу до документів.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Складові частини діловодства</a:t>
            </a:r>
            <a:r>
              <a:rPr b="1" lang="uk-UA" sz="3600" spc="-1" strike="noStrike">
                <a:solidFill>
                  <a:srgbClr val="ffcc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стема документації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стема документування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рганізація роботи з документ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Система документації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 сукупність взаємопов'язаних документів, що застосовуються у певній сфері діяльності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пр.,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система управлінських документів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яка має багато підсистем – функціональні, міжгалузеві та галузеві систем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функціональних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систем належить планова, матеріально-технічна, звітно-статистичн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галузевих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систем належать документи, які стосуються певної галузі в країні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міжгалузевих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– документи, що стосуються двох чи більше галузей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Система документування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 сукупність процесів і прийомів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створення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всієї документації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в установах, в ході здійснення ними своїх функцій. Документування охоплює всі операції по складанню, погодженню, затвердженню, оформленню і виготовленню документів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истема документування передбачає наявність відповідних вимог і нормативів створення документів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Організація роботи з документами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 створення умов, що забезпечують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рух, пошук і збереження документів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 діловодстві. Сюди входить прийом, реєстрація, розподіл, контроль виконання, формування справ, довідково-пошукова робота, передархівна обробка, збереження і використання документі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66"/>
                </a:solidFill>
                <a:latin typeface="Arial"/>
              </a:rPr>
              <a:t>Види діловодства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ffff"/>
                </a:solidFill>
                <a:uFillTx/>
                <a:latin typeface="Verdana"/>
              </a:rPr>
              <a:t>а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дміністративне (загальне) діловодство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- це операції по документуванню розпорядчої і виконавчої діяльності організації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ffff"/>
                </a:solidFill>
                <a:uFillTx/>
                <a:latin typeface="Verdana"/>
              </a:rPr>
              <a:t>с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пеціальне діловодство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- це  робота з документами, специфічними для кожної із функцій управління, а також для таких областей діяльності як транспорт, зв’язок, статистика, лікарська справ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ред спеціального діловодства розрізняють: бухгалтерське, нотаріальне, військове, діловодство по особовому складу установи та ін.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uba</cp:lastModifiedBy>
  <dcterms:modified xsi:type="dcterms:W3CDTF">2014-10-07T08:20:28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